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4.jpeg" ContentType="image/jpeg"/>
  <Override PartName="/ppt/media/image23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7.jpeg" ContentType="image/jpeg"/>
  <Override PartName="/ppt/media/image28.jpeg" ContentType="image/jpeg"/>
  <Override PartName="/ppt/media/image34.jpeg" ContentType="image/jpeg"/>
  <Override PartName="/ppt/media/image12.jpeg" ContentType="image/jpeg"/>
  <Override PartName="/ppt/media/image29.jpeg" ContentType="image/jpeg"/>
  <Override PartName="/ppt/media/image10.jpeg" ContentType="image/jpeg"/>
  <Override PartName="/ppt/media/image5.png" ContentType="image/png"/>
  <Override PartName="/ppt/media/image35.jpeg" ContentType="image/jpeg"/>
  <Override PartName="/ppt/media/image13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3.png" ContentType="image/png"/>
  <Override PartName="/ppt/media/image17.jpeg" ContentType="image/jpeg"/>
  <Override PartName="/ppt/media/image1.png" ContentType="image/png"/>
  <Override PartName="/ppt/media/image15.jpeg" ContentType="image/jpeg"/>
  <Override PartName="/ppt/media/image16.jpeg" ContentType="image/jpeg"/>
  <Override PartName="/ppt/media/image18.jpeg" ContentType="image/jpeg"/>
  <Override PartName="/ppt/media/image19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64846-4EC1-4144-B547-68B436744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112B2-2BDC-4203-825A-0FFE0A939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3713E-DAA1-495F-91E1-08A36C705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5BEFB-CF35-4159-B797-C93E54A71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49657-5A78-4EE3-ABB1-04D99C148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96C24-3AC2-4651-8778-E16DDF348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F9881-7775-4499-92DE-876FB948D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B9E67-3877-4A08-8DAD-9DA3F42CF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3A2CA-1BC0-4B38-BA27-140D71F52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984D2-2FFD-4C7E-8C0D-8A59B16A9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71C83-3125-424B-AA97-87E0C18B9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63113-86C3-4A78-B367-49867E08E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530B3-A5DB-4A85-8B68-34014EC9E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0426B-0F38-4CCC-BD9E-B5FFE4604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801A6-A87A-4596-91B5-22A77D4CC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BF48B-6423-402C-8248-41AF311B1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161D7-AACF-4437-9A4A-56989275A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F3FA52-0CAC-4F15-9FB3-A54510239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7FB077-4F2C-4C54-9BD1-D770AD6B4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ABDCA7-8DF8-4448-9217-231B88899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F6EE14-B3D8-4F88-99E1-97607EA6E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09D717-4B19-43B6-9923-6E46015D2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71D51-9A04-4B00-86C1-5A89100F1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67524F-D0C4-4BFA-AA69-77E77C04A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40D94C-D1C2-4583-A096-8A32ECF98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E810DE-4C6D-4F54-86D5-CC0D30924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ED784A-9F17-4FF4-9C14-D20CDF3B7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74DBBE-7B05-46A5-AD13-562233EFE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8DBA14-30B1-415D-8E4C-A8500E86F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5E7987-E6AD-4FF0-8D01-96E5FA30B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43249D-A88E-44B8-A1BE-86234ACF2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488D86-DCEC-476D-A450-507B79A26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D0998A-1A4D-47F9-8712-46F1FC391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CCF1F-8CAB-4AEF-910A-E737BC5EC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7A0F88-B3F7-4B7C-93B9-87A392685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332AB2-8380-4FA2-AD3F-008CB1453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558031-94A8-45F1-8C32-054EC8593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D0D700-27DC-4F15-9AFA-670890620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DF6475-EC0B-4BF9-88F5-3A8136A83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A6B113-17DE-4551-8362-65EF98BCC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0F9A5E-E721-4552-8923-26E8A817A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1C9A0B-3CE5-4E54-8492-446EE03F4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9983F5-F190-47A0-AB22-1EB86B5BB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611AA4-7835-4EEA-81A6-EF0AF9BEA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81B12-28E4-4820-83A3-1054EEA90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42718F-5691-4B65-8844-32CBACBA4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1A0409-64B7-4800-A188-9FB77E2BC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EB9A78-05C0-465E-85CB-863BBF30B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84849C-3AA9-4468-B092-8A0B8A272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37C870-817B-48BE-88D0-57866F2FB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C7623D-5D95-4FF3-8ADB-06D5C8B5F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12FDC6-742F-4CE3-B659-402C8CD84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1951D1-C893-452F-90BC-92ECDE84E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76BAB9-DC8A-4D27-BDC5-A7EEACC72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B4DC0B-DE1B-40D0-9B79-D01FE96E5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A6F23-6EFE-4FA1-BEDA-B848E76BA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53CB75-E861-44A7-9F8B-9A7147BC3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D66C1-C0F1-488B-A324-0291EC5DC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F94F7-059E-437F-86BE-37FE7CE43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CB250-20ED-4E5B-83F4-FB774ACBB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89ED2-D7AC-4DD8-8E92-7E0C8526BC75}" type="slidenum">
              <a:rPr b="0" lang="en-US" sz="1000" spc="-1" strike="noStrike">
                <a:solidFill>
                  <a:srgbClr val="a7a3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AF79A-306B-4FF2-9B5C-AF447798261E}" type="slidenum">
              <a:rPr b="0" lang="en-US" sz="1000" spc="-1" strike="noStrike">
                <a:solidFill>
                  <a:srgbClr val="a7a3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1AB49-1DB5-4568-9D87-C5CA398AACAF}" type="slidenum">
              <a:rPr b="0" lang="en-US" sz="1000" spc="-1" strike="noStrike">
                <a:solidFill>
                  <a:srgbClr val="a7a3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4F50C-15C7-4A92-95EA-F7855B9E86F4}" type="slidenum">
              <a:rPr b="0" lang="en-US" sz="1000" spc="-1" strike="noStrike">
                <a:solidFill>
                  <a:srgbClr val="a7a3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B7E7E-2D11-4E20-B0BE-318EBB3CDD74}" type="slidenum">
              <a:rPr b="0" lang="en-US" sz="1000" spc="-1" strike="noStrike">
                <a:solidFill>
                  <a:srgbClr val="a7a3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72;&#1081;&#1083;:Medal_Leningrad_USSR.jpg" TargetMode="External"/><Relationship Id="rId2" Type="http://schemas.openxmlformats.org/officeDocument/2006/relationships/image" Target="../media/image23.jpeg"/><Relationship Id="rId3" Type="http://schemas.openxmlformats.org/officeDocument/2006/relationships/image" Target="../media/image8.pn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8.pn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ru.wikipedia.org/wiki/23_&#1080;&#1102;&#1085;&#1103;" TargetMode="External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ru.wikipedia.org/wiki/&#1060;&#1072;&#1081;&#1083;:Brest.jpg" TargetMode="External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hyperlink" Target="http://ru.wikipedia.org/wiki/&#1060;&#1072;&#1081;&#1083;:Battle_of_moscow03.jpg" TargetMode="External"/><Relationship Id="rId3" Type="http://schemas.openxmlformats.org/officeDocument/2006/relationships/image" Target="../media/image15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72;&#1081;&#1083;:Stalingrad_aftermath.jpg" TargetMode="External"/><Relationship Id="rId2" Type="http://schemas.openxmlformats.org/officeDocument/2006/relationships/image" Target="../media/image16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72;&#1081;&#1083;:Streetfight_Stralingrad01.jpg" TargetMode="External"/><Relationship Id="rId2" Type="http://schemas.openxmlformats.org/officeDocument/2006/relationships/image" Target="../media/image1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8.pn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8.pn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Великая Отечественная война</a:t>
            </a:r>
            <a:br>
              <a:rPr sz="4300"/>
            </a:br>
            <a:r>
              <a:rPr b="1" lang="ru-RU" sz="43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1941 - 1945</a:t>
            </a:r>
            <a:endParaRPr b="1" lang="en-US" sz="43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21" name="Picture 7" descr="2"/>
          <p:cNvPicPr/>
          <p:nvPr/>
        </p:nvPicPr>
        <p:blipFill>
          <a:blip r:embed="rId1"/>
          <a:stretch/>
        </p:blipFill>
        <p:spPr>
          <a:xfrm>
            <a:off x="838080" y="2666880"/>
            <a:ext cx="3886200" cy="236232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3" descr="C:\Program Files\Microsoft Office\MEDIA\OFFICE12\Lines\BD21313_.gif"/>
          <p:cNvPicPr/>
          <p:nvPr/>
        </p:nvPicPr>
        <p:blipFill>
          <a:blip r:embed="rId2"/>
          <a:stretch/>
        </p:blipFill>
        <p:spPr>
          <a:xfrm>
            <a:off x="457200" y="304920"/>
            <a:ext cx="281160" cy="6172200"/>
          </a:xfrm>
          <a:prstGeom prst="rect">
            <a:avLst/>
          </a:prstGeom>
          <a:ln w="0">
            <a:noFill/>
          </a:ln>
        </p:spPr>
      </p:pic>
      <p:sp>
        <p:nvSpPr>
          <p:cNvPr id="223" name="TextBox 5"/>
          <p:cNvSpPr/>
          <p:nvPr/>
        </p:nvSpPr>
        <p:spPr>
          <a:xfrm>
            <a:off x="5334120" y="2895480"/>
            <a:ext cx="3200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р: Перегримова Т.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У СОШ №2 г. Красноуральс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Январь 1943 года</a:t>
            </a:r>
            <a:br>
              <a:rPr sz="3600"/>
            </a:b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орыв блокады Ленинграда</a:t>
            </a:r>
            <a:br>
              <a:rPr sz="3600"/>
            </a:b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2971800" y="2057400"/>
            <a:ext cx="5562720" cy="36878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январе 1943 года Красная Армия прорвала блокаду Ленинграда. Советские войска преодолели 12 километров вдоль Ладожского озера. На освобождённой территории была сразу же сооружена железная и шоссейная дороги. К моменту прорыва блокады в городе оставалось не более 800 тыс. человек гражданского населения. В январе 1944 года блокада была полностью снята. Большинство умерших в блокаду жителей Ленинграда похоронено на Пискарёвском мемориальном кладбище. На нём сооружён главный памятник блокаде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8" name="Picture 2" descr="D:\мама\города -герои\Ленинград3.jpg"/>
          <p:cNvPicPr/>
          <p:nvPr/>
        </p:nvPicPr>
        <p:blipFill>
          <a:blip r:embed="rId1"/>
          <a:stretch/>
        </p:blipFill>
        <p:spPr>
          <a:xfrm>
            <a:off x="685800" y="2133720"/>
            <a:ext cx="2436840" cy="350496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3" descr="C:\Program Files\Microsoft Office\MEDIA\OFFICE12\Lines\BD21313_.gif"/>
          <p:cNvPicPr/>
          <p:nvPr/>
        </p:nvPicPr>
        <p:blipFill>
          <a:blip r:embed="rId2"/>
          <a:stretch/>
        </p:blipFill>
        <p:spPr>
          <a:xfrm>
            <a:off x="609480" y="6400800"/>
            <a:ext cx="8305920" cy="28116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8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590560" y="609120"/>
            <a:ext cx="3429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Город - герой</a:t>
            </a:r>
            <a:endParaRPr b="1" lang="en-US" sz="4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609120" y="3047760"/>
            <a:ext cx="5257800" cy="29257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ом Верховного Главнокомандующего от 1 мая 1945 года Ленинград вместе с Москвой, Сталинградом, Севастополем и Одессой был назван Городом-героем за героизм и мужество, проявленные жителями города во время блокады. 8 мая 1965 года Указом Президиума Верховного Совета СССР Город-герой Ленинград был награждён орденом Ленина и медалью «Золотая Звезда»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2" name="Рисунок 3" descr="http://upload.wikimedia.org/wikipedia/commons/thumb/6/68/Medal_Leningrad_USSR.jpg/239px-Medal_Leningrad_USSR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80880" y="914400"/>
            <a:ext cx="2057400" cy="184788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3" descr="C:\Program Files\Microsoft Office\MEDIA\OFFICE12\Lines\BD21313_.gif"/>
          <p:cNvPicPr/>
          <p:nvPr/>
        </p:nvPicPr>
        <p:blipFill>
          <a:blip r:embed="rId3"/>
          <a:stretch/>
        </p:blipFill>
        <p:spPr>
          <a:xfrm>
            <a:off x="380880" y="6324480"/>
            <a:ext cx="8458200" cy="28116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2" descr="D:\мама\города -герои\1000837087.jpg"/>
          <p:cNvPicPr/>
          <p:nvPr/>
        </p:nvPicPr>
        <p:blipFill>
          <a:blip r:embed="rId4"/>
          <a:stretch/>
        </p:blipFill>
        <p:spPr>
          <a:xfrm>
            <a:off x="5875200" y="1523880"/>
            <a:ext cx="2909880" cy="44960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2" dur="2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200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2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юль – август 1943 года</a:t>
            </a:r>
            <a:br>
              <a:rPr sz="3200"/>
            </a:b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урская битва</a:t>
            </a:r>
            <a:br>
              <a:rPr sz="3200"/>
            </a:b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3504960" y="18288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́рская  би́тв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5 июля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1943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—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23 август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1943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также известна как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тва на Курской дуге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ерация «Цитадель»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воему размаху, привлекаемым силам и средствам, напряжённости, результатам и военно-политическим последствиям, является одним из ключевых сражений Великой Отечественной войны. Курская битва продолжалась сорок девять дней — с 5 июля по 23 августа 1943 г. 12 июля в районе Прохоровки произошел крупнейший в истории встречный танковый бой. Победа под Курском ознаменовала переход стратегической инициативы к Красной Армии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7" name="Рисунок 3" descr="http://upload.wikimedia.org/wikipedia/commons/thumb/c/c4/ProkhorovkaMonument.jpg/180px-ProkhorovkaMonument.jpg"/>
          <p:cNvPicPr/>
          <p:nvPr/>
        </p:nvPicPr>
        <p:blipFill>
          <a:blip r:embed="rId1"/>
          <a:stretch/>
        </p:blipFill>
        <p:spPr>
          <a:xfrm>
            <a:off x="1828800" y="3222720"/>
            <a:ext cx="1905120" cy="2720880"/>
          </a:xfrm>
          <a:prstGeom prst="rect">
            <a:avLst/>
          </a:prstGeom>
          <a:ln w="0">
            <a:noFill/>
          </a:ln>
        </p:spPr>
      </p:pic>
      <p:sp>
        <p:nvSpPr>
          <p:cNvPr id="278" name="Прямоугольник 4"/>
          <p:cNvSpPr/>
          <p:nvPr/>
        </p:nvSpPr>
        <p:spPr>
          <a:xfrm>
            <a:off x="990720" y="594360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вонница в память о погибших на Прохоровском пол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Рисунок 5" descr="http://upload.wikimedia.org/wikipedia/commons/thumb/2/2c/Kursk_Soviet_Artilery.JPG/200px-Kursk_Soviet_Artilery.JPG"/>
          <p:cNvPicPr/>
          <p:nvPr/>
        </p:nvPicPr>
        <p:blipFill>
          <a:blip r:embed="rId2"/>
          <a:stretch/>
        </p:blipFill>
        <p:spPr>
          <a:xfrm>
            <a:off x="304920" y="1676520"/>
            <a:ext cx="2666880" cy="180180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3" descr="C:\Program Files\Microsoft Office\MEDIA\OFFICE12\Lines\BD21313_.gif"/>
          <p:cNvPicPr/>
          <p:nvPr/>
        </p:nvPicPr>
        <p:blipFill>
          <a:blip r:embed="rId3"/>
          <a:stretch/>
        </p:blipFill>
        <p:spPr>
          <a:xfrm>
            <a:off x="3886200" y="6248520"/>
            <a:ext cx="5000760" cy="2808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1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6" dur="2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2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Picture 2" descr="D:\мама\города -герои\vechogon.jpg"/>
          <p:cNvPicPr/>
          <p:nvPr/>
        </p:nvPicPr>
        <p:blipFill>
          <a:blip r:embed="rId1"/>
          <a:stretch/>
        </p:blipFill>
        <p:spPr>
          <a:xfrm>
            <a:off x="457200" y="3352680"/>
            <a:ext cx="4083120" cy="2773440"/>
          </a:xfrm>
          <a:prstGeom prst="rect">
            <a:avLst/>
          </a:prstGeom>
          <a:ln w="0">
            <a:noFill/>
          </a:ln>
        </p:spPr>
      </p:pic>
      <p:sp>
        <p:nvSpPr>
          <p:cNvPr id="282" name="Прямоугольник 3"/>
          <p:cNvSpPr/>
          <p:nvPr/>
        </p:nvSpPr>
        <p:spPr>
          <a:xfrm>
            <a:off x="762120" y="457200"/>
            <a:ext cx="40384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ечная Слава героям!</a:t>
            </a:r>
            <a:br>
              <a:rPr sz="4000"/>
            </a:b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ечная слава!</a:t>
            </a:r>
            <a:br>
              <a:rPr sz="4000"/>
            </a:b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ечная слава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Picture 3" descr="C:\Program Files\Microsoft Office\MEDIA\OFFICE12\Lines\BD21313_.gif"/>
          <p:cNvPicPr/>
          <p:nvPr/>
        </p:nvPicPr>
        <p:blipFill>
          <a:blip r:embed="rId2"/>
          <a:stretch/>
        </p:blipFill>
        <p:spPr>
          <a:xfrm>
            <a:off x="380880" y="6324480"/>
            <a:ext cx="8458200" cy="28116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2" descr="D:\память\памятник\SDC10212.JPG"/>
          <p:cNvPicPr/>
          <p:nvPr/>
        </p:nvPicPr>
        <p:blipFill>
          <a:blip r:embed="rId3"/>
          <a:stretch/>
        </p:blipFill>
        <p:spPr>
          <a:xfrm>
            <a:off x="5410080" y="609480"/>
            <a:ext cx="3505320" cy="2698920"/>
          </a:xfrm>
          <a:prstGeom prst="rect">
            <a:avLst/>
          </a:prstGeom>
          <a:ln w="0">
            <a:noFill/>
          </a:ln>
        </p:spPr>
      </p:pic>
      <p:sp>
        <p:nvSpPr>
          <p:cNvPr id="285" name="Rectangle 4"/>
          <p:cNvSpPr/>
          <p:nvPr/>
        </p:nvSpPr>
        <p:spPr>
          <a:xfrm>
            <a:off x="4724280" y="3518640"/>
            <a:ext cx="4191120" cy="274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ередине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60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дов был объявлен конкурс на лучший проект памятника доблестным воинам – красноуральцам, павшим в годы Великой Отечественной  войны. Был принят проект художников Алексея Художиткова и Спартака Иванова.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елиск неувядаемой Славы и Памяти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был открыт в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67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ду.  В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70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ду открыты стелы со списками погибших красноуральце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horz"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2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8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3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8 мая 1945 г. Капитуляция фашистской Германии</a:t>
            </a:r>
            <a:br>
              <a:rPr sz="3600"/>
            </a:b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87" name="Содержимое 3" descr="http://upload.wikimedia.org/wikipedia/ru/thumb/d/d2/%D0%97%D0%BD%D0%B0%D0%BC%D1%8F_%D0%9F%D0%BE%D0%B1%D0%B5%D0%B4%D1%8B.jpg/200px-%D0%97%D0%BD%D0%B0%D0%BC%D1%8F_%D0%9F%D0%BE%D0%B1%D0%B5%D0%B4%D1%8B.jpg"/>
          <p:cNvPicPr/>
          <p:nvPr/>
        </p:nvPicPr>
        <p:blipFill>
          <a:blip r:embed="rId1"/>
          <a:stretch/>
        </p:blipFill>
        <p:spPr>
          <a:xfrm>
            <a:off x="838080" y="2362320"/>
            <a:ext cx="2540160" cy="3746520"/>
          </a:xfrm>
          <a:prstGeom prst="rect">
            <a:avLst/>
          </a:prstGeom>
          <a:ln w="0">
            <a:noFill/>
          </a:ln>
        </p:spPr>
      </p:pic>
      <p:sp>
        <p:nvSpPr>
          <p:cNvPr id="288" name="Прямоугольник 4"/>
          <p:cNvSpPr/>
          <p:nvPr/>
        </p:nvSpPr>
        <p:spPr>
          <a:xfrm>
            <a:off x="3733920" y="2209680"/>
            <a:ext cx="4572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 апреля 1945 г. началась Берлинская наступательная операция советских войск. 25 апреля 1945 г. советские войска на реке Эльба впервые встретились с американскими войсками, наступавшими с Запа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мая 1945 г. гарнизон Берлина капитулировал. В полночь 8 мая война завершилась безоговорочной капитуляцией вооружённых сил Германи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Picture 3" descr="C:\Program Files\Microsoft Office\MEDIA\OFFICE12\Lines\BD21313_.gif"/>
          <p:cNvPicPr/>
          <p:nvPr/>
        </p:nvPicPr>
        <p:blipFill>
          <a:blip r:embed="rId2"/>
          <a:stretch/>
        </p:blipFill>
        <p:spPr>
          <a:xfrm>
            <a:off x="380880" y="6324480"/>
            <a:ext cx="8458200" cy="28116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2" dur="2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2819520" y="27432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арад Победы </a:t>
            </a:r>
            <a:endParaRPr b="1" lang="en-US" sz="40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91" name="Содержимое 4" descr="http://upload.wikimedia.org/wikipedia/commons/thumb/f/f8/%D0%9F%D0%BE%D0%B1%D0%B5%D0%B4%D0%B0.jpg/200px-%D0%9F%D0%BE%D0%B1%D0%B5%D0%B4%D0%B0.jpg"/>
          <p:cNvPicPr/>
          <p:nvPr/>
        </p:nvPicPr>
        <p:blipFill>
          <a:blip r:embed="rId1"/>
          <a:stretch/>
        </p:blipFill>
        <p:spPr>
          <a:xfrm>
            <a:off x="380880" y="609480"/>
            <a:ext cx="2210040" cy="3429000"/>
          </a:xfrm>
          <a:prstGeom prst="rect">
            <a:avLst/>
          </a:prstGeom>
          <a:ln w="0">
            <a:noFill/>
          </a:ln>
        </p:spPr>
      </p:pic>
      <p:pic>
        <p:nvPicPr>
          <p:cNvPr id="292" name="Рисунок 5" descr="http://upload.wikimedia.org/wikipedia/commons/thumb/9/9d/Marshals.jpg/300px-Marshals.jpg"/>
          <p:cNvPicPr/>
          <p:nvPr/>
        </p:nvPicPr>
        <p:blipFill>
          <a:blip r:embed="rId2"/>
          <a:stretch/>
        </p:blipFill>
        <p:spPr>
          <a:xfrm>
            <a:off x="609480" y="3733920"/>
            <a:ext cx="3429000" cy="2286000"/>
          </a:xfrm>
          <a:prstGeom prst="rect">
            <a:avLst/>
          </a:prstGeom>
          <a:ln w="0">
            <a:noFill/>
          </a:ln>
        </p:spPr>
      </p:pic>
      <p:sp>
        <p:nvSpPr>
          <p:cNvPr id="293" name="Прямоугольник 6"/>
          <p:cNvSpPr/>
          <p:nvPr/>
        </p:nvSpPr>
        <p:spPr>
          <a:xfrm>
            <a:off x="4191120" y="1600200"/>
            <a:ext cx="44193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рад состоялся  24 июня 1945 года в ознаменование победы над Германией в Великой Отечественной войне. Парад принимал Маршал Советского Союза Г. К. Жуков. Командовал парадом Маршал Советского Союза К. К. Рокоссовский. Жуков и Рокоссовский проехали по Красной площади на белом и вороном конях. Иосиф Виссарионович Сталин наблюдал за парадом с трибуны Мавзолея Ленина. Во время торжественного марша впереди на специально оборудованном автомобиле везли Знамя Победы, за ним шли сводные полки фронт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Picture 3" descr="C:\Program Files\Microsoft Office\MEDIA\OFFICE12\Lines\BD21313_.gif"/>
          <p:cNvPicPr/>
          <p:nvPr/>
        </p:nvPicPr>
        <p:blipFill>
          <a:blip r:embed="rId3"/>
          <a:stretch/>
        </p:blipFill>
        <p:spPr>
          <a:xfrm>
            <a:off x="380880" y="6324480"/>
            <a:ext cx="8458200" cy="28116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2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1" dur="2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6" dur="2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9 мая  - День Победы</a:t>
            </a:r>
            <a:br>
              <a:rPr sz="3600"/>
            </a:b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96" name="Picture 5" descr="o4"/>
          <p:cNvPicPr/>
          <p:nvPr/>
        </p:nvPicPr>
        <p:blipFill>
          <a:blip r:embed="rId1"/>
          <a:stretch/>
        </p:blipFill>
        <p:spPr>
          <a:xfrm>
            <a:off x="304920" y="2514600"/>
            <a:ext cx="3039840" cy="403848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4" descr="D:\мама\города -герои\Ленинград2.jpg"/>
          <p:cNvPicPr/>
          <p:nvPr/>
        </p:nvPicPr>
        <p:blipFill>
          <a:blip r:embed="rId2"/>
          <a:stretch/>
        </p:blipFill>
        <p:spPr>
          <a:xfrm>
            <a:off x="3716280" y="2819520"/>
            <a:ext cx="3229200" cy="228600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2" descr="D:\мама\города -герои\showImage.ashx.jpg"/>
          <p:cNvPicPr/>
          <p:nvPr/>
        </p:nvPicPr>
        <p:blipFill>
          <a:blip r:embed="rId3"/>
          <a:stretch/>
        </p:blipFill>
        <p:spPr>
          <a:xfrm>
            <a:off x="6400800" y="1447920"/>
            <a:ext cx="2476440" cy="185724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3" descr="D:\мама\города -герои\ветераны.jpg"/>
          <p:cNvPicPr/>
          <p:nvPr/>
        </p:nvPicPr>
        <p:blipFill>
          <a:blip r:embed="rId4"/>
          <a:stretch/>
        </p:blipFill>
        <p:spPr>
          <a:xfrm>
            <a:off x="6553080" y="4800600"/>
            <a:ext cx="2292480" cy="1709640"/>
          </a:xfrm>
          <a:prstGeom prst="rect">
            <a:avLst/>
          </a:prstGeom>
          <a:ln w="0">
            <a:noFill/>
          </a:ln>
        </p:spPr>
      </p:pic>
      <p:sp>
        <p:nvSpPr>
          <p:cNvPr id="300" name="Прямоугольник 7"/>
          <p:cNvSpPr/>
          <p:nvPr/>
        </p:nvSpPr>
        <p:spPr>
          <a:xfrm>
            <a:off x="2209680" y="1371600"/>
            <a:ext cx="3886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беда! Победа!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 имя Отчизны – Победа!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 имя живущих – Победа!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 имя грядущих – Победа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horz"/>
  </p:transition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5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0" dur="2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2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0" dur="2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5" dur="2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0" dur="2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2 июня 1941 года</a:t>
            </a:r>
            <a:br>
              <a:rPr sz="2800"/>
            </a:b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ападение фашистской Германии на СССР</a:t>
            </a:r>
            <a:br>
              <a:rPr sz="3200"/>
            </a:br>
            <a:endParaRPr b="1" lang="en-US" sz="28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5" name="Прямоугольник 3"/>
          <p:cNvSpPr/>
          <p:nvPr/>
        </p:nvSpPr>
        <p:spPr>
          <a:xfrm>
            <a:off x="3886200" y="1523880"/>
            <a:ext cx="47242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нним утром 22 июня 1941 года после артиллерийской и авиационной подготовки немецкие войска перешли границу СССР. В 12 часов дня 22 июня 1941 года Молотов выступил по радио с официальным обращением к гражданам СССР, сообщив о нападении Германии на СССР и объявив о начале отечественной войны.</a:t>
            </a:r>
            <a:r>
              <a:rPr b="0" lang="ru-RU" sz="1800" spc="-1" strike="noStrike" u="sng">
                <a:solidFill>
                  <a:srgbClr val="6b9f25"/>
                </a:solidFill>
                <a:uFillTx/>
                <a:latin typeface="Times New Roman"/>
                <a:ea typeface="Times New Roman"/>
                <a:hlinkClick r:id="rId1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 июня была создана Ставка Главного Командования (с 8 августа Ставка Верховного Главнокомандования) во главе с И. В. Сталиным, который с 8 августа стал также Верховным Главнокомандующим. 30 июня был создан Государственный Комитет Обороны (ГКО). С июня начало формироваться народное ополч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4" descr=""/>
          <p:cNvPicPr/>
          <p:nvPr/>
        </p:nvPicPr>
        <p:blipFill>
          <a:blip r:embed="rId2"/>
          <a:stretch/>
        </p:blipFill>
        <p:spPr>
          <a:xfrm>
            <a:off x="380880" y="3886200"/>
            <a:ext cx="3353040" cy="205740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6" descr="pe2_03"/>
          <p:cNvPicPr/>
          <p:nvPr/>
        </p:nvPicPr>
        <p:blipFill>
          <a:blip r:embed="rId3"/>
          <a:stretch/>
        </p:blipFill>
        <p:spPr>
          <a:xfrm>
            <a:off x="2362320" y="1752480"/>
            <a:ext cx="1218960" cy="152424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3" descr="C:\Program Files\Microsoft Office\MEDIA\OFFICE12\Lines\BD21313_.gif"/>
          <p:cNvPicPr/>
          <p:nvPr/>
        </p:nvPicPr>
        <p:blipFill>
          <a:blip r:embed="rId4"/>
          <a:stretch/>
        </p:blipFill>
        <p:spPr>
          <a:xfrm>
            <a:off x="428760" y="6370560"/>
            <a:ext cx="8410320" cy="28116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br>
              <a:rPr sz="3600"/>
            </a:br>
            <a:br>
              <a:rPr sz="3600"/>
            </a:br>
            <a:br>
              <a:rPr sz="3200"/>
            </a:b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борона Брестской крепости </a:t>
            </a:r>
            <a:br>
              <a:rPr sz="3200"/>
            </a:b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 1941 году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30" name="Picture 2" descr="D:\мама\города -герои\остатки казарм.jpg"/>
          <p:cNvPicPr/>
          <p:nvPr/>
        </p:nvPicPr>
        <p:blipFill>
          <a:blip r:embed="rId1"/>
          <a:stretch/>
        </p:blipFill>
        <p:spPr>
          <a:xfrm>
            <a:off x="5867280" y="1523880"/>
            <a:ext cx="3048120" cy="228924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4" descr="D:\мама\города -герои\447589ba35bd.jpg"/>
          <p:cNvPicPr/>
          <p:nvPr/>
        </p:nvPicPr>
        <p:blipFill>
          <a:blip r:embed="rId2"/>
          <a:stretch/>
        </p:blipFill>
        <p:spPr>
          <a:xfrm>
            <a:off x="4800600" y="3581280"/>
            <a:ext cx="3225960" cy="2419560"/>
          </a:xfrm>
          <a:prstGeom prst="rect">
            <a:avLst/>
          </a:prstGeom>
          <a:ln w="0">
            <a:noFill/>
          </a:ln>
        </p:spPr>
      </p:pic>
      <p:sp>
        <p:nvSpPr>
          <p:cNvPr id="232" name="Прямоугольник 5"/>
          <p:cNvSpPr/>
          <p:nvPr/>
        </p:nvSpPr>
        <p:spPr>
          <a:xfrm>
            <a:off x="609480" y="1828800"/>
            <a:ext cx="39625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 июня в 3:15 по крепости был открыт ураганный артиллерийский огонь, заставший гарнизон врасплох. В результате были уничтожены склады, водопровод, прервана связь, нанесены крупные потери гарнизону. В 3:45 начался штурм. Неожиданность атаки привела к тому, что единого скоординированного сопротивления гарнизон оказать не смог и был разбит на несколько отдельных очаг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3" descr="C:\Program Files\Microsoft Office\MEDIA\OFFICE12\Lines\BD21313_.gif"/>
          <p:cNvPicPr/>
          <p:nvPr/>
        </p:nvPicPr>
        <p:blipFill>
          <a:blip r:embed="rId3"/>
          <a:stretch/>
        </p:blipFill>
        <p:spPr>
          <a:xfrm>
            <a:off x="380880" y="6324480"/>
            <a:ext cx="8458200" cy="28116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9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борона Брестской крепости</a:t>
            </a:r>
            <a:endParaRPr b="1" lang="en-US" sz="4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3276720" y="1600200"/>
            <a:ext cx="5410080" cy="18288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 мая 1965 Брестской крепости присвоено звание крепость-герой. С 1971 является мемориальным комплексом. На территории крепости выстроен ряд монументов в память героям, работает музей обороны Брестской крепост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6" name="Picture 3" descr="D:\мама\города -герои\Холмские ворота.jpg"/>
          <p:cNvPicPr/>
          <p:nvPr/>
        </p:nvPicPr>
        <p:blipFill>
          <a:blip r:embed="rId1"/>
          <a:stretch/>
        </p:blipFill>
        <p:spPr>
          <a:xfrm>
            <a:off x="380880" y="1523880"/>
            <a:ext cx="3073680" cy="2308320"/>
          </a:xfrm>
          <a:prstGeom prst="rect">
            <a:avLst/>
          </a:prstGeom>
          <a:ln w="0">
            <a:noFill/>
          </a:ln>
        </p:spPr>
      </p:pic>
      <p:pic>
        <p:nvPicPr>
          <p:cNvPr id="237" name="Рисунок 4" descr="http://upload.wikimedia.org/wikipedia/ru/thumb/0/02/Brest.jpg/120px-Brest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38080" y="4114800"/>
            <a:ext cx="2700360" cy="160020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2" descr="D:\мама\города -герои\брестская крепость.jpg"/>
          <p:cNvPicPr/>
          <p:nvPr/>
        </p:nvPicPr>
        <p:blipFill>
          <a:blip r:embed="rId4"/>
          <a:stretch/>
        </p:blipFill>
        <p:spPr>
          <a:xfrm>
            <a:off x="3962520" y="3276720"/>
            <a:ext cx="4849560" cy="323028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3" descr="C:\Program Files\Microsoft Office\MEDIA\OFFICE12\Lines\BD21313_.gif"/>
          <p:cNvPicPr/>
          <p:nvPr/>
        </p:nvPicPr>
        <p:blipFill>
          <a:blip r:embed="rId5"/>
          <a:stretch/>
        </p:blipFill>
        <p:spPr>
          <a:xfrm>
            <a:off x="76320" y="6324480"/>
            <a:ext cx="3809880" cy="28116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8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3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8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екабрь 1941 года </a:t>
            </a:r>
            <a:br>
              <a:rPr sz="3100"/>
            </a:br>
            <a:r>
              <a:rPr b="1" lang="ru-RU" sz="31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ачало  контрнаступления советских  войск </a:t>
            </a:r>
            <a:br>
              <a:rPr sz="3100"/>
            </a:br>
            <a:r>
              <a:rPr b="1" lang="ru-RU" sz="31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под  Москвой.</a:t>
            </a:r>
            <a:br>
              <a:rPr sz="3100"/>
            </a:br>
            <a:endParaRPr b="1" lang="en-US" sz="31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914400" y="1905120"/>
            <a:ext cx="7772400" cy="25905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ходе зимней кампании 1941—1942 годов было проведено контрнаступление под Москвой. Была снята угроза Москве. Наступление переросло в стратегическое наступление советских войск. Важнейшей его частью была Ржевско-Вяземская операция. Несмотря на незавершённость, операция имела важное значение в ходе общего наступления Красной Армии. Советские войска отбросили противника на западном направлении на 80—250 км, завершили освобождение Московской и Тульской областей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2" name="Picture 2" descr="D:\мама\города -герои\Battle_of_moscow14.jpg"/>
          <p:cNvPicPr/>
          <p:nvPr/>
        </p:nvPicPr>
        <p:blipFill>
          <a:blip r:embed="rId1"/>
          <a:stretch/>
        </p:blipFill>
        <p:spPr>
          <a:xfrm>
            <a:off x="5334120" y="4343400"/>
            <a:ext cx="2795400" cy="1943280"/>
          </a:xfrm>
          <a:prstGeom prst="rect">
            <a:avLst/>
          </a:prstGeom>
          <a:ln w="0">
            <a:noFill/>
          </a:ln>
        </p:spPr>
      </p:pic>
      <p:pic>
        <p:nvPicPr>
          <p:cNvPr id="243" name="Рисунок 8" descr="http://upload.wikimedia.org/wikipedia/commons/thumb/b/b8/Battle_of_moscow03.jpg/300px-Battle_of_moscow03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219320" y="4419720"/>
            <a:ext cx="2857320" cy="186696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3" descr="C:\Program Files\Microsoft Office\MEDIA\OFFICE12\Lines\BD21313_.gif"/>
          <p:cNvPicPr/>
          <p:nvPr/>
        </p:nvPicPr>
        <p:blipFill>
          <a:blip r:embed="rId4"/>
          <a:stretch/>
        </p:blipFill>
        <p:spPr>
          <a:xfrm>
            <a:off x="304920" y="457200"/>
            <a:ext cx="280800" cy="60958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7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2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талинградская битва </a:t>
            </a:r>
            <a:br>
              <a:rPr sz="3200"/>
            </a:b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юль 1942 – февраль 1943 года</a:t>
            </a:r>
            <a:br>
              <a:rPr sz="3200"/>
            </a:br>
            <a:br>
              <a:rPr sz="3200"/>
            </a:b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3581280" y="1828440"/>
            <a:ext cx="5105520" cy="42973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72880" indent="-2728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c00000"/>
                </a:solidFill>
                <a:latin typeface="Verdana"/>
                <a:ea typeface="Times New Roman"/>
              </a:rPr>
              <a:t>    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7" name="Рисунок 3" descr="http://upload.wikimedia.org/wikipedia/commons/thumb/2/26/Stalingrad_aftermath.jpg/300px-Stalingrad_aftermath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9480" y="2362320"/>
            <a:ext cx="3124440" cy="2066760"/>
          </a:xfrm>
          <a:prstGeom prst="rect">
            <a:avLst/>
          </a:prstGeom>
          <a:ln w="0">
            <a:noFill/>
          </a:ln>
        </p:spPr>
      </p:pic>
      <p:sp>
        <p:nvSpPr>
          <p:cNvPr id="248" name="Прямоугольник 4"/>
          <p:cNvSpPr/>
          <p:nvPr/>
        </p:nvSpPr>
        <p:spPr>
          <a:xfrm>
            <a:off x="625680" y="4724280"/>
            <a:ext cx="258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ины Сталинграда 1943 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Прямоугольник 5"/>
          <p:cNvSpPr/>
          <p:nvPr/>
        </p:nvSpPr>
        <p:spPr>
          <a:xfrm>
            <a:off x="3962520" y="1600200"/>
            <a:ext cx="46479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60000"/>
                </a:solidFill>
                <a:latin typeface="Times New Roman"/>
                <a:ea typeface="Times New Roman"/>
              </a:rPr>
              <a:t>  </a:t>
            </a:r>
            <a:r>
              <a:rPr b="1" lang="ru-RU" sz="1800" spc="-1" strike="noStrike">
                <a:solidFill>
                  <a:srgbClr val="360000"/>
                </a:solidFill>
                <a:latin typeface="Times New Roman"/>
                <a:ea typeface="Times New Roman"/>
              </a:rPr>
              <a:t>Сталинградская битва</a:t>
            </a:r>
            <a:r>
              <a:rPr b="0" lang="ru-RU" sz="1800" spc="-1" strike="noStrike">
                <a:solidFill>
                  <a:srgbClr val="360000"/>
                </a:solidFill>
                <a:latin typeface="Times New Roman"/>
                <a:ea typeface="Times New Roman"/>
              </a:rPr>
              <a:t> была одним из важнейших событий Второй мировой войны.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а продолжалась 200 суток. </a:t>
            </a:r>
            <a:r>
              <a:rPr b="0" lang="ru-RU" sz="1800" spc="-1" strike="noStrike">
                <a:solidFill>
                  <a:srgbClr val="360000"/>
                </a:solidFill>
                <a:latin typeface="Times New Roman"/>
                <a:ea typeface="Times New Roman"/>
              </a:rPr>
              <a:t>Сражение включало в себя попытку вермахта захватить левобережье Волги в районе Сталинграда (современный Волгоград) и сам город, противостояние в городе, и контрнаступление Красной армии (операция «Уран»), в результате которого VI армия вермахта и другие силы союзников Германии внутри и вокруг города были окружены и частью уничтожены, частью захвачены в плен. По приблизительным подсчётам, суммарные потери обеих сторон в этом сражении превышают два миллиона человек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3" descr="C:\Program Files\Microsoft Office\MEDIA\OFFICE12\Lines\BD21313_.gif"/>
          <p:cNvPicPr/>
          <p:nvPr/>
        </p:nvPicPr>
        <p:blipFill>
          <a:blip r:embed="rId3"/>
          <a:stretch/>
        </p:blipFill>
        <p:spPr>
          <a:xfrm>
            <a:off x="428760" y="6370560"/>
            <a:ext cx="8334360" cy="28116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1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талинградская битва</a:t>
            </a:r>
            <a:endParaRPr b="1" lang="en-US" sz="4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2" name="Прямоугольник 2"/>
          <p:cNvSpPr/>
          <p:nvPr/>
        </p:nvSpPr>
        <p:spPr>
          <a:xfrm>
            <a:off x="609480" y="1600200"/>
            <a:ext cx="5410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бедоносный исход Сталинградской битвы имел огромное военно-политическое значение. Она внесла решающий вклад в достижение коренного перелома не только в Великой Отечественной войне, но и во всей Второй мировой войне, явилась важнейшим этапом на пути к победе над фашистским блоком. Были созданы условия для развертывания общего наступления Красной Армии и массового изгнания немецко-фашистских захватчиков с оккупированных территорий Советского Союза. В результате Сталинградской битвы советские Вооруженные Силы вырвали у противника стратегическую инициативу и удерживали ее до конца войны. Победа под Сталинградом еще выше подняла международный авторитет Советского Союза и его Вооруженных си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Содержимое 3" descr="http://upload.wikimedia.org/wikipedia/commons/thumb/1/1b/Streetfight_Stralingrad01.jpg/200px-Streetfight_Stralingrad01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477120" y="1447920"/>
            <a:ext cx="2286000" cy="3733560"/>
          </a:xfrm>
          <a:prstGeom prst="rect">
            <a:avLst/>
          </a:prstGeom>
          <a:ln w="0">
            <a:noFill/>
          </a:ln>
        </p:spPr>
      </p:pic>
      <p:sp>
        <p:nvSpPr>
          <p:cNvPr id="254" name="Прямоугольник 4"/>
          <p:cNvSpPr/>
          <p:nvPr/>
        </p:nvSpPr>
        <p:spPr>
          <a:xfrm>
            <a:off x="6148080" y="5334120"/>
            <a:ext cx="2676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2b0a30"/>
                </a:solidFill>
                <a:latin typeface="Times New Roman"/>
                <a:ea typeface="Times New Roman"/>
              </a:rPr>
              <a:t>Уличные бои в Сталинград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3" descr="C:\Program Files\Microsoft Office\MEDIA\OFFICE12\Lines\BD21313_.gif"/>
          <p:cNvPicPr/>
          <p:nvPr/>
        </p:nvPicPr>
        <p:blipFill>
          <a:blip r:embed="rId3"/>
          <a:stretch/>
        </p:blipFill>
        <p:spPr>
          <a:xfrm>
            <a:off x="428760" y="6370560"/>
            <a:ext cx="8486640" cy="28116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3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 txBox="1"/>
          <p:nvPr/>
        </p:nvSpPr>
        <p:spPr>
          <a:xfrm>
            <a:off x="2819160" y="1295280"/>
            <a:ext cx="3886200" cy="47246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60000"/>
                </a:solidFill>
                <a:latin typeface="Times New Roman"/>
                <a:ea typeface="Times New Roman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ссия, город-герой Волгоград, Мамаев курган, названный в дни битвы за Сталинград (1942-1943 г.г.) главной высотой России. Военный мемориал в память героям Сталинградской битвы, сооруженный в 1967 году по проекту скульптора Вучетича Евгения Викторовича и архитектора Белопольского Якова Борисовича. На фото венчающая мемориал 85-метровая скульптура «Родина-Мать зовет»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Прямоугольник 4"/>
          <p:cNvSpPr/>
          <p:nvPr/>
        </p:nvSpPr>
        <p:spPr>
          <a:xfrm>
            <a:off x="1752480" y="533520"/>
            <a:ext cx="6934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талинградская бит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2" descr="D:\мама\города -герои\Memorial.jpg"/>
          <p:cNvPicPr/>
          <p:nvPr/>
        </p:nvPicPr>
        <p:blipFill>
          <a:blip r:embed="rId1"/>
          <a:stretch/>
        </p:blipFill>
        <p:spPr>
          <a:xfrm>
            <a:off x="6781680" y="3921120"/>
            <a:ext cx="2097360" cy="265896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3" descr="C:\Program Files\Microsoft Office\MEDIA\OFFICE12\Lines\BD21313_.gif"/>
          <p:cNvPicPr/>
          <p:nvPr/>
        </p:nvPicPr>
        <p:blipFill>
          <a:blip r:embed="rId2"/>
          <a:stretch/>
        </p:blipFill>
        <p:spPr>
          <a:xfrm>
            <a:off x="304920" y="6324480"/>
            <a:ext cx="6324480" cy="28116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1" descr="D:\мама\города -герои\0112.jpg"/>
          <p:cNvPicPr/>
          <p:nvPr/>
        </p:nvPicPr>
        <p:blipFill>
          <a:blip r:embed="rId3"/>
          <a:stretch/>
        </p:blipFill>
        <p:spPr>
          <a:xfrm>
            <a:off x="228600" y="1828800"/>
            <a:ext cx="2749680" cy="373392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7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2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761760" y="4800600"/>
            <a:ext cx="60498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Блокада Ленинграда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 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09480" y="1143000"/>
            <a:ext cx="4724640" cy="40384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547560" indent="-411120" algn="just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окада Ленинград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— военная блокада немецкими, финскими и испанскими войсками во время Великой Отечественной войны города Ленинграда (ныне Санкт-Петербург). Длилась с 8 сентября 1941 по 27 января 1944 (блокадное кольцо было прорвано 18 января 1943 года) —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2 дня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47560" indent="-411120" algn="just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началу блокады в городе были мизерные запасы продовольствия и топлива. Единственным путём сообщения с блокадным Ленинградом оставалось Ладожское озеро, находящееся в пределах досягаемости артиллерии осаждающих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47560" indent="-41112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SzPct val="80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3" name="Picture 3" descr="D:\мама\города -герои\1942_08.jpg"/>
          <p:cNvPicPr/>
          <p:nvPr/>
        </p:nvPicPr>
        <p:blipFill>
          <a:blip r:embed="rId1"/>
          <a:stretch/>
        </p:blipFill>
        <p:spPr>
          <a:xfrm>
            <a:off x="5715000" y="754200"/>
            <a:ext cx="2895480" cy="191268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C:\Program Files\Microsoft Office\MEDIA\OFFICE12\Lines\BD21313_.gif"/>
          <p:cNvPicPr/>
          <p:nvPr/>
        </p:nvPicPr>
        <p:blipFill>
          <a:blip r:embed="rId2"/>
          <a:stretch/>
        </p:blipFill>
        <p:spPr>
          <a:xfrm>
            <a:off x="457200" y="6248520"/>
            <a:ext cx="8429760" cy="28080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2" descr="D:\мама\города -герои\834.JPEG"/>
          <p:cNvPicPr/>
          <p:nvPr/>
        </p:nvPicPr>
        <p:blipFill>
          <a:blip r:embed="rId3"/>
          <a:stretch/>
        </p:blipFill>
        <p:spPr>
          <a:xfrm>
            <a:off x="5638680" y="3581280"/>
            <a:ext cx="2743200" cy="20574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6" dur="2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1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2000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2000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мама мия</cp:lastModifiedBy>
  <dcterms:modified xsi:type="dcterms:W3CDTF">2012-02-21T17:04:23Z</dcterms:modified>
  <cp:revision>23</cp:revision>
  <dc:subject/>
  <dc:title>Великая Отечественная война 1941 - 1945</dc:title>
</cp:coreProperties>
</file>