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380-98F4-44A1-B08B-830152EB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F4E-0ADD-4929-97D9-73A1E3BC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016-F37B-4405-85DD-B1FD6FCF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0E2-725F-4149-96EC-82FD2D31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506-35CF-46CF-9702-CBCF38CA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0B0-3244-4C09-BB11-1130EA55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43D-F25F-45AA-9B65-C0B82F80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823-2820-430E-8C69-852D80CD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DB8-8229-47E9-BF88-204A4DEA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C43-AC02-4815-AB4D-A8AFF85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001-1D89-4714-99C2-3979A27F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ABB-5C34-4EBE-A82A-46A9391B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F210-BC1C-4067-95FF-55A5421F9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5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Мы начинаем наш рассказ: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-Цветы, улыбки…</a:t>
            </a:r>
            <a:br>
              <a:rPr sz="3200"/>
            </a:b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ервый класс! </a:t>
            </a:r>
            <a:br>
              <a:rPr sz="3200"/>
            </a:b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Нет невозможного сейчас:</a:t>
            </a:r>
            <a:br>
              <a:rPr sz="3200"/>
            </a:b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здорова  я  и  весела,</a:t>
            </a:r>
            <a:br>
              <a:rPr sz="3200"/>
            </a:b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отлично спорятся де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856720" cy="63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Лёжа – лучше </a:t>
            </a:r>
            <a:br>
              <a:rPr sz="5400"/>
            </a:b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   не     читать,</a:t>
            </a:r>
            <a:br>
              <a:rPr sz="5400"/>
            </a:b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зрение 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 ведь 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потерять </a:t>
            </a:r>
            <a:br>
              <a:rPr sz="5400"/>
            </a:b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в юности обидно…</a:t>
            </a:r>
            <a:br>
              <a:rPr sz="8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9144000" cy="70567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Comic Sans MS"/>
              </a:rPr>
              <a:t>Необходимы !</a:t>
            </a:r>
            <a:r>
              <a:rPr b="1" i="1" lang="en-US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i="1" lang="en-US" sz="4000" spc="-1" strike="noStrike">
                <a:solidFill>
                  <a:srgbClr val="cc00cc"/>
                </a:solidFill>
                <a:latin typeface="Comic Sans MS"/>
              </a:rPr>
              <a:t>режим дня,</a:t>
            </a: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  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здоровое           питание,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       спорт ,             увлечения,</a:t>
            </a:r>
            <a:br>
              <a:rPr sz="3600"/>
            </a:b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полезные привычки,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     положительные  эмоци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516720" y="1052640"/>
            <a:ext cx="1297080" cy="107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8040" y="-1333440"/>
            <a:ext cx="83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95640" y="0"/>
            <a:ext cx="1224000" cy="112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95280" y="4724280"/>
            <a:ext cx="1368360" cy="1268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rcRect l="0" t="0" r="0" b="11344"/>
          <a:stretch/>
        </p:blipFill>
        <p:spPr>
          <a:xfrm>
            <a:off x="0" y="2060640"/>
            <a:ext cx="1295280" cy="1560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076720" y="3500280"/>
            <a:ext cx="1297080" cy="100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268360" y="1125360"/>
            <a:ext cx="1872000" cy="1008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08360" y="-1179360"/>
            <a:ext cx="1112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rcRect l="0" t="24628" r="54045" b="9235"/>
          <a:stretch/>
        </p:blipFill>
        <p:spPr>
          <a:xfrm>
            <a:off x="4140360" y="2133720"/>
            <a:ext cx="1511280" cy="130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3491640" y="-603360"/>
            <a:ext cx="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666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	</a:t>
            </a:r>
            <a:br>
              <a:rPr sz="2400"/>
            </a:b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     </a:t>
            </a:r>
            <a:r>
              <a:rPr b="1" i="1" lang="en-US" sz="2400" spc="-1" strike="noStrike">
                <a:solidFill>
                  <a:srgbClr val="ffff00"/>
                </a:solidFill>
                <a:latin typeface="Arial Black"/>
              </a:rPr>
              <a:t>За здоровый образ  жизни!</a:t>
            </a:r>
            <a:br>
              <a:rPr sz="8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74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9900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4508640"/>
            <a:ext cx="486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Monotype Corsiva"/>
              </a:rPr>
              <a:t>МОУ СОШ №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Monotype Corsiva"/>
              </a:rPr>
              <a:t>Совет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Monotype Corsiva"/>
              </a:rPr>
              <a:t>г. Волгограда</a:t>
            </a:r>
            <a:br>
              <a:rPr sz="1800"/>
            </a:br>
            <a:r>
              <a:rPr b="1" i="1" lang="en-US" sz="1400" spc="-1" strike="noStrike">
                <a:solidFill>
                  <a:srgbClr val="ffff00"/>
                </a:solidFill>
                <a:latin typeface="Comic Sans MS"/>
              </a:rPr>
              <a:t>Автор: учитель англ. языка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i="1" lang="en-US" sz="1400" spc="-1" strike="noStrike">
                <a:solidFill>
                  <a:srgbClr val="ffff00"/>
                </a:solidFill>
                <a:latin typeface="Comic Sans MS"/>
              </a:rPr>
              <a:t>Бондарева В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Corsiv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Теперь в 9-ый я хожу.</a:t>
            </a: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Так много дел – </a:t>
            </a: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с ума схож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450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Comic Sans MS"/>
              </a:rPr>
              <a:t>Устала я и с ног валю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Comic Sans MS"/>
              </a:rPr>
              <a:t>за это, и за то берусь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Comic Sans MS"/>
              </a:rPr>
              <a:t>и ничего не успеваю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Comic Sans MS"/>
              </a:rPr>
              <a:t>что делать с этим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Comic Sans MS"/>
              </a:rPr>
              <a:t>                </a:t>
            </a:r>
            <a:r>
              <a:rPr b="1" i="1" lang="en-US" sz="4000" spc="-1" strike="noStrike">
                <a:solidFill>
                  <a:srgbClr val="cc00cc"/>
                </a:solidFill>
                <a:latin typeface="Comic Sans MS"/>
              </a:rPr>
              <a:t>я не знаю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9074160" cy="639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Вам скажу, ребята, 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Телевизор и компьютер –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очень нужные друзья, </a:t>
            </a:r>
            <a:br>
              <a:rPr sz="3200"/>
            </a:b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Comic Sans MS"/>
              </a:rPr>
              <a:t>только в меру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и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Comic Sans MS"/>
              </a:rPr>
              <a:t>нельзя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перед    ним           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сидеть 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час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1557080"/>
            <a:ext cx="403848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omic Sans MS"/>
              </a:rPr>
              <a:t>Надо          </a:t>
            </a:r>
            <a:r>
              <a:rPr b="1" i="1" lang="en-US" sz="5400" spc="-1" strike="noStrike">
                <a:solidFill>
                  <a:srgbClr val="ffff00"/>
                </a:solidFill>
                <a:latin typeface="Comic Sans MS"/>
              </a:rPr>
              <a:t>соблюдать </a:t>
            </a:r>
            <a:r>
              <a:rPr b="1" i="1" lang="en-US" sz="5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ffff00"/>
                </a:solidFill>
                <a:latin typeface="Comic Sans MS"/>
              </a:rPr>
              <a:t>режим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-243360"/>
            <a:ext cx="8964720" cy="720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i="1" lang="en-US" sz="7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i="1" lang="en-US" sz="7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следить,  </a:t>
            </a:r>
            <a:br>
              <a:rPr sz="7200"/>
            </a:b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когда </a:t>
            </a:r>
            <a:br>
              <a:rPr sz="7200"/>
            </a:b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и </a:t>
            </a:r>
            <a:br>
              <a:rPr sz="7200"/>
            </a:b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         что</a:t>
            </a:r>
            <a:br>
              <a:rPr sz="7200"/>
            </a:b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  </a:t>
            </a:r>
            <a:br>
              <a:rPr sz="7200"/>
            </a:b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1" i="1" lang="en-US" sz="7200" spc="-1" strike="noStrike">
                <a:solidFill>
                  <a:srgbClr val="ff00ff"/>
                </a:solidFill>
                <a:latin typeface="Comic Sans MS"/>
              </a:rPr>
              <a:t>едим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7316640"/>
            <a:ext cx="77868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6000" y="188640"/>
            <a:ext cx="8928000" cy="666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Быть активной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не лениться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воврем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вставать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</a:rPr>
              <a:t>ложитьс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88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229600" cy="514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i="1" lang="en-US" sz="7200" spc="-1" strike="noStrike">
                <a:solidFill>
                  <a:srgbClr val="0000ff"/>
                </a:solidFill>
                <a:latin typeface="Comic Sans MS"/>
              </a:rPr>
              <a:t>Спортом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i="1" lang="en-US" sz="7200" spc="-1" strike="noStrike">
                <a:solidFill>
                  <a:srgbClr val="0000ff"/>
                </a:solidFill>
                <a:latin typeface="Comic Sans MS"/>
              </a:rPr>
              <a:t>заниматься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612360" cy="846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en-US" sz="6000" spc="-1" strike="noStrike">
                <a:solidFill>
                  <a:srgbClr val="ff00ff"/>
                </a:solidFill>
                <a:latin typeface="Comic Sans MS"/>
              </a:rPr>
              <a:t>Чем-то </a:t>
            </a:r>
            <a:br>
              <a:rPr sz="6000"/>
            </a:br>
            <a:r>
              <a:rPr b="1" i="1" lang="en-US" sz="6000" spc="-1" strike="noStrike">
                <a:solidFill>
                  <a:srgbClr val="ff00ff"/>
                </a:solidFill>
                <a:latin typeface="Comic Sans MS"/>
              </a:rPr>
              <a:t>  очень</a:t>
            </a:r>
            <a:br>
              <a:rPr sz="6000"/>
            </a:br>
            <a:r>
              <a:rPr b="1" i="1" lang="en-US" sz="6000" spc="-1" strike="noStrike">
                <a:solidFill>
                  <a:srgbClr val="ff00ff"/>
                </a:solidFill>
                <a:latin typeface="Comic Sans MS"/>
              </a:rPr>
              <a:t>    интересным </a:t>
            </a: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ff00ff"/>
                </a:solidFill>
                <a:latin typeface="Comic Sans MS"/>
              </a:rPr>
              <a:t>    надо увлекаться</a:t>
            </a:r>
            <a:br>
              <a:rPr sz="6000"/>
            </a:br>
            <a:r>
              <a:rPr b="1" i="1" lang="en-US" sz="6000" spc="-1" strike="noStrike">
                <a:solidFill>
                  <a:srgbClr val="ff00ff"/>
                </a:solidFill>
                <a:latin typeface="Comic Sans MS"/>
              </a:rPr>
              <a:t>   </a:t>
            </a:r>
            <a:br>
              <a:rPr sz="6000"/>
            </a:br>
            <a:br>
              <a:rPr sz="6000"/>
            </a:b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i="1" lang="en-US" sz="4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i="1" lang="en-US" sz="4800" spc="-1" strike="noStrike">
                <a:solidFill>
                  <a:srgbClr val="006600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-387720"/>
            <a:ext cx="8769600" cy="6769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Comic Sans MS"/>
              </a:rPr>
              <a:t>За осанкою </a:t>
            </a:r>
            <a:br>
              <a:rPr sz="6000"/>
            </a:br>
            <a:r>
              <a:rPr b="1" i="1" lang="en-US" sz="6000" spc="-1" strike="noStrike">
                <a:solidFill>
                  <a:srgbClr val="0000ff"/>
                </a:solidFill>
                <a:latin typeface="Comic Sans MS"/>
              </a:rPr>
              <a:t>              следить,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0000ff"/>
                </a:solidFill>
                <a:latin typeface="Comic Sans MS"/>
              </a:rPr>
              <a:t>чтоб        спине          не      навреди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3:06:44Z</dcterms:created>
  <dc:creator>alexandr</dc:creator>
  <dc:description/>
  <dc:language>en-US</dc:language>
  <cp:lastModifiedBy>ВАЛЯ</cp:lastModifiedBy>
  <dcterms:modified xsi:type="dcterms:W3CDTF">2012-02-21T11:48:18Z</dcterms:modified>
  <cp:revision>67</cp:revision>
  <dc:subject/>
  <dc:title>Что такое</dc:title>
</cp:coreProperties>
</file>