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3C4-CCC0-40A1-9B24-5805B6DA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4F6-DE07-4064-9785-B5787CF7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2C7-B120-4E2B-B571-E0CC8FC7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939-2B01-4C61-933B-847C4224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5192-DB8E-43D8-87A0-2FBB5996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71DE-28CE-415A-861A-33522FD3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8197-2E14-43B9-9E2D-2DE051BF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61EE-488A-469E-B851-24EA77F6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45DF-CA0F-4F06-90F3-1F0E7EA4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EBF3-B0D6-48F3-BCEE-2C24910F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1075-85BD-48AD-9AAB-A5D82E5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062-12A2-49C2-BE9C-903BA2E4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35FD-ACE8-4A42-B854-93923322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C6D5-660A-460F-BC0F-F43DA81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8E85-C80A-4BD0-83F7-E9800109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F4E4-1DCF-4322-8F6B-EA8CB42E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0F2F-464A-4065-B547-3CB4501A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2F8-8B4B-4B71-AD53-55DE8FFC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AAE-6DA8-4A23-B6D2-78313072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D89-D06A-41FD-9847-73DD7180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21E-9750-466B-8A70-6D83FD4A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EEC-A664-4709-9151-C36A18E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175-E511-4E3D-A93B-ECD4D141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33D-7BF1-4D3D-9275-9A1DAA7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CF3-9FF9-4AE8-9759-D46B8E529EF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1C46-B715-44A0-9492-E4E182EB419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уть исканий князя Андре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4" descr="Andrej-Bolkonsky1"/>
          <p:cNvPicPr/>
          <p:nvPr/>
        </p:nvPicPr>
        <p:blipFill>
          <a:blip r:embed="rId1"/>
          <a:stretch/>
        </p:blipFill>
        <p:spPr>
          <a:xfrm>
            <a:off x="2916360" y="1628640"/>
            <a:ext cx="33256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сыл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http://www.museum.ru/1812/Persons/Brokhause/portret/30-141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http://donotpanichereiam.blog.tiscali.it/files/2010/07/Andrej-Bolkonsky1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1476360" y="328464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0" y="4076640"/>
            <a:ext cx="10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8160" y="4289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-208080" y="468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15" descr="карта для презинтации"/>
          <p:cNvPicPr/>
          <p:nvPr/>
        </p:nvPicPr>
        <p:blipFill>
          <a:blip r:embed="rId1"/>
          <a:stretch/>
        </p:blipFill>
        <p:spPr>
          <a:xfrm>
            <a:off x="-1549440" y="0"/>
            <a:ext cx="11377800" cy="7270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6"/>
          <p:cNvSpPr/>
          <p:nvPr/>
        </p:nvSpPr>
        <p:spPr>
          <a:xfrm>
            <a:off x="5867280" y="2349360"/>
            <a:ext cx="2449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219640" y="2637000"/>
            <a:ext cx="13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227640" y="3068640"/>
            <a:ext cx="1513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Лысые горы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4859280" y="3213000"/>
            <a:ext cx="13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Arial Unicode MS"/>
                <a:hlinkClick r:id="rId5" action="ppaction://hlinksldjump"/>
              </a:rPr>
              <a:t>Шенграбе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4427640" y="3573360"/>
            <a:ext cx="1295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Arial Unicode MS"/>
                <a:hlinkClick r:id="rId6" action="ppaction://hlinksldjump"/>
              </a:rPr>
              <a:t>Аустерли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5867280" y="2924280"/>
            <a:ext cx="1368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Отрадное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val 23"/>
          <p:cNvSpPr/>
          <p:nvPr/>
        </p:nvSpPr>
        <p:spPr>
          <a:xfrm>
            <a:off x="4500720" y="407664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4572000" y="414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родин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2513"/>
          <p:cNvPicPr/>
          <p:nvPr/>
        </p:nvPicPr>
        <p:blipFill>
          <a:blip r:embed="rId1"/>
          <a:stretch/>
        </p:blipFill>
        <p:spPr>
          <a:xfrm>
            <a:off x="-1044720" y="-458640"/>
            <a:ext cx="10333080" cy="7704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1042920" y="333360"/>
            <a:ext cx="51847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ородино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588000" y="6308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накомство с князем Андрее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4" descr="Andrej-Bolkonsky1"/>
          <p:cNvPicPr/>
          <p:nvPr/>
        </p:nvPicPr>
        <p:blipFill>
          <a:blip r:embed="rId1"/>
          <a:stretch/>
        </p:blipFill>
        <p:spPr>
          <a:xfrm>
            <a:off x="250920" y="1557360"/>
            <a:ext cx="331308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65964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HF Esoteric 3 FANCY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kn9I3b andrei"/>
          <p:cNvPicPr/>
          <p:nvPr/>
        </p:nvPicPr>
        <p:blipFill>
          <a:blip r:embed="rId1"/>
          <a:stretch/>
        </p:blipFill>
        <p:spPr>
          <a:xfrm>
            <a:off x="0" y="1844640"/>
            <a:ext cx="4321080" cy="28814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1403280" y="33336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Шенграбинское сражени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093080" y="623736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ead0776390e86f9484b718022e53ae7f_80820"/>
          <p:cNvPicPr/>
          <p:nvPr/>
        </p:nvPicPr>
        <p:blipFill>
          <a:blip r:embed="rId1"/>
          <a:stretch/>
        </p:blipFill>
        <p:spPr>
          <a:xfrm>
            <a:off x="324000" y="191628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1835280" y="333360"/>
            <a:ext cx="525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устерлицкое сражение</a:t>
            </a:r>
            <a:endParaRPr b="0" lang="en-US" sz="1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020000" y="623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уб изменивший жизнь. Встреча с Наташей Ростово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4" descr="28-6"/>
          <p:cNvPicPr/>
          <p:nvPr/>
        </p:nvPicPr>
        <p:blipFill>
          <a:blip r:embed="rId1"/>
          <a:stretch/>
        </p:blipFill>
        <p:spPr>
          <a:xfrm>
            <a:off x="395280" y="1844640"/>
            <a:ext cx="4572000" cy="3044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</p:pic>
      <p:sp>
        <p:nvSpPr>
          <p:cNvPr id="128" name="Text Box 5"/>
          <p:cNvSpPr/>
          <p:nvPr/>
        </p:nvSpPr>
        <p:spPr>
          <a:xfrm>
            <a:off x="7236000" y="6237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6" descr="Изображение 274"/>
          <p:cNvPicPr/>
          <p:nvPr/>
        </p:nvPicPr>
        <p:blipFill>
          <a:blip r:embed="rId2"/>
          <a:stretch/>
        </p:blipFill>
        <p:spPr>
          <a:xfrm>
            <a:off x="6372360" y="1844640"/>
            <a:ext cx="2060280" cy="309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нязь Андрей у постели больного Николуш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image006"/>
          <p:cNvPicPr/>
          <p:nvPr/>
        </p:nvPicPr>
        <p:blipFill>
          <a:blip r:embed="rId1"/>
          <a:stretch/>
        </p:blipFill>
        <p:spPr>
          <a:xfrm>
            <a:off x="468360" y="4508640"/>
            <a:ext cx="2017800" cy="2087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2" name="Picture 5" descr="vimBolk"/>
          <p:cNvPicPr/>
          <p:nvPr/>
        </p:nvPicPr>
        <p:blipFill>
          <a:blip r:embed="rId2"/>
          <a:stretch/>
        </p:blipFill>
        <p:spPr>
          <a:xfrm>
            <a:off x="250920" y="1989000"/>
            <a:ext cx="5400720" cy="2333880"/>
          </a:xfrm>
          <a:prstGeom prst="rect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133" name="Text Box 6"/>
          <p:cNvSpPr/>
          <p:nvPr/>
        </p:nvSpPr>
        <p:spPr>
          <a:xfrm>
            <a:off x="7236000" y="63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ятельность у Сперанского и разочарование в нем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4" descr="30-141"/>
          <p:cNvPicPr/>
          <p:nvPr/>
        </p:nvPicPr>
        <p:blipFill>
          <a:blip r:embed="rId1"/>
          <a:stretch/>
        </p:blipFill>
        <p:spPr>
          <a:xfrm>
            <a:off x="250920" y="1916280"/>
            <a:ext cx="2878200" cy="3743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7093080" y="6308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8:06:33Z</dcterms:created>
  <dc:creator>DJ_Diesel</dc:creator>
  <dc:description/>
  <dc:language>en-US</dc:language>
  <cp:lastModifiedBy>zavuch</cp:lastModifiedBy>
  <dcterms:modified xsi:type="dcterms:W3CDTF">2012-02-21T07:49:21Z</dcterms:modified>
  <cp:revision>6</cp:revision>
  <dc:subject/>
  <dc:title>Путь искания князя Андрея</dc:title>
</cp:coreProperties>
</file>