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BB14-2B77-4C7E-8A4E-DF53D870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C9F-6B2C-4F69-A82C-4926F915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C98-E1A1-419E-8161-FBF90275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C40A-C89B-43FA-8698-FDCC768B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F30A-6B4E-40F5-A21F-505F70BD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622C-1E0F-4C78-866F-437AF3E2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7DEB-A273-4F39-9E5B-2E1C6E2A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212B-2B82-4D2C-915A-61F85966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F211-5EDE-40DF-9F2D-BFC06E07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751B-38BC-4F3D-966D-0069E4CB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FDCD-84AC-4047-A878-5C044477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719-6282-4BD6-8216-5EB256A0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6575-E8E7-489C-A555-B9E972F1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C75C-7C29-4A06-BB5C-0E020C5F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4C49-98E8-472D-A66B-79390557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2C90-87E1-4A7B-BA9C-70EF87CC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C389-185B-40F6-B953-92AA2F0F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ED4B2-C216-46B0-A1D1-0D497DC4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49DE0-4CCE-4146-AB47-BD7D66DC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B78F2-F08C-473C-A2D3-8A27C699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F0940-6F56-4CDD-8CC8-34C93082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6203C-8150-497D-A656-15829594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B0E9-AF41-42CC-AA9B-56705B40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0151E-ECB4-44FA-8039-CBAEC369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CC107-C6B3-4AD2-AC78-FB631807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B6588-B8C6-4559-858F-D6B24115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6C5A9-A571-485E-B8EA-FB80326F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F234F-80EA-487F-A219-67890BFA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2AFF2-9048-4B67-A2CF-DE18B483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0F807-5ADA-48D4-BA2B-E6001B33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17D13-EFF6-4D85-8CFC-9D447A38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5AECC-F289-4FCF-96C2-6B7EAE28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0B528-5EA9-4F51-805A-92A8886D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0453-5DF8-473E-9A9F-8A6C8A51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722FF-3923-4DBD-8161-E6CFA56C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1A74F-EF18-4EFE-B5B8-DB9438E4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4428F-FCBA-410A-8849-6868F72F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4CCF5-47F7-4EDE-A795-01EB6621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74890-4005-45C1-9599-2EB33A09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9396B-D74A-4F1E-AE0D-890BC8D2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FD1EA-021E-4475-A197-E1A9CDCC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B49F1-06AD-48B3-A195-F524C7FA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DEBA4-2067-4986-AC13-7DB8E484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BC366-3216-47BA-8CA5-A03B8E74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E799-458A-4626-9BC0-6437CD3C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FB0CF-DF34-4157-80C6-E209DFB5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2B61B-8EC9-40C8-8799-E8D22F91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ACA3B-8BB8-4B83-B71B-36C9AE71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5FE81-A911-43CA-A742-853A6B14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B250F-E3C7-4669-8ADD-ED92E3F8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BB5F9-4FE9-42B9-9C70-FC4B48E3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86531-FC48-435D-9075-BC31948B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A9A94-4E10-4158-B9C4-6A1941F1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86462-0788-4D9F-BE4F-6AC2435D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E854B-9BF3-423F-9791-3C507C60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204C-D5E8-4C71-9837-7E935CB5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C9E89-A4F6-4B1E-8E9F-A295527E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DCC1-95FC-4D3B-9B58-CE743855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FE92-B7EB-4726-B617-FD53E1E5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7D57-CC0B-43A1-B502-3D0AF1EF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76"/>
            </a:gs>
            <a:gs pos="50000">
              <a:srgbClr val="66ffff"/>
            </a:gs>
            <a:gs pos="100000">
              <a:srgbClr val="2f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7045-C732-4269-A272-76D5074CFF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76"/>
            </a:gs>
            <a:gs pos="50000">
              <a:srgbClr val="66ffff"/>
            </a:gs>
            <a:gs pos="100000">
              <a:srgbClr val="2f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8622-37E9-49EA-8A2F-A5A36F9123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77AA-8A0B-4276-BA5C-FEF00C7CD8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76"/>
            </a:gs>
            <a:gs pos="50000">
              <a:srgbClr val="66ffff"/>
            </a:gs>
            <a:gs pos="100000">
              <a:srgbClr val="2f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C24D-1549-49E0-8018-C9D0E010D0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85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1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22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1054-5170-44DD-942E-03F6B1BADFA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9900"/>
                </a:solidFill>
                <a:latin typeface="Arial"/>
              </a:rPr>
              <a:t>Брэйн - рин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52388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математический бой для старшеклассников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MOTORCRS"/>
          <p:cNvPicPr/>
          <p:nvPr/>
        </p:nvPicPr>
        <p:blipFill>
          <a:blip r:embed="rId1"/>
          <a:stretch/>
        </p:blipFill>
        <p:spPr>
          <a:xfrm>
            <a:off x="2895480" y="3581280"/>
            <a:ext cx="36957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1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ак называется направленный отрезок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то значит «решить уравнение»?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3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колько осей симметрии имеет квадрат?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781680" y="3581280"/>
            <a:ext cx="152424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4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ревно пилят на 10 частей. Сколько надо сделать распилов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ожет ли угол параллелограмма быть равным 200˚?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4"/>
          <p:cNvSpPr/>
          <p:nvPr/>
        </p:nvSpPr>
        <p:spPr>
          <a:xfrm>
            <a:off x="3429000" y="4114800"/>
            <a:ext cx="2895480" cy="1143000"/>
          </a:xfrm>
          <a:prstGeom prst="parallelogram">
            <a:avLst>
              <a:gd name="adj" fmla="val 6333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6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называется бесконечная десятичная дробь, в которой, начиная с некоторого места, повторяется определенная группа цифр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3 раунд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67652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10-е классы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V25ANI"/>
          <p:cNvPicPr/>
          <p:nvPr/>
        </p:nvPicPr>
        <p:blipFill>
          <a:blip r:embed="rId1"/>
          <a:stretch/>
        </p:blipFill>
        <p:spPr>
          <a:xfrm>
            <a:off x="3429000" y="335268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1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ак называется прямая, имеющая с окружностью одну общую точку?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ак называется график функции тангенс?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3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колько осей симметрии имеет ромб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4"/>
          <p:cNvSpPr/>
          <p:nvPr/>
        </p:nvSpPr>
        <p:spPr>
          <a:xfrm rot="18405000">
            <a:off x="3412080" y="3718800"/>
            <a:ext cx="2093760" cy="1584360"/>
          </a:xfrm>
          <a:prstGeom prst="parallelogram">
            <a:avLst>
              <a:gd name="adj" fmla="val 330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1 раунд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67652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8-е классы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6" descr="V25ANI"/>
          <p:cNvPicPr/>
          <p:nvPr/>
        </p:nvPicPr>
        <p:blipFill>
          <a:blip r:embed="rId1"/>
          <a:stretch/>
        </p:blipFill>
        <p:spPr>
          <a:xfrm>
            <a:off x="3429000" y="335268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4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мя французского математика и философа, благодаря работам которого возник метод координат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ука, изучающая свойства фигур в пространстве.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6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ак называется величина, характеризующая размер геометрической фигуры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Полуфинал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67652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8 – 9 -е классы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4" descr="V25ANI"/>
          <p:cNvPicPr/>
          <p:nvPr/>
        </p:nvPicPr>
        <p:blipFill>
          <a:blip r:embed="rId1"/>
          <a:stretch/>
        </p:blipFill>
        <p:spPr>
          <a:xfrm>
            <a:off x="3429000" y="335268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1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 каких из этих 4-угольников диагонали перпендикулярн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вадрат, ромб, параллелограм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айдите число, если половина – треть его.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3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ервое число натурального ряда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4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озере росли лилии. Каждый день их число удваивалось, и на 20-ый день заросло все озеро. На какой день заросла половина озера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ему равен 1 пуд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6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вое пошли – пять грибов нашли. Сколько найдут, если четверо пойдут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1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ак называется сумма одночленов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Полуфинал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167652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10 – 11 -е классы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4" descr="V25ANI"/>
          <p:cNvPicPr/>
          <p:nvPr/>
        </p:nvPicPr>
        <p:blipFill>
          <a:blip r:embed="rId1"/>
          <a:stretch/>
        </p:blipFill>
        <p:spPr>
          <a:xfrm>
            <a:off x="3429000" y="335268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1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колько осей симметрии имеет прямоугольник?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3276720" y="3581280"/>
            <a:ext cx="274320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ва мальчика хотели купить книгу. Одному из них не хватило 27 копеек, а второму – одной копейки. Они сложили свои деньги, но денег все-таки не хватило. Сколько стоила книга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3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Зачем нужна рейсшина?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4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следнее число натурального ряда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ычислить сумму всех целых чисел от 1 до 20.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+2+3+…+18+19+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6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2sinx = 3             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cosx = 0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sin(</a:t>
            </a: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/2 +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 = 0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е из этих уравнений решений не имеют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Финал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4" descr="V25ANI"/>
          <p:cNvPicPr/>
          <p:nvPr/>
        </p:nvPicPr>
        <p:blipFill>
          <a:blip r:embed="rId1"/>
          <a:stretch/>
        </p:blipFill>
        <p:spPr>
          <a:xfrm>
            <a:off x="3429000" y="335268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1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то первая русская женщина – математик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колько осей симметрии имеет равносторонний треугольник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Что такое астролябия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лный бидон с молоком весит 30 кг, а наполненный наполовину – 15,5 кг. Сколько весит пустой бидон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 каком веке появились счеты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называется натуральное число, которое делится без остатка на данное число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разит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в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4"/>
              <p:cNvSpPr txBox="1"/>
              <p:nvPr/>
            </p:nvSpPr>
            <p:spPr>
              <a:xfrm>
                <a:off x="3809880" y="1295280"/>
                <a:ext cx="12128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6"/>
              <p:cNvSpPr txBox="1"/>
              <p:nvPr/>
            </p:nvSpPr>
            <p:spPr>
              <a:xfrm>
                <a:off x="5867280" y="1295280"/>
                <a:ext cx="167976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м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Спасибо 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за участие!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Победителям – ура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5" descr="FROG04"/>
          <p:cNvPicPr/>
          <p:nvPr/>
        </p:nvPicPr>
        <p:blipFill>
          <a:blip r:embed="rId1"/>
          <a:stretch/>
        </p:blipFill>
        <p:spPr>
          <a:xfrm>
            <a:off x="3962520" y="3352680"/>
            <a:ext cx="164916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3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акой знак надо поставить между двойкой и тройкой, чтобы получилось число больше 2 и меньше 3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4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исловая последовательно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, 1, 4, 1, 5, 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а некоторой закономерностью. Какое число в ней будет следующи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 семье шесть дочерей. Каждая имеет брата. Сколько всего детей в семь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прос № 6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.  2х – 3 = 0              2).  0</a:t>
            </a: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 = 3                                    3).  0</a:t>
            </a: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е их этих уравнений не имеют решений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2 раунд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67652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9-е классы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4" descr="V25ANI"/>
          <p:cNvPicPr/>
          <p:nvPr/>
        </p:nvPicPr>
        <p:blipFill>
          <a:blip r:embed="rId1"/>
          <a:stretch/>
        </p:blipFill>
        <p:spPr>
          <a:xfrm>
            <a:off x="3429000" y="335268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ba</cp:lastModifiedBy>
  <dcterms:modified xsi:type="dcterms:W3CDTF">2012-02-21T17:10:40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