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437-4D7A-45DD-B747-6241074C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DB2-459A-407D-B216-250BA27F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2CC-AEF6-4DD9-A499-A2C489FA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941-B45B-49E7-8817-0E66B119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52E4-FAFD-4263-9151-27E29BE3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2454-40B0-4C23-AED7-5D182180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F027-EFD5-46B0-8126-A85F4AF8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EE82-0BB3-4FC7-A4FF-F15C01DE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045E-105A-4A59-BB2A-158985DE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4B20-DF51-4BE9-A638-1B9E6478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07F1-652F-4BA7-A314-674869CE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CBB-EAB7-406D-99B4-6C0AE026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D9F0-FBFA-41A6-B142-C3041B5A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D795-3581-4660-9FB8-ED47F50B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9CA8-9B1B-48CF-A583-78122CF2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EA4F-71D5-43D4-A43F-64290A67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146E-EB01-45FC-924D-0AC127D4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A15-BFBD-495C-9613-2BB788B6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918-F6E1-4E8A-B4B2-C5FF13E4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760-69DC-4A63-88F3-20C0389A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72C-872A-4A0C-B6A8-8291B9BE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B23-1347-4DC8-A36B-A99A6A8E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D22-4C6C-4AE4-9082-4CF4AC4C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F2D-41A2-4CCD-BA43-8F8A0059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993366">
                  <a:alpha val="50196"/>
                </a:srgbClr>
              </a:gs>
              <a:gs pos="100000">
                <a:srgbClr val="5e1f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17070f"/>
              </a:gs>
              <a:gs pos="100000">
                <a:srgbClr val="99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238F-6239-44CD-AF80-9CC2521AD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2f"/>
            </a:gs>
            <a:gs pos="5000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5e1f3e"/>
              </a:gs>
              <a:gs pos="50000">
                <a:srgbClr val="993366">
                  <a:alpha val="50196"/>
                </a:srgbClr>
              </a:gs>
              <a:gs pos="100000">
                <a:srgbClr val="5e1f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17070f"/>
              </a:gs>
              <a:gs pos="100000">
                <a:srgbClr val="99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2A89-668C-4715-8958-E5CBED929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2560" cy="14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cbcbcb"/>
                </a:solidFill>
                <a:latin typeface="Times New Roman"/>
              </a:rPr>
              <a:t>Das bin ich.</a:t>
            </a:r>
            <a:endParaRPr b="0" lang="en-US" sz="9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76360" y="1052640"/>
            <a:ext cx="381636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bcbcb"/>
                </a:solidFill>
                <a:latin typeface="Times New Roman"/>
              </a:rPr>
              <a:t>Ich heiße Gregor. Ich bin 6 Jahre alt. Ich lerne nicht. Ich gehe in den Kindergarten. Ich bin fleißig, hilfsbereit. Ich arbeite viel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6926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87640" y="1268280"/>
            <a:ext cx="41050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bcbcb"/>
                </a:solidFill>
                <a:latin typeface="Times New Roman"/>
              </a:rPr>
              <a:t>Ich heiße Marie. Ich bin 8 Jahre alt. Ich lerne in der Klasse 3. Ich bin fleißig, jung. Ich lerne gut. Ich arbeite viel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19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609480"/>
            <a:ext cx="4176720" cy="598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bcbcb"/>
                </a:solidFill>
                <a:latin typeface="Times New Roman"/>
              </a:rPr>
              <a:t>Ich heiße Jörg. Ich bin </a:t>
            </a:r>
            <a:br>
              <a:rPr sz="3200"/>
            </a:br>
            <a:r>
              <a:rPr b="0" lang="de-DE" sz="3200" spc="-1" strike="noStrike">
                <a:solidFill>
                  <a:srgbClr val="cbcbcb"/>
                </a:solidFill>
                <a:latin typeface="Times New Roman"/>
              </a:rPr>
              <a:t>7 Jahre alt. Ich lerne in der Klasse 1. Ich bin fleißig,  hilfsbereit.  Ich lerne gut. Ich arbeite viel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16280" y="189000"/>
            <a:ext cx="43149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6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bcbcb"/>
                </a:solidFill>
                <a:latin typeface="Times New Roman"/>
              </a:rPr>
              <a:t>Ich heiße Katrin. Ich bin 10 Jahre alt. Ich lerne in der Klasse 4. Ich bin fleißig, hilfsbereit. Ich lerne gut. Ich arbeite viel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26160" cy="46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4248000" cy="584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bcbcb"/>
                </a:solidFill>
                <a:latin typeface="Times New Roman"/>
              </a:rPr>
              <a:t>Ich heiße Johanna. Ich bin 8 Jahre alt. Ich lerne in der Klasse 4. Ich bin fleißig und hilfsbereit. Ich lerne gut. Ich arbeite viel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67320" y="189000"/>
            <a:ext cx="43639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3960720" cy="591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bcbcb"/>
                </a:solidFill>
                <a:latin typeface="Times New Roman"/>
              </a:rPr>
              <a:t>Ich heiße Werner. Ich bin 9 Jahre alt. Ich lerne in der Klasse 4. Ich bin fleißig und hilfsbereit. Ich lerne gut. Ich arbeite viel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498920" y="189000"/>
            <a:ext cx="4438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bcbcb"/>
                </a:solidFill>
                <a:latin typeface="Times New Roman"/>
              </a:rPr>
              <a:t>Ich heiße das tapfere Schneiderlein. Ich bin 20 Jahre alt. Ich lerne nicht. Ich bin fleißig. Ich arbeite viel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12144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5113440" cy="61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bcbcb"/>
                </a:solidFill>
                <a:latin typeface="Times New Roman"/>
              </a:rPr>
              <a:t>Ich heiße Paula. Ich bin 9 Jahre alt. Ich lerne in der Klasse 4. Ich bin fleißig. Ich lerne gut. Ich arbeite viel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40798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14920" cy="584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bcbcb"/>
                </a:solidFill>
                <a:latin typeface="Times New Roman"/>
              </a:rPr>
              <a:t>Ich heiße Veronika. Ich bin 7 Jahre alt. Ich lerne in der Klasse 1. Ich bin fleißig; nett. Ich lerne gut. Ich arbeite viel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02240" y="189000"/>
            <a:ext cx="4319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32360" y="609480"/>
            <a:ext cx="3960720" cy="605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bcbcb"/>
                </a:solidFill>
                <a:latin typeface="Times New Roman"/>
              </a:rPr>
              <a:t>Ich heiße Peter. Ich bin 8 Jahre alt. Ich lerne in der Klasse 2.</a:t>
            </a:r>
            <a:br>
              <a:rPr sz="3200"/>
            </a:br>
            <a:r>
              <a:rPr b="0" lang="de-DE" sz="3200" spc="-1" strike="noStrike">
                <a:solidFill>
                  <a:srgbClr val="cbcbcb"/>
                </a:solidFill>
                <a:latin typeface="Times New Roman"/>
              </a:rPr>
              <a:t>Ich bin fleißig, freundlich. Ich lerne gut. Ich arbeite viel.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565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609480"/>
            <a:ext cx="3744720" cy="598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bcbcb"/>
                </a:solidFill>
                <a:latin typeface="Times New Roman"/>
              </a:rPr>
              <a:t>Ich heiße Karin. Ich bin 9 Jahre alt. Ich lerne in der Klasse 3. Ich bin fleißig, nett. Ich lerne gut. Ich arbeite viel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92480" y="115920"/>
            <a:ext cx="48610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bcbcb"/>
                </a:solidFill>
                <a:latin typeface="Times New Roman"/>
              </a:rPr>
              <a:t>Ich heiße Sven. Ich bin 5 Jahre alt. Ich lerne nicht. Ich bin fleißig, klein. Ich arbeite viel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bcbcb"/>
                </a:solidFill>
                <a:latin typeface="Times New Roman"/>
              </a:rPr>
              <a:t>Das ist Hugo. Ich bin 4 Jahre alt. Ich lerne nicht. Ich gehe in den Kindergarten. Ich bin fleißig, nett. Ich arbeite viel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11200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46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32000" y="1052640"/>
            <a:ext cx="403236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bcbcb"/>
                </a:solidFill>
                <a:latin typeface="Times New Roman"/>
              </a:rPr>
              <a:t>Ich heiße Lilo. Ich bin 7 Jahre alt. Ich lerne in der Klasse 2. Ich bin fleißig, hilfsbereit. Ich lerne gut. Ich arbeite viel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41194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8:43:34Z</dcterms:created>
  <dc:creator>***</dc:creator>
  <dc:description/>
  <dc:language>en-US</dc:language>
  <cp:lastModifiedBy>***</cp:lastModifiedBy>
  <dcterms:modified xsi:type="dcterms:W3CDTF">2010-12-10T19:15:54Z</dcterms:modified>
  <cp:revision>2</cp:revision>
  <dc:subject/>
  <dc:title>Слайд 1</dc:title>
</cp:coreProperties>
</file>