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DEA-A29B-4F50-B878-61472B40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269-3732-4D1B-ACBE-8AD36993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FC7-E551-4DBA-961B-128A331C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838-0665-47C8-85B7-E6BC4B60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1831-21BD-40E7-A019-E6D255FE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1F2-B3E5-4A4A-89CD-A9A3AF8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DD4C-8921-44B6-8AC3-8989599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F697-FBF7-4810-9602-0107CDB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107-49BF-48C4-A739-26249120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4E7-C717-4C96-8BB0-B58BA53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55CA-DCF9-4868-AAE4-F2BB324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DF4-A303-4325-9061-316278B9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619-5DFE-4B1E-A011-BC67309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B55-EF5D-4DC6-B1C3-D9A71C9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DA1-361B-476F-BC28-F71EC5AF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EFC-DC27-434E-B12C-165872B9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046A-DB54-462C-A40C-3DD1BF48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814-9D9D-4A4A-AEA3-95F7728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F6F-E1A4-4153-86F2-1C0A811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988-D7AA-4264-A085-B45E1C28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63E-77FC-45B6-856F-31B094A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680-0A1D-4B72-859F-4296311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8B2-5D86-40C5-A5CA-1810C370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055-B0FB-4C1B-91CC-74660DD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9C34-FFCC-4C45-B619-A15A4605336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E42F-DD9D-4B5E-A1AC-AE0AC462432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21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4b3384"/>
                </a:solidFill>
                <a:latin typeface="Times New Roman"/>
              </a:rPr>
              <a:t>Es ist Winter.</a:t>
            </a:r>
            <a:endParaRPr b="0" lang="en-US" sz="88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47320"/>
            <a:ext cx="7739280" cy="16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Die Wintermonate heißen Dezember, Januar, Februar. Alles ist weiß. Überall liegt Schnee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553440" cy="471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Es schneit. Alles ist weiß. Überall liegt Schnee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247320"/>
            <a:ext cx="766620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Das Wetter ist gut. </a:t>
            </a:r>
            <a:br>
              <a:rPr sz="4000"/>
            </a:b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kalt. Alles ist weiß. Alles ist schön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720" y="247680"/>
            <a:ext cx="3633840" cy="620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Anna und ihre Mutter laufen Ski. Es ist Winter. Es schneit. Alles ist weiß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3762360" cy="561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5300280"/>
            <a:ext cx="759492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 in Sotschi.  </a:t>
            </a:r>
            <a:br>
              <a:rPr sz="4000"/>
            </a:b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schneit. Alles ist weiß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56000" y="247680"/>
            <a:ext cx="2986200" cy="570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Es ist Winter. Es schneit. Es ist kalt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4692600" cy="554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Überall liegt Schnee. Die Kinder bauen einen Schneemann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561440" cy="463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Bald kommt Neujahr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40000" y="247320"/>
            <a:ext cx="3202200" cy="584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Klaus und Helga bauen einen Schneemann. Der Schneemann ist schön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438156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67280" y="247320"/>
            <a:ext cx="3275280" cy="53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Es ist Winter. Das Wetter ist gut. Es ist kalt. Alles ist weiß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4506840" cy="511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b3384"/>
                </a:solidFill>
                <a:latin typeface="Times New Roman"/>
              </a:rPr>
              <a:t>Es ist Winter.  Es ist kalt. </a:t>
            </a:r>
            <a:br>
              <a:rPr sz="4000"/>
            </a:br>
            <a:r>
              <a:rPr b="1" lang="de-DE" sz="4000" spc="-1" strike="noStrike">
                <a:solidFill>
                  <a:srgbClr val="4b3384"/>
                </a:solidFill>
                <a:latin typeface="Times New Roman"/>
              </a:rPr>
              <a:t>Alles ist weiß. 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 in Prostokwaschino. </a:t>
            </a:r>
            <a:br>
              <a:rPr sz="4000"/>
            </a:b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schneit. Es ist kalt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985080" cy="528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Die Kinder laufen Schlittschuh im Winter. Das Wetter ist gut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403280"/>
            <a:ext cx="6480360" cy="53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Die Wintermonate heißen Dezember, Januar, Februar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24000" y="247320"/>
            <a:ext cx="3418200" cy="51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Im Hof steht ein schöner Schneemann. Er heißt Schneefranzel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435780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Es ist kalt. Es schneit. Alles ist weiß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345440" cy="482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247680"/>
            <a:ext cx="76662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ist Winter. Das Wetter ist gut. </a:t>
            </a:r>
            <a:br>
              <a:rPr sz="4000"/>
            </a:br>
            <a:r>
              <a:rPr b="0" lang="de-DE" sz="4000" spc="-1" strike="noStrike">
                <a:solidFill>
                  <a:srgbClr val="4b3384"/>
                </a:solidFill>
                <a:latin typeface="Times New Roman"/>
              </a:rPr>
              <a:t>Es schneit. Alles ist weiß. Überall liegt Schnee.</a:t>
            </a: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697800" cy="4873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269712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4b3384"/>
                </a:solidFill>
                <a:latin typeface="Times New Roman"/>
              </a:rPr>
              <a:t>Das ist Monika. Sie läuft Ski. Es ist Winter.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43360" y="260280"/>
            <a:ext cx="515304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8:47:48Z</dcterms:created>
  <dc:creator>***</dc:creator>
  <dc:description/>
  <dc:language>en-US</dc:language>
  <cp:lastModifiedBy>***</cp:lastModifiedBy>
  <dcterms:modified xsi:type="dcterms:W3CDTF">2010-11-27T19:15:28Z</dcterms:modified>
  <cp:revision>2</cp:revision>
  <dc:subject/>
  <dc:title>Es ist Winter.  Es ist kalt.  Alles ist weiß. </dc:title>
</cp:coreProperties>
</file>