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3FD38-1189-4E64-B9BF-A65E11C11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22133-25AF-4A45-BE7D-3E594BA5A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31AD7-9D19-46F1-B7AE-575421DB1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5DD25-FAB8-46E2-BCB0-287C34279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51418-F40C-486A-A291-D385CF91C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35571-7018-40A6-91F6-88E793EAA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5BA93-7C27-4A55-B0B5-EC80AAC95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4D2AB-76B2-40CA-B9B0-91FCDF584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5659A-02D9-49F1-8B1C-DF596ECD8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87213-6246-4AF0-86AF-D02B1046C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00487-BA2D-42B7-A8AD-1C3D1CC50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2AA2B-4485-4F0E-B329-4688DEDC3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28F71-6FDB-4876-B9B7-EA29A3A562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0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200" spc="-1" strike="noStrike">
                <a:solidFill>
                  <a:srgbClr val="000000"/>
                </a:solidFill>
                <a:latin typeface="Arial"/>
              </a:rPr>
              <a:t>Familie - 1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Hier ist eine Familie. Die Familie ist nicht besonders groß. Das sind Vater, Mutter und zwei Kinder: ein Junge und ein Mädch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755640" y="1628640"/>
            <a:ext cx="7632720" cy="511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000" y="115920"/>
            <a:ext cx="849636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Hier ist ein Mädchen. Das Mädchen heißt Grete. Sie ist in einem Sportlager. Sie ist Sabines Schwe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1042920" y="1558800"/>
            <a:ext cx="7056360" cy="529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Hier ist ein Mann. Der Mann ist Saschas Onkel. Er lebt in Russlan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1187280" y="1484280"/>
            <a:ext cx="6553440" cy="532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3178080" cy="63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Hier ist ein Mädchen. Das Mädchen heißt Marlies Krause. Sie ist Sabines Schwes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3660840" y="260280"/>
            <a:ext cx="5278320" cy="648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96000" y="274680"/>
            <a:ext cx="3240000" cy="63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Hier sind Lars und seine Mutter Frau Helga. </a:t>
            </a:r>
            <a:br>
              <a:rPr sz="3200"/>
            </a:b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Sie leben in Münch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179280" y="115920"/>
            <a:ext cx="568008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5229360"/>
            <a:ext cx="807552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Das ist ein Mädchen. Es heißt Paula. </a:t>
            </a:r>
            <a:br>
              <a:rPr sz="3200"/>
            </a:b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Sie ist mein Schwesterch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3348000" y="115920"/>
            <a:ext cx="5600880" cy="53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00720" y="274680"/>
            <a:ext cx="4186080" cy="632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Hier ist ein Junge. Er ist mein Brüderchen. Er heißt Jörg. Er ist fünf Jahre al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431496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Hier sind Michael und sein Opa Herr Schwarz. 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Sie spielen in Garten. Michael ist klein 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und sein Opa ist groß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11280" y="1413000"/>
            <a:ext cx="7920000" cy="52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156000" y="274680"/>
            <a:ext cx="2987640" cy="632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Hier sind  Marie und ihre Mutter. Die Mutter heißt Margare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590544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Hier ist ein Mann. Der Mann ist Christines Vater. Er heißt Herr Müll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971640" y="1557360"/>
            <a:ext cx="6840360" cy="51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24000" y="274680"/>
            <a:ext cx="3240360" cy="632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Hier ist eine Frau. Die Frau ist Pauls Mutter. Sie heißt Frau Poh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250920" y="260280"/>
            <a:ext cx="5457600" cy="61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219280" y="274680"/>
            <a:ext cx="3816360" cy="63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Das ist meine Schwester. Sie heißt Veronika. Meine Schwester ist nicht groß. Sie ist fünf Jahre al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496440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0560" y="274680"/>
            <a:ext cx="4105080" cy="63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Hier ist ein Mann. Der Mann heißt Herr Braun. Er ist Monikas Va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419720" y="189000"/>
            <a:ext cx="456228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0560" y="274680"/>
            <a:ext cx="4033800" cy="63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Das ist eine Familie. Die Familie ist nicht groß. Das sind Vater, Mutter und ein Kind. Das ist ein Mädchen. Es heißt Ann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4329000" y="189000"/>
            <a:ext cx="462780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24000" y="274680"/>
            <a:ext cx="3419640" cy="63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Hier ist ein Mann. Der Mann heißt Herr Martin. Er ist Peters Vater. Herr Martin lebt in Köl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08000" y="189000"/>
            <a:ext cx="563724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03280" y="274680"/>
            <a:ext cx="3683160" cy="63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Hier ist ein Mädchen. Es ist Helgas Schwester. Sie heißt Paul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480564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7640" y="274320"/>
            <a:ext cx="3887640" cy="646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Karin und Anna sind Schwestern. Sie leben in Moskau. Sie sind schon groß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048200" y="189000"/>
            <a:ext cx="495288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4T18:30:51Z</dcterms:created>
  <dc:creator>***</dc:creator>
  <dc:description/>
  <dc:language>en-US</dc:language>
  <cp:lastModifiedBy>***</cp:lastModifiedBy>
  <dcterms:modified xsi:type="dcterms:W3CDTF">2011-02-04T18:58:44Z</dcterms:modified>
  <cp:revision>2</cp:revision>
  <dc:subject/>
  <dc:title>Слайд 1</dc:title>
</cp:coreProperties>
</file>