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BBC-4AD5-4E7D-BA2F-BEB3891A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0CE-FBEE-43AD-807A-9C7153A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9D-3B13-48AC-BE2F-0A3622F4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96C-FA5B-4B11-98D0-E94C448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3A0D-41E8-4048-B077-6D110157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077-EF63-4656-A2E5-548B3E5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9F29-E792-4B6F-9A3B-7260277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BF6D-15B0-430E-ABDF-E12F6830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83C6-3982-455E-925D-0C35B0D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FDB-040C-4AA8-967A-5C215167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7C4-2C04-4DF7-A186-4CCC143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EA8-9331-4F43-9EA5-231C5496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0C77-28A8-4998-B5E7-953A85D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189C-4C10-43B9-B885-FF7B28B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54EE-FE46-4C38-B8D2-4158F5FA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A31-034C-40A6-A428-9968376C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FB85-92EF-4A4C-B4E1-C37E55DD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B5D-79B9-4855-94E7-E23A97F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118-0B1D-4CCD-A1D2-C6074FB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AE5-3590-4D97-ABED-AE1101C0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F02-C0CE-4387-9331-BA071EA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AD-EFB1-47DD-85B0-F1271FB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9B1-F605-4A6E-8E1B-F80E9FD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98C-8351-4121-A993-E0A6232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CBE1-C13E-483C-A602-1C06F0F8F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A95-3BFB-4D2A-8FEA-D85F9DB992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втор работы: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Шарипова Гульшат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7200" y="3284280"/>
            <a:ext cx="79311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0066"/>
                </a:solidFill>
                <a:latin typeface="Tempus Sans ITC"/>
              </a:rPr>
              <a:t>Так ли вредна газировка, как нам говорят взрослы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WordArt 5"/>
          <p:cNvSpPr txBox="1"/>
          <p:nvPr/>
        </p:nvSpPr>
        <p:spPr>
          <a:xfrm>
            <a:off x="1187280" y="33336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азированная вода -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ед  или  польза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11"/>
          <p:cNvSpPr txBox="1"/>
          <p:nvPr/>
        </p:nvSpPr>
        <p:spPr>
          <a:xfrm>
            <a:off x="1979640" y="189000"/>
            <a:ext cx="518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ыт №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2"/>
          <p:cNvSpPr txBox="1"/>
          <p:nvPr/>
        </p:nvSpPr>
        <p:spPr>
          <a:xfrm>
            <a:off x="755640" y="5373720"/>
            <a:ext cx="30956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РАЙ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1" name="WordArt 13"/>
          <p:cNvSpPr txBox="1"/>
          <p:nvPr/>
        </p:nvSpPr>
        <p:spPr>
          <a:xfrm>
            <a:off x="5148360" y="5516640"/>
            <a:ext cx="302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КА-КО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2" name="Picture 29" descr="P1010258"/>
          <p:cNvPicPr/>
          <p:nvPr/>
        </p:nvPicPr>
        <p:blipFill>
          <a:blip r:embed="rId3"/>
          <a:stretch/>
        </p:blipFill>
        <p:spPr>
          <a:xfrm>
            <a:off x="457200" y="2354400"/>
            <a:ext cx="4038480" cy="3017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0" descr="P1010257"/>
          <p:cNvPicPr/>
          <p:nvPr/>
        </p:nvPicPr>
        <p:blipFill>
          <a:blip r:embed="rId4"/>
          <a:stretch/>
        </p:blipFill>
        <p:spPr>
          <a:xfrm>
            <a:off x="4648320" y="235440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422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6000" spc="-1" strike="noStrike">
                <a:solidFill>
                  <a:srgbClr val="fffe00"/>
                </a:solidFill>
                <a:latin typeface="Impact"/>
              </a:rPr>
              <a:t>Опыт № 2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Picture 10" descr="P1010261"/>
          <p:cNvPicPr/>
          <p:nvPr/>
        </p:nvPicPr>
        <p:blipFill>
          <a:blip r:embed="rId1"/>
          <a:stretch/>
        </p:blipFill>
        <p:spPr>
          <a:xfrm>
            <a:off x="2266920" y="2062080"/>
            <a:ext cx="44658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9280" y="4365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ка-Кол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пр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а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971640" y="620640"/>
            <a:ext cx="6912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НАПИТКИ, СОДЕРЖАЩ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АСПАРТ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8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13"/>
          <p:cNvSpPr txBox="1"/>
          <p:nvPr/>
        </p:nvSpPr>
        <p:spPr>
          <a:xfrm>
            <a:off x="1547640" y="260280"/>
            <a:ext cx="612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ез 2 дн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9" name="Picture 20" descr="P1010274"/>
          <p:cNvPicPr/>
          <p:nvPr/>
        </p:nvPicPr>
        <p:blipFill>
          <a:blip r:embed="rId1"/>
          <a:stretch/>
        </p:blipFill>
        <p:spPr>
          <a:xfrm>
            <a:off x="4648320" y="2354400"/>
            <a:ext cx="4038480" cy="345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P1010275"/>
          <p:cNvPicPr/>
          <p:nvPr/>
        </p:nvPicPr>
        <p:blipFill>
          <a:blip r:embed="rId2"/>
          <a:stretch/>
        </p:blipFill>
        <p:spPr>
          <a:xfrm>
            <a:off x="457200" y="2354400"/>
            <a:ext cx="4041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0"/>
          <p:cNvSpPr txBox="1"/>
          <p:nvPr/>
        </p:nvSpPr>
        <p:spPr>
          <a:xfrm>
            <a:off x="468360" y="836640"/>
            <a:ext cx="835164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ВОТ ЧТО ПРОИЗОШЛО В ТРЕТЬ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МИС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92" name="Picture 36" descr="P1010283"/>
          <p:cNvPicPr/>
          <p:nvPr/>
        </p:nvPicPr>
        <p:blipFill>
          <a:blip r:embed="rId1"/>
          <a:stretch/>
        </p:blipFill>
        <p:spPr>
          <a:xfrm>
            <a:off x="1476360" y="13622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68000" y="476280"/>
            <a:ext cx="8351640" cy="6121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empus Sans ITC"/>
              </a:rPr>
              <a:t>ВАМ  ВСЕ  ЕЩЕ ХОЧЕТСЯ  БУТЫЛОЧКУ  «КОКА-КОЛЫ»?????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0:28:15Z</dcterms:created>
  <dc:creator>User</dc:creator>
  <dc:description/>
  <dc:language>en-US</dc:language>
  <cp:lastModifiedBy>Венера</cp:lastModifiedBy>
  <dcterms:modified xsi:type="dcterms:W3CDTF">2012-02-21T14:29:15Z</dcterms:modified>
  <cp:revision>19</cp:revision>
  <dc:subject/>
  <dc:title>Газированная вода -  вред и польза</dc:title>
</cp:coreProperties>
</file>