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BCC82-1034-4D7C-AD19-24C8D7C9A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FE572-9DFA-4849-AB4F-0A19683BA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CA5C3-52EE-4B8C-9A9D-4706F09FF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6C154-2EEA-4C10-A0FB-A210DFE92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47671-DAE8-4C7F-B789-5C641AFF6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15043-2A25-4871-926F-E397B40C7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6E1C1-9092-4C0B-8203-2EBE0DB1E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ED591-6AC1-4CE2-A79B-D2D96436F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208EE-B820-4F15-93B8-6C7E8C78E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1FB44-20E3-4B40-8B1E-5D436C8BD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DE627-D738-464B-8A5B-27D43D7D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15020-6B44-4517-B8FC-89EF248AD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03C06-475F-4E8D-A76A-82DA90BA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2D072-A801-42D8-942B-D9606061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00BF5-DB8D-41C8-A243-5FD9C9CB7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793B9-68CD-4EB7-A47E-B17C6E2A4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02379-F031-4F5F-8D8A-0C04D9397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4B3EC-7BFC-4D1D-B63B-33AE11D50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FAF64-457F-4109-A08A-269B96F69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E2690-4E95-4B5C-9A1A-B2D8A7CF6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45FAC-BA40-43A4-9CA0-F8A70960E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D8C21-F598-49F4-939F-5E852286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B999E-1F13-46D6-BB37-573E9CF0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DF89E-CAB6-4B72-9884-2247B16F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7f3f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05813-28F4-4044-8CCE-EF56AC474EFC}" type="slidenum">
              <a:rPr b="0" lang="ru-RU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d5958"/>
                  </a:gs>
                  <a:gs pos="100000">
                    <a:srgbClr val="8a636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d5958"/>
                  </a:gs>
                  <a:gs pos="100000">
                    <a:srgbClr val="8a636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05050"/>
                  </a:gs>
                  <a:gs pos="100000">
                    <a:srgbClr val="8a63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a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8565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8a6362"/>
                </a:gs>
                <a:gs pos="100000">
                  <a:srgbClr val="7453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4444"/>
                </a:gs>
                <a:gs pos="100000">
                  <a:srgbClr val="8a6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7f3f3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d5958"/>
                  </a:gs>
                  <a:gs pos="100000">
                    <a:srgbClr val="8a636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d5958"/>
                  </a:gs>
                  <a:gs pos="100000">
                    <a:srgbClr val="8a636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05050"/>
                  </a:gs>
                  <a:gs pos="100000">
                    <a:srgbClr val="8a63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a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8565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8a6362"/>
                </a:gs>
                <a:gs pos="100000">
                  <a:srgbClr val="7453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4444"/>
                </a:gs>
                <a:gs pos="100000">
                  <a:srgbClr val="8a6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8c1ba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7f3f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7f3f3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AF3F4-A9B7-43D5-8417-9986BDF6A823}" type="slidenum">
              <a:rPr b="0" lang="ru-RU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600" spc="-1" strike="noStrike">
                <a:solidFill>
                  <a:srgbClr val="d8c1ba"/>
                </a:solidFill>
                <a:latin typeface="Garamond"/>
              </a:rPr>
              <a:t>Haustiere</a:t>
            </a:r>
            <a:endParaRPr b="1" lang="en-US" sz="9600" spc="-1" strike="noStrike">
              <a:solidFill>
                <a:srgbClr val="d8c1ba"/>
              </a:solidFill>
              <a:latin typeface="Garamond"/>
            </a:endParaRPr>
          </a:p>
        </p:txBody>
      </p:sp>
    </p:spTree>
  </p:cSld>
  <p:transition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d8c1ba"/>
                </a:solidFill>
                <a:latin typeface="Garamond"/>
              </a:rPr>
              <a:t>Das sind  vier Hühner. Sie heißen Lulu, Lili, Lolo, Lala.</a:t>
            </a: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7127640" cy="53467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d8c1ba"/>
                </a:solidFill>
                <a:latin typeface="Garamond"/>
              </a:rPr>
              <a:t>Das ist Juljas Kälbchen Flecki. </a:t>
            </a:r>
            <a:br>
              <a:rPr sz="4000"/>
            </a:br>
            <a:r>
              <a:rPr b="1" lang="de-DE" sz="4000" spc="-1" strike="noStrike">
                <a:solidFill>
                  <a:srgbClr val="d8c1ba"/>
                </a:solidFill>
                <a:latin typeface="Garamond"/>
              </a:rPr>
              <a:t>Flecki ist nicht groß aber schön.</a:t>
            </a: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979640" y="1557360"/>
            <a:ext cx="4935600" cy="51847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d8c1ba"/>
                </a:solidFill>
                <a:latin typeface="Garamond"/>
              </a:rPr>
              <a:t>Das ist Juljas Schaf Weißi. </a:t>
            </a:r>
            <a:br>
              <a:rPr sz="4000"/>
            </a:br>
            <a:r>
              <a:rPr b="1" lang="de-DE" sz="4000" spc="-1" strike="noStrike">
                <a:solidFill>
                  <a:srgbClr val="d8c1ba"/>
                </a:solidFill>
                <a:latin typeface="Garamond"/>
              </a:rPr>
              <a:t>Das Schaf ist klein und schnell.</a:t>
            </a: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835280" y="1557360"/>
            <a:ext cx="5400720" cy="51577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d8c1ba"/>
                </a:solidFill>
                <a:latin typeface="Garamond"/>
              </a:rPr>
              <a:t>Das ist ein Schweinchen. Es heißt Uli. Uli ist nicht groß und faul.</a:t>
            </a: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7561440" cy="51418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d8c1ba"/>
                </a:solidFill>
                <a:latin typeface="Garamond"/>
              </a:rPr>
              <a:t>Die Kuh heißt Swesda. </a:t>
            </a:r>
            <a:br>
              <a:rPr sz="4000"/>
            </a:br>
            <a:r>
              <a:rPr b="1" lang="de-DE" sz="4000" spc="-1" strike="noStrike">
                <a:solidFill>
                  <a:srgbClr val="d8c1ba"/>
                </a:solidFill>
                <a:latin typeface="Garamond"/>
              </a:rPr>
              <a:t>Sie ist groß, braun und nett.</a:t>
            </a:r>
            <a:br>
              <a:rPr sz="4000"/>
            </a:br>
            <a:r>
              <a:rPr b="1" lang="de-DE" sz="4000" spc="-1" strike="noStrike">
                <a:solidFill>
                  <a:srgbClr val="d8c1ba"/>
                </a:solidFill>
                <a:latin typeface="Garamond"/>
              </a:rPr>
              <a:t> Julja spielt mit der Kuh.</a:t>
            </a: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476360" y="1916280"/>
            <a:ext cx="6408720" cy="47923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d8c1ba"/>
                </a:solidFill>
                <a:latin typeface="Garamond"/>
              </a:rPr>
              <a:t>Viele Pferde sind im Dorf. </a:t>
            </a:r>
            <a:br>
              <a:rPr sz="4000"/>
            </a:br>
            <a:r>
              <a:rPr b="1" lang="de-DE" sz="4000" spc="-1" strike="noStrike">
                <a:solidFill>
                  <a:srgbClr val="d8c1ba"/>
                </a:solidFill>
                <a:latin typeface="Garamond"/>
              </a:rPr>
              <a:t>Sie laufen schnell und gern</a:t>
            </a: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6912000" cy="51847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d8c1ba"/>
                </a:solidFill>
                <a:latin typeface="Garamond"/>
              </a:rPr>
              <a:t>Das sind Julija und ihre Tante.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7921440" cy="52736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d8c1ba"/>
                </a:solidFill>
                <a:latin typeface="Garamond"/>
              </a:rPr>
              <a:t>Sie leben im Dorf Malino.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697800" cy="5553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d8c1ba"/>
                </a:solidFill>
                <a:latin typeface="Garamond"/>
              </a:rPr>
              <a:t>Das Dorf ist nicht besonders groß aber sehr schön.</a:t>
            </a: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116000" y="1484280"/>
            <a:ext cx="6983280" cy="52372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d8c1ba"/>
                </a:solidFill>
                <a:latin typeface="Garamond"/>
              </a:rPr>
              <a:t>Im Dorf leben viele Haustiere.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3456000" cy="31654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067280" y="1484280"/>
            <a:ext cx="3600360" cy="32194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299200" y="3938760"/>
            <a:ext cx="3376440" cy="2700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461960" y="3938760"/>
            <a:ext cx="2600280" cy="28033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d8c1ba"/>
                </a:solidFill>
                <a:latin typeface="Garamond"/>
              </a:rPr>
              <a:t>Das ist die Katze Murka. Sie ist freundlich und nett. </a:t>
            </a:r>
            <a:br>
              <a:rPr sz="4000"/>
            </a:br>
            <a:r>
              <a:rPr b="1" lang="de-DE" sz="4000" spc="-1" strike="noStrike">
                <a:solidFill>
                  <a:srgbClr val="d8c1ba"/>
                </a:solidFill>
                <a:latin typeface="Garamond"/>
              </a:rPr>
              <a:t>Julja spielt mit der Katze gern.</a:t>
            </a: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00000" y="1773360"/>
            <a:ext cx="7417080" cy="49402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d8c1ba"/>
                </a:solidFill>
                <a:latin typeface="Garamond"/>
              </a:rPr>
              <a:t>Das ist Juljas Kaninchen Kani. </a:t>
            </a:r>
            <a:br>
              <a:rPr sz="4400"/>
            </a:br>
            <a:r>
              <a:rPr b="1" lang="de-DE" sz="4400" spc="-1" strike="noStrike">
                <a:solidFill>
                  <a:srgbClr val="d8c1ba"/>
                </a:solidFill>
                <a:latin typeface="Garamond"/>
              </a:rPr>
              <a:t>Es ist schön und weich.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8569080" cy="48243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785080" cy="18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d8c1ba"/>
                </a:solidFill>
                <a:latin typeface="Garamond"/>
              </a:rPr>
              <a:t>Das sind zwei Hunde Tusik und Scharik. Die Hunde sind tapfer und gut. Julja spielt mit den Hunden gern.</a:t>
            </a: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32000" y="1938240"/>
            <a:ext cx="6551640" cy="49197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381636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d8c1ba"/>
                </a:solidFill>
                <a:latin typeface="Garamond"/>
              </a:rPr>
              <a:t>Das ist Juljas Pferd Woschod. </a:t>
            </a:r>
            <a:br>
              <a:rPr sz="4400"/>
            </a:br>
            <a:r>
              <a:rPr b="1" lang="de-DE" sz="4400" spc="-1" strike="noStrike">
                <a:solidFill>
                  <a:srgbClr val="d8c1ba"/>
                </a:solidFill>
                <a:latin typeface="Garamond"/>
              </a:rPr>
              <a:t>Es lacht gern, ist freundlich und nett.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019400" y="189000"/>
            <a:ext cx="4994280" cy="61927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6T08:36:52Z</dcterms:created>
  <dc:creator>***</dc:creator>
  <dc:description/>
  <dc:language>en-US</dc:language>
  <cp:lastModifiedBy>***</cp:lastModifiedBy>
  <dcterms:modified xsi:type="dcterms:W3CDTF">2011-11-05T09:13:49Z</dcterms:modified>
  <cp:revision>3</cp:revision>
  <dc:subject/>
  <dc:title>Слайд 1</dc:title>
</cp:coreProperties>
</file>