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23E-C8F9-4CD1-9759-42F42866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2CA-CF3E-48D0-998C-8B48A652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2A8-E6D3-4077-8892-AEC4D51A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26A-FEEB-4A03-AAAF-6F16DFB2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4DAA-4669-4A24-ABDD-3C44D07E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7EA2-D0F2-4D52-A28B-C974B486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2A21-AF50-4487-AEEE-FF968AD9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3123-6D26-4120-990D-E81C8DEF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D671-14E4-49CE-8EF8-73827D6F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1C3E-B0EA-4141-A775-97D5E611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A4FE-39D7-4CFF-BCEC-1FA1577B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787D-BCC3-4CBF-8CFE-EDAB2B65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BA37-F346-4E18-83C5-E7A310A7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674F-007E-4340-9FE2-501E8F54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CB96-1C5A-46FD-B088-CF068DF0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B681-F5C8-4F12-B96B-3E2C1F79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54CD-37FA-4888-B444-45792D98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908-9C07-4AD1-BADF-53F098FA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5CC-F8BE-4FD3-8F93-ADC4EAE4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E502-72BA-4F48-A7F1-C1E5C5A8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B9E-0305-4F89-9950-F04779FD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85E6-6720-43AF-BD83-AE607E9A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4552-C111-4232-8A70-E50F8BBF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DAB-FB56-4076-B13E-F160C4DA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becb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586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2b33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ecbd8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DFC4-F44B-4CC1-88DF-1EB7633058EE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becb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2b335b"/>
            </a:solidFill>
            <a:ln w="57240">
              <a:solidFill>
                <a:srgbClr val="becb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586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2b33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866F-DD53-400C-A58A-728849C6F692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1125360"/>
            <a:ext cx="723888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ffffff"/>
                </a:solidFill>
                <a:latin typeface="Arial"/>
              </a:rPr>
              <a:t>In der Schul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74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Hans ist freundlich und nett. Er ist Abc – Schütze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19360" y="1600200"/>
            <a:ext cx="570528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Meine Schwester geht in die Schule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44560" y="1600200"/>
            <a:ext cx="565488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5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Das ist meine Klasse. Alle sind freundlich und nett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84720" y="907920"/>
            <a:ext cx="24480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ff"/>
                </a:solidFill>
                <a:latin typeface="Arial"/>
              </a:rPr>
              <a:t>Paul liest ein Buch.</a:t>
            </a:r>
            <a:br>
              <a:rPr sz="4200"/>
            </a:br>
            <a:r>
              <a:rPr b="0" lang="de-DE" sz="4200" spc="-1" strike="noStrike">
                <a:solidFill>
                  <a:srgbClr val="ffffff"/>
                </a:solidFill>
                <a:latin typeface="Arial"/>
              </a:rPr>
              <a:t>Lesen ist sein Hobby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5722920" cy="6337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ff"/>
                </a:solidFill>
                <a:latin typeface="Arial"/>
              </a:rPr>
              <a:t>Gregor und Johann spielen gern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47960" y="1600200"/>
            <a:ext cx="524808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7886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Anna und Helga sind Freundinnen. Sie gehen in die Schule gern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335640" cy="4764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8360" y="620640"/>
            <a:ext cx="345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Das bin ich. Ich heiße Susanne. Ich bin 10 Jahre alt. Ich gehe in die Schule.</a:t>
            </a:r>
            <a:br>
              <a:rPr sz="3800"/>
            </a:b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Das sind meine Freunde Jörg und Lene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897440" cy="633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95640" y="1125000"/>
            <a:ext cx="4214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ff"/>
                </a:solidFill>
                <a:latin typeface="Arial"/>
              </a:rPr>
              <a:t>Max liest gern. Er ist Wunderkind. Lesen ist sein Hobby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3589560" cy="640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Das ist unsere Mathematiklehrerin. Sie heißt Frau Werner.</a:t>
            </a:r>
            <a:br>
              <a:rPr sz="3800"/>
            </a:b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 Frau Werner ist freundlich und gut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408720" cy="4282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8360" y="765000"/>
            <a:ext cx="3456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ff"/>
                </a:solidFill>
                <a:latin typeface="Arial"/>
              </a:rPr>
              <a:t>Christine  geht in die Schule gern.</a:t>
            </a:r>
            <a:br>
              <a:rPr sz="4200"/>
            </a:br>
            <a:r>
              <a:rPr b="0" lang="de-DE" sz="4200" spc="-1" strike="noStrike">
                <a:solidFill>
                  <a:srgbClr val="ffffff"/>
                </a:solidFill>
                <a:latin typeface="Arial"/>
              </a:rPr>
              <a:t>Sie will lesen und schreiben lernen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265640" cy="640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Hier sind meine Freunde. Sie lernen lesen und schreiben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57480" y="1600200"/>
            <a:ext cx="662940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4319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ff"/>
                </a:solidFill>
                <a:latin typeface="Arial"/>
              </a:rPr>
              <a:t>Paula geht in die Schule gern. Sie will lesen und schreiben lernen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19640" y="1052640"/>
            <a:ext cx="3681360" cy="5545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6360" y="1341360"/>
            <a:ext cx="313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ff"/>
                </a:solidFill>
                <a:latin typeface="Arial"/>
              </a:rPr>
              <a:t>Mein kleiner Bruder ist Abc – Schütze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591080" cy="612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7815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Veronika und Klaus sind Abc – Schützen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4680000" cy="4660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3527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ff"/>
                </a:solidFill>
                <a:latin typeface="Arial"/>
              </a:rPr>
              <a:t>Unsere Lehrerin heißt Frau Böme. Sie ist freundlich und nett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029120" y="115920"/>
            <a:ext cx="4981680" cy="655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ff"/>
                </a:solidFill>
                <a:latin typeface="Arial"/>
              </a:rPr>
              <a:t>Herr Wolf ist Geografielehrer.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616360" cy="4667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ff"/>
                </a:solidFill>
                <a:latin typeface="Arial"/>
              </a:rPr>
              <a:t>Wir lernen in der Schule gern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46200" y="1600200"/>
            <a:ext cx="424980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14:26:08Z</dcterms:created>
  <dc:creator>***</dc:creator>
  <dc:description/>
  <dc:language>en-US</dc:language>
  <cp:lastModifiedBy>***</cp:lastModifiedBy>
  <dcterms:modified xsi:type="dcterms:W3CDTF">2010-10-09T14:51:21Z</dcterms:modified>
  <cp:revision>2</cp:revision>
  <dc:subject/>
  <dc:title>Слайд 1</dc:title>
</cp:coreProperties>
</file>