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BC9-3E1C-4E08-9D85-53A273EE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792-C496-45A6-9141-EEB8515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739-8363-4F30-8438-762E070A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A57-C03E-4534-A40E-899EE502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6EEA-CDF3-44C8-9A12-38D0C6E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31E3-EE4D-4F36-A723-80899FF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88C-731E-4618-8D7D-0F58AE12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FD5D-169E-479C-9929-0DD3CDE9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A8A6-5555-4A99-B86C-8880646B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4634-9AE5-49FF-A484-0B63420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8E9-020D-4DB2-9471-E354AA6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254-04B0-44A1-9C81-F06E9FAC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B120-DC76-48EA-86E2-9A09918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2A9-BD5E-4D39-AB8D-0DEA067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EC76-72FA-47C7-86F9-2AE372F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920-947B-479C-8072-FBAE787A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637-53F1-4EC2-BB97-7E5BC7E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CC1-CC4D-4E2A-AA97-F07B086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D2F-C49C-4FF5-9E77-F68E660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20A-8A34-4E04-8E9F-A1D64FB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743-7895-47AB-A364-8AA6BDE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9BA-FDE7-485C-84A5-2AA17F69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A78-9EAB-4024-B5BD-FAFA55E8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A31-4699-470C-BD6A-7FFAB11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B67-99B6-4CE1-90F9-2D21F67525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61C-60AA-48B7-B06B-D3CD326FF8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Tahoma"/>
              </a:rPr>
              <a:t>Ist das ein Wolf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ase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ase. Das ist ein Fuch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9280" y="274680"/>
            <a:ext cx="382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Bär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Bär.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as ist ein 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37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Bär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Bär. Das ist ein Af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97708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720" y="274680"/>
            <a:ext cx="36352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Wolf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Wolf.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as ist ein H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316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Fuchs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Fuchs. Das ist ein Wo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und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und. Das ist ein Fuch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ase?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Hase.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as ist eine E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7959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st das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Eichhörnchen?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Eichhörnchen. Das ist eine Katz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Elefant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Elefant. Das ist ein Delf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30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274680"/>
            <a:ext cx="33116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Igel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Igel.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as ist ein Fros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56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7280" y="274680"/>
            <a:ext cx="31687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Wolf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Wolf.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Das ist ein Ig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57592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eine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Katze?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in, das is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keine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Katze. Das ist ein Löw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47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8:36Z</dcterms:created>
  <dc:creator>***</dc:creator>
  <dc:description/>
  <dc:language>en-US</dc:language>
  <cp:lastModifiedBy>***</cp:lastModifiedBy>
  <dcterms:modified xsi:type="dcterms:W3CDTF">2010-12-12T11:27:31Z</dcterms:modified>
  <cp:revision>2</cp:revision>
  <dc:subject/>
  <dc:title>Слайд 1</dc:title>
</cp:coreProperties>
</file>