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19F7-999F-47D4-B725-A3E3555E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C5AF-2158-4C15-B0DC-B9264161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7B1C-C7B2-4346-BE0D-A3334635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37AE-9A9B-410A-B2E3-D1B9CBA8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03B0-C712-49DE-9DD2-BD439697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CDEC-B854-4674-86EE-9CC5D0CC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BA66-81A2-400D-993D-E1AFCFF7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B9A9-646E-4F51-BC42-A51E9E3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4A48-DD93-45C9-BE21-A07F7950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66C6-0006-4D8F-AD67-07AAE90F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9FF5-076B-4439-BB83-C84A9C58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7B821-EB65-41DB-9A6A-291B036E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06C2-9358-452E-AC3D-85171D74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C629-61EB-4BC1-B048-EF273B9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A131-5775-4255-8947-4ACDB537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C5E0-B681-4474-B425-F39AFA1F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1E3E-6D0D-4A4B-8E2E-CA814D90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D296-4F26-4D32-A455-0FBF993C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DAFF-17C6-46F2-92C1-09278324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DFF7-9C60-46B8-9653-41D99F84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4FC2-0720-40B4-ADC3-1578C99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19C7-95A6-46AE-B817-B747CB10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BE77-DA25-4131-A826-454A1632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EF2B-F1EA-43E8-B698-334833C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3971-C658-40C7-9C7C-8BC6AAA7DF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6F39-34A8-4F8B-BC37-A442D2C916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800" spc="-1" strike="noStrike">
                <a:solidFill>
                  <a:srgbClr val="e6e3aa"/>
                </a:solidFill>
                <a:latin typeface="Garamond"/>
              </a:rPr>
              <a:t>Kleidung</a:t>
            </a:r>
            <a:endParaRPr b="1" lang="en-US" sz="88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388944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6e3aa"/>
                </a:solidFill>
                <a:latin typeface="Garamond"/>
              </a:rPr>
              <a:t>Sind das Damenschuhe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718160" cy="471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Sind das Mützen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2732040"/>
            <a:ext cx="4038480" cy="2262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 Clown – Kostüm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35560" y="189000"/>
            <a:ext cx="4510080" cy="64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Sind das Clown – Schuhe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19040" y="1600200"/>
            <a:ext cx="650592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Sind das Kleider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761080" cy="5367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Sind das Damenschuhe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Sind das Mützen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549520"/>
            <a:ext cx="4038480" cy="2625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754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e Jacke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4084560" cy="612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 Kleid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73480" y="549360"/>
            <a:ext cx="4422960" cy="61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47527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Schneewittchen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11680" y="981000"/>
            <a:ext cx="4010040" cy="561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e Mütze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769080" cy="540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39408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 Sporthemd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829040" cy="568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 Hemd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5240" y="1600200"/>
            <a:ext cx="755352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Sind das Hemden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21440" cy="4857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24000" y="692280"/>
            <a:ext cx="296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e Jacke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256360" cy="525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e Hose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08400" y="189000"/>
            <a:ext cx="4684680" cy="62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Sind das Schuhe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7080" cy="5338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e Bluse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22760" cy="619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8000" y="274680"/>
            <a:ext cx="3538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e3aa"/>
                </a:solidFill>
                <a:latin typeface="Garamond"/>
              </a:rPr>
              <a:t>Ist das ein Kleid?</a:t>
            </a:r>
            <a:endParaRPr b="1" lang="en-US" sz="4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4321080" cy="64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9:48:56Z</dcterms:created>
  <dc:creator>***</dc:creator>
  <dc:description/>
  <dc:language>en-US</dc:language>
  <cp:lastModifiedBy>***</cp:lastModifiedBy>
  <dcterms:modified xsi:type="dcterms:W3CDTF">2010-09-25T20:15:09Z</dcterms:modified>
  <cp:revision>2</cp:revision>
  <dc:subject/>
  <dc:title>Слайд 1</dc:title>
</cp:coreProperties>
</file>