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2C9-5742-4C01-AB41-4A70D6CA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F3D-3BEA-4354-93F8-E75F72A8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DA9-3B42-41D7-99B1-59233909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B24-EDE2-477B-81A8-33C0FFB5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6E12-B620-40FD-B160-17A369EA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27DA-17D8-46D9-B3EF-E8F55734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53A8-3BF5-41CD-B12A-25AF6576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A246-7BAA-47FC-902E-AAD11B66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2A69-5BC8-4E7A-9B61-B22DDC29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DE61-1A05-4A3B-AB2D-317946F2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33B7-1187-48F8-B7A5-64524CE1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F64-7C56-4F48-AC14-B686602E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7279-48BB-44DB-AA09-C9F1AE4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5CEF-6AF5-4C4C-9D16-90F035B9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EDC8-2D37-4328-960C-670C6048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3E58-88DD-4751-99B2-48744CA5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A5E1-1D65-4FED-B924-1CA1700F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658-75FC-4F91-B7BB-72C56936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4E3-885C-4E59-A25B-26851577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506-388C-486B-89A0-E0E052AB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F8D-A265-407D-8560-22FC3463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B5B-C4AC-4F35-8671-FA3A994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CB5-B8C3-48DE-B638-C69C1293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195-0C8E-481B-A15A-5F23EC43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AF5C-53FB-4CAD-9B01-86DB6B191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7ED7-49D0-40C1-942F-12E1BB989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javascript://" TargetMode="External"/><Relationship Id="rId3" Type="http://schemas.openxmlformats.org/officeDocument/2006/relationships/image" Target="../media/image14.jpeg"/><Relationship Id="rId4" Type="http://schemas.openxmlformats.org/officeDocument/2006/relationships/hyperlink" Target="javascript://" TargetMode="External"/><Relationship Id="rId5" Type="http://schemas.openxmlformats.org/officeDocument/2006/relationships/image" Target="../media/image15.jpeg"/><Relationship Id="rId6" Type="http://schemas.openxmlformats.org/officeDocument/2006/relationships/hyperlink" Target="javascript://" TargetMode="External"/><Relationship Id="rId7" Type="http://schemas.openxmlformats.org/officeDocument/2006/relationships/image" Target="../media/image16.jpeg"/><Relationship Id="rId8" Type="http://schemas.openxmlformats.org/officeDocument/2006/relationships/hyperlink" Target="javascript://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26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Коренные малочисленные народы Хабаровского края.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Национальные виды спо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http://www.moigorod.ru/info/region/khabarovsk/images/narod/fnan2.jpg"/>
          <p:cNvPicPr/>
          <p:nvPr/>
        </p:nvPicPr>
        <p:blipFill>
          <a:blip r:embed="rId1"/>
          <a:stretch/>
        </p:blipFill>
        <p:spPr>
          <a:xfrm>
            <a:off x="5711760" y="3075120"/>
            <a:ext cx="22543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http://aschwabauer.ucoz.ru/interesno/negi.jpg"/>
          <p:cNvPicPr/>
          <p:nvPr/>
        </p:nvPicPr>
        <p:blipFill>
          <a:blip r:embed="rId1"/>
          <a:stretch/>
        </p:blipFill>
        <p:spPr>
          <a:xfrm>
            <a:off x="735120" y="747720"/>
            <a:ext cx="74944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136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Нивх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1400" y="1600200"/>
            <a:ext cx="843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название «нивх» – человек, прежнее название – гиляки. Численность 4673 человека, из них в Хабаровском крае 2452, остальные на о. Сахалин. На первом месте для них всегда стояла рыбная ловля. Сырая и вяленая рыба составляла основу традиционной кухни. Важную роль играли охота, собирательство и собако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http://aschwabauer.ucoz.ru/interesno/niv.jpg"/>
          <p:cNvPicPr/>
          <p:nvPr/>
        </p:nvPicPr>
        <p:blipFill>
          <a:blip r:embed="rId1"/>
          <a:stretch/>
        </p:blipFill>
        <p:spPr>
          <a:xfrm>
            <a:off x="1081080" y="900000"/>
            <a:ext cx="71755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360" y="171000"/>
            <a:ext cx="7940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Оро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1600" y="885600"/>
            <a:ext cx="84153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 915 человек, в Хабаровском крае – 426 человек, остальные в Приморье. Проживают по берегам рек Тумнин и Амур. Основные занятия – охота (кабарга, лось, медведь, пушной зверь), в том числе морская, а также рыболовство. В Татарском проливе ловили нерпу и сивуча. Красиво называют месяцы – «месяц ворона», «месяц прилета орла», «месяц цвет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http://aschwabauer.ucoz.ru/interesno/orochi.jpg"/>
          <p:cNvPicPr/>
          <p:nvPr/>
        </p:nvPicPr>
        <p:blipFill>
          <a:blip r:embed="rId1"/>
          <a:stretch/>
        </p:blipFill>
        <p:spPr>
          <a:xfrm>
            <a:off x="1289160" y="457200"/>
            <a:ext cx="68990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1360" y="27432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Удэгейц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27040" y="1149120"/>
            <a:ext cx="82152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 удэгейцев в Хабаровском крае 613 человек. Кроме Хабаровского края проживают и в Приморье. Большинство живут в городах и поселках городского типа, ассимилировались с русскими и почти забыли родной язык. Основная религия - шаманизм и анимизм. Верили в родство людей с медведем и тигром. Главное занятие – охота, рыболовство и сбор женьш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http://aschwabauer.ucoz.ru/interesno/udegei.jpg"/>
          <p:cNvPicPr/>
          <p:nvPr/>
        </p:nvPicPr>
        <p:blipFill>
          <a:blip r:embed="rId1"/>
          <a:stretch/>
        </p:blipFill>
        <p:spPr>
          <a:xfrm>
            <a:off x="928800" y="527040"/>
            <a:ext cx="74260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2400" y="274680"/>
            <a:ext cx="7872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Уль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95440" y="10256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название ульча – местные жители. Проживают в 9 поселках в нижнем течении Амура (Ульчский район) в количестве 2718 человек. Ульчи вели оседлый образ жизни. Основа экономики – комплексное промысловое хозяйство. Ведущее место занимает рыболовство. В пище преобладала рыба. Основные запасы юколы делали из лосося. Известные ульчи – А.Л.Вальдю, пис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http://aschwabauer.ucoz.ru/interesno/ulchi.jpg"/>
          <p:cNvPicPr/>
          <p:nvPr/>
        </p:nvPicPr>
        <p:blipFill>
          <a:blip r:embed="rId1"/>
          <a:stretch/>
        </p:blipFill>
        <p:spPr>
          <a:xfrm>
            <a:off x="2133720" y="277920"/>
            <a:ext cx="508464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01360" y="274320"/>
            <a:ext cx="78152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Эвен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55440"/>
            <a:ext cx="835488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жнее название – тунгусы, «оленьи люди». Живут в России, Китае, Монголии. В России проживают в основном в Якутии, Бурятии, Забайкалье. В Хабаровском крае - 4,5 тысячи. Традиционные занятия – охота и оленеводство, клеточное разведение пушных зверей, промыслы и ремесла. Особое место у эвенков занимает поклонение солнцу, которому приносили в жертву оле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26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Каждый народ, даже самый маленький, – неповторимый узор на ковре человечества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. Айтм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6" descr="http://www.moigorod.ru/info/region/khabarovsk/images/narod/fnan1.jpg"/>
          <p:cNvPicPr/>
          <p:nvPr/>
        </p:nvPicPr>
        <p:blipFill>
          <a:blip r:embed="rId1"/>
          <a:stretch/>
        </p:blipFill>
        <p:spPr>
          <a:xfrm>
            <a:off x="1911240" y="2770200"/>
            <a:ext cx="544536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http://aschwabauer.ucoz.ru/interesno/even.jpg"/>
          <p:cNvPicPr/>
          <p:nvPr/>
        </p:nvPicPr>
        <p:blipFill>
          <a:blip r:embed="rId1"/>
          <a:stretch/>
        </p:blipFill>
        <p:spPr>
          <a:xfrm>
            <a:off x="2327400" y="249120"/>
            <a:ext cx="41432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01720" y="274680"/>
            <a:ext cx="799632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Выдающиеся эв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26680" y="1066320"/>
            <a:ext cx="820116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мбог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умер около 1640г.) – вождь союза эвенкийских племен на Ам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ёги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лай Константинович (1926-1988) – эвенкийский писатель, поэ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па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Юлия Анатольевна – российская лыжница, чемпионка Олимпийских игр 1998, 2002, 2006 годов. Отец и личный тренер Юлии – Анатолий Михайлович Чепалов имеет эвенкийские кор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Фотография Юлия Чепалова (photo Yuliya Chepalova)"/>
          <p:cNvPicPr/>
          <p:nvPr/>
        </p:nvPicPr>
        <p:blipFill>
          <a:blip r:embed="rId1"/>
          <a:stretch/>
        </p:blipFill>
        <p:spPr>
          <a:xfrm>
            <a:off x="735120" y="387360"/>
            <a:ext cx="2216160" cy="2259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http://chepalova.my1.ru/_ph/8/1/54618821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58000" y="263520"/>
            <a:ext cx="2368440" cy="2313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http://chepalova.my1.ru/_ph/8/1/260695459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9320" y="4821120"/>
            <a:ext cx="2341800" cy="1787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http://chepalova.my1.ru/_ph/8/1/463003326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34120" y="4849920"/>
            <a:ext cx="2203560" cy="1577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http://chepalova.my1.ru/_ph/8/1/146277345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55840" y="2716200"/>
            <a:ext cx="26179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8960" y="249120"/>
            <a:ext cx="850608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лыжного и других традиционных видов спорта у малочисленных народов существуют особые, национальные виды 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: метание топора, прыжки через нарты, тройной национальный прыжок, метание тынзяна (лассо) на хорей, стрельба из лука, перетягивание каната, перетягивание палки, бег с палкой по пересеченн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1360" y="274680"/>
            <a:ext cx="788508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рыжки через н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http://upanel.biz/_ph/2/2/820123939.jpg"/>
          <p:cNvPicPr/>
          <p:nvPr/>
        </p:nvPicPr>
        <p:blipFill>
          <a:blip r:embed="rId1"/>
          <a:stretch/>
        </p:blipFill>
        <p:spPr>
          <a:xfrm>
            <a:off x="1523880" y="1219320"/>
            <a:ext cx="61786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79819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еретягивание па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3" descr="http://festival.1september.ru/articles/564562/img3.JPG"/>
          <p:cNvPicPr/>
          <p:nvPr/>
        </p:nvPicPr>
        <p:blipFill>
          <a:blip r:embed="rId1"/>
          <a:stretch/>
        </p:blipFill>
        <p:spPr>
          <a:xfrm>
            <a:off x="1454040" y="1136520"/>
            <a:ext cx="659628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01720" y="274680"/>
            <a:ext cx="784368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трельба из л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1496880" y="1246320"/>
            <a:ext cx="612324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1360" y="274320"/>
            <a:ext cx="806436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етание топ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1357200" y="1204920"/>
            <a:ext cx="68724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360" y="274320"/>
            <a:ext cx="80233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етание тынзяна на хор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1217520" y="1546200"/>
            <a:ext cx="3076560" cy="46054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5099040" y="1538280"/>
            <a:ext cx="31035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1360" y="274680"/>
            <a:ext cx="801036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Тройной прыж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1579680" y="1163520"/>
            <a:ext cx="606744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9800" y="360360"/>
            <a:ext cx="822960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 в Хабаровском крае проживает 24 тысячи представителей коренных малочисленных народов Севера, которые представляют 30 национальностей. Для 8 коренных этносов Хабаровский край является исторической родиной. Это нанайцы, нивхи, ульчи, негидальцы, орочи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эгей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эвенки, эвены. Каждый из перечисленных народов имеет свою уникальную историю и культ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1360" y="274680"/>
            <a:ext cx="7815240" cy="20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лагодарим за внимание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http://www.rgo.ru/wp-content/uploads/2011/02/001_-300x199.jpg"/>
          <p:cNvPicPr/>
          <p:nvPr/>
        </p:nvPicPr>
        <p:blipFill>
          <a:blip r:embed="rId1"/>
          <a:stretch/>
        </p:blipFill>
        <p:spPr>
          <a:xfrm>
            <a:off x="1427040" y="2327400"/>
            <a:ext cx="65534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2760" y="331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 жизни определяется географической средой и климатическими условиями. Традиционные занятия: рыболовство, таежная и морская охота, собирательство. Наиболее значимы для них культ природы и шаманство. Коренные народы Приамурья являются наследниками самобытной культуры, насчитывающей более 5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4" descr=""/>
          <p:cNvPicPr/>
          <p:nvPr/>
        </p:nvPicPr>
        <p:blipFill>
          <a:blip r:embed="rId1"/>
          <a:stretch/>
        </p:blipFill>
        <p:spPr>
          <a:xfrm>
            <a:off x="1204920" y="374760"/>
            <a:ext cx="683100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2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Нанайцы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1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название нанайцев – «нани» (здешний человек). Многочисленная народность, в Хабаровском крае насчитывается более 10 тысяч человек. Нанайцы (прежнее название – гольды)- народ, проживающий в основном в нижнем течении реки Ам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http://aschwabauer.ucoz.ru/interesno/nana.jpg"/>
          <p:cNvPicPr/>
          <p:nvPr/>
        </p:nvPicPr>
        <p:blipFill>
          <a:blip r:embed="rId1"/>
          <a:stretch/>
        </p:blipFill>
        <p:spPr>
          <a:xfrm>
            <a:off x="996840" y="665280"/>
            <a:ext cx="71359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2480" y="27432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Известные нана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0360" y="1599840"/>
            <a:ext cx="856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рсу Уза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849 -1908) – охотник, проводник российского ученого и путешественника Владимира Арсеньева в его экспедициях 1902 -1907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ла Бельд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29 -1993) – эстрадный пе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ригорий Ходж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29-2006)-нанайский писатель, лауреат Государственной премии (1973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360" y="274320"/>
            <a:ext cx="789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Негидальц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74400" y="1600200"/>
            <a:ext cx="843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 их в Хабаровском крае 505 человек (2002г.). Проживают по берегам рек Амгунь и Амур. Делятся на «низовских» и «верховских» негидальцев. Первые жили оседло в бревенчатых домах. Основное занятие – рыболовство. А «верховские» негидальцы охотились, поэтому жили в переносных конических чу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03:54:02Z</dcterms:created>
  <dc:creator>www.PHILka.RU</dc:creator>
  <dc:description/>
  <dc:language>en-US</dc:language>
  <cp:lastModifiedBy>www.PHILka.RU</cp:lastModifiedBy>
  <dcterms:modified xsi:type="dcterms:W3CDTF">2012-02-16T08:04:11Z</dcterms:modified>
  <cp:revision>33</cp:revision>
  <dc:subject/>
  <dc:title>Коренные малочисленные народы Хабаровского края. Национальные виды спорта.</dc:title>
</cp:coreProperties>
</file>