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FCA-8804-4411-A80E-105BEF6F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32DF-C15A-480A-9ADC-6DFAAC79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CDF-C364-46A6-A5CC-A22738FD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04E-53FD-4748-8C5E-02183F5F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C451-8519-46D7-A8DE-8FE936A3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2A92-3209-48FB-8091-4B809DAF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7734-AE8C-45ED-8C50-F6784B82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C1BB-4B98-452F-A75B-7F14D704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2C90-71B7-4BB1-8C52-525B79AB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6B8B-372B-4050-A99E-1CD45D49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B426-688F-40A9-8999-822D8BC4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3393-0574-4909-8B6B-C42741F6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DC82-7BD0-4539-90CD-03CE010E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613F-461A-40DE-B451-DB624701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A22B-8436-475C-9106-0F2DFD8E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3709-CBBC-4ED2-9DAD-E43DE488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F0EA-D911-4EDB-85A5-D8886D49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4DAB-E816-49CC-B162-0E11B2CE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531-24F8-4FE1-BD72-DFF24374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2442-0F4D-47A5-BE88-169F8C6D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6C1-1D63-4541-A04A-1C234F46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0D73-0EED-407A-A948-D8E6273B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81A4-D722-419D-A90F-3A42DCE4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E52-FE4D-4A01-AAF0-D35F62A7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1602-F506-4682-AB7D-A9E07E15461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F967-07CC-4D33-A481-99001311506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iccadilly Circus is the meeting point of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four streets                        b) six stree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five streets                         d) seven stree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 can get from Russia to England by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bicycle                               b) airplan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car                                     d) foo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British parliament is in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the Buckingham Palace       b) the Houses of Parlia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Backer street                     d) Westminster Abbe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rincess Diana was the wife of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Prince John                        b) Prince Rober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Prince Wilhelm                   d) Prince Char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o is considered the national poet of Scotland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Robert Burns                      b) Jonathan Swif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William Shakespeare           d) Thomas Mo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re was the oldest public school in England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Oxford                               b) Lond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Cambridge                         d) Liverp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re does Royal Shakespeare Company perform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London                              b) Stratford-on-Av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Boston                               d) Cardiff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re is the Poets Corne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the British Museum             b) in Madame Tussaud’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Westminster Abbey             d) Covent Gard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was Benjamin Britte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a composer                        b) a doc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a writer                              d) a po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famous English architect planned and built st. Paul’s Cathedral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William Blake                     b) Michael Farada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Francis Drake                     d) Christopher Wr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n was the Declaration of Independ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June 5,1877                       b) July 4,1776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August 17,1888                  d) May 6,1666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the Tower of London now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a prison                             b) a museu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a house                             d) a fortr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o wrote the story “The Old Man and the Sea”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Theodore Dreiser                b) Ernest Hemingwa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Jack London                       d) James Fennimore Coop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the real name of Mark Twai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Samuel Clemens                 b) Edgar Po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Benjamin Franklin               d) O’Hen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9280" y="549360"/>
            <a:ext cx="7993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the centre of the cinema production in the USA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Harvard                            b) Congr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Disneyland                        d) Hollywood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o created the best animated cartoons in the USA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David Eisenhower               b) Walt Disne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Robert Lee                         d) John Kenned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o was the 4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resident of the USA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Bill Clinton                         b) John Kenned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Benjamin Franklin               d) George Washingt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the national emblem of England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a thistle                             b) a ro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a daffodil                           d) a shamrock and a red ha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the capital of Scotland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Edinburgh                          b) Belfa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Cardiff                               d) Oxfor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the nickname of London’s Underground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the Line                             b) the Bo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the Tube                            d) the Bu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re can you see wax figures of many famous peopl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Madame Tussaud’s             b) No 10, Downing stre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the Houses of Parliament    d) the British Museu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many bronze lions can you see at the foot of the monument to Admiral Nelso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6                                      b) 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2                                      d) 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name of Palace where the Queen lives is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the Tower of London           b) the White hou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the Winsor palace               c) the Buckingham pala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many bridges cross the Tham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18                                     b) 1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21                                     d) 3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o was the first woman Prime Minister in the UK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Margaret Thatcher              b) Harriet Stow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Hillary Clinton                     d) Betsy Ro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many towers does the Tower of London consist of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10                                     b) 1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15                                     d) 1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re is the statue of Liberty situated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Washington                       b) New Y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Atlanta                              d) Philadelphi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many stripes does the American flag hav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15                                     b) 2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50                                     d) 1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the national sport in America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Football                             b) Basebal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Golf                                   d) Crick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which month is Thanksgiving Day celebrated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November                          b) Septemb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October                              d) Decemb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the biggest state of the USA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Georgia                             b) Alas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Idaho                                d) Californ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the official language of Australia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French                               b) Spanis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English                               d) Itali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o is the unchallenged King of rock-and-roll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Elvis Presley                       b) Ameriqo Vespucc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Graham Bell                       d) William Bradford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can you see in Trafalgar squar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Nelson statue                     b) King memori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Queen memorial                 d) Michael Gorbachev memori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n do English children go from house to house and s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ick or treat?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Christmas                          b) Hallowe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Thanksgiving Day               d) New Year’s Da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sea is the UK washed by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The North Sea                    b) The Mediterranean Se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The Red Sea                       d) Oneg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re did William the Conqueror come form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Italy                                  b) Norwa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Arabia                                d) Fr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Headquarters of the Metropolitan Poli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City                                   b) Scotland Yar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The Mall                             d) Piccadilly Circu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colour are the letters boxes in Londo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blue                                   b) pin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red                                     d) yello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many children does Elizabeth II hav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4                                       b) 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3                                       d) 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many monarchs have there been in treat Britai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18                                     b) 4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24                                     d) 3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many parts does the UK consist of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3                                       b) 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4                                       d) 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national music instrument in Northern Ireland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piano                                 b) clarin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drum                                 d) har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most popular sport in England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chess                                 b) footbal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boxing                                d) hocke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name of the river in London is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The Volga                          b) The Tham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The Nile                             d) The Medvediz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many days did the Great Five of London last in 1666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85                                     b) 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8                                       d) 3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0643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ndon is more than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1000 years old                   b) 2000 years ol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3000 years old                   d) 4000 years old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539640" y="549360"/>
            <a:ext cx="80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o is the head of England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the Queen                         b) the ts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the Princess                       d) the Pri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39280" y="549360"/>
            <a:ext cx="7993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e are the tombs of many British kings and queens and other famous people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In the Tower of London       b) On the Cemete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On the river bank               d) in Westminster Abbe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9280" y="549360"/>
            <a:ext cx="7993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what country do men wear skirt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France                               b) Engla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Scotland                            d) Norwa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20:01:20Z</dcterms:created>
  <dc:creator>SamLab.ws</dc:creator>
  <dc:description/>
  <dc:language>en-US</dc:language>
  <cp:lastModifiedBy>SamLab.ws</cp:lastModifiedBy>
  <dcterms:modified xsi:type="dcterms:W3CDTF">2009-03-09T22:10:49Z</dcterms:modified>
  <cp:revision>2</cp:revision>
  <dc:subject/>
  <dc:title>Слайд 1</dc:title>
</cp:coreProperties>
</file>