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5C5-2981-4FCC-ABFB-3A591289AE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C2B-613A-4FE4-916D-48F4B430C0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F0B-9C44-4E0F-B0EC-C313BE900A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A1A5-2A48-4EE0-A32E-4897C486A1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F69-C371-4327-B805-81EB9B1043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86E-6DD4-43C2-A7DA-3B7BE3B53B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0AB-DFD6-41EF-8FA5-544CCD7A19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FCB8-EAEC-4A24-93B6-812547AA0A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985-CC7B-438E-BB41-763654A7DF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6B2-D3EE-4A7C-8061-5EC635BA99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5D2-4ED7-4D6F-9C19-EF28A59BE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CBC-7501-4251-96EB-592946A4BB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59C7-D53B-4A5E-93B5-776AA8CC5D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2EF-B35A-4E5E-A51B-2539781A62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30A-FE08-4A8B-86B2-830918639A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A015-FBAB-47AB-ABBC-1E654432A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AB0-FD3F-4513-8DA5-7090FE6D90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0A0-8428-41A6-831D-E5D310E4C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9EC0-C3F5-4625-BC39-3ABCA736F3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C98-D3A3-4EF1-A9AA-278E142185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691-D27D-4990-90C0-1A5C0629B0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E7FA-F777-44FF-B7CF-F641FA04F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A51-CD27-4DF9-B287-48C16F94D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B9B-0068-4467-BFDA-C0F6569F4E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1CE-79D4-4DFE-8C96-0CE1C2343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CB9-2151-465D-ABF6-43888F0B8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B592-0B86-488D-A0A8-F1EF741C8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1664-2E73-4755-BAC9-C6DC5091A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B013-8B65-4FC2-B7AC-D2079058B7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474-BBB3-4523-B5B9-15FDEB658C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98CB-1865-491E-AD77-B99E667CC1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7FE4-9493-4520-A898-CB6F899D0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339F-35E4-430D-BDA4-3ED083919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AC1-523A-4F01-BF01-54900712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905-EB7A-4ACA-AF17-A848A28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039-8C27-48F7-A5C8-1B417BF6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CBB-DB5B-4C89-B7F5-91FB75D0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339-A69B-49FE-B089-02D83F36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460-9DC1-48A1-BA69-41B2BFD3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489-1A1B-4011-85F8-838489F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8F9-DB9A-4893-AF48-F9E15BC5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D72-5039-43DE-BE4F-0E5F85FF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24BE-B553-4987-BE2A-A3987EED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F4D2-1367-4B05-8764-96CA5AA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2B4-3A8E-48E4-A360-1CA40F0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45D-96AF-481A-9EEB-35C5BE9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A0DB-262E-4B69-93EC-15A42BB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3B1B-367D-43E2-AAC1-09590D4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5B43-C8C4-497D-A334-B27EE4D1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C2D-0315-447D-B349-8A542BE2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BE8D-966C-4DA1-A07D-D3E5E89C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5B1F-4D84-415D-A698-AC4D2B5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E56D-95CC-443D-B31B-B1AEBFB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1F79-8ABC-4D59-B415-967AAC4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B590-56FC-402E-820C-861C0CBB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C40-64C6-48DC-8959-D7B88CA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C08D-AFE7-4F65-A5C5-62FC4B9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D0AE-EBE0-43EE-A13E-5A28BC89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389D-E4B5-4FDA-ACF6-1816B2F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91B8-1CB1-4FE0-A75B-C6A670A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FE26-CA3D-479F-A653-8336ECB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1092-A806-4600-B85B-A56C5AA9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175E-3666-4224-9D8C-34ECF601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3199-CB3B-4F60-BC8F-E8C89BAD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5891-6A2A-4741-9D7E-E83BDDC7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79E7-48A1-4472-801B-3AE87F1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23E-A31F-4F05-9CFB-EF2A39B3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C252-74BF-4E86-BCFE-29105FC3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C1DC9-D435-45B6-8885-C7BB1525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7F7B-0CE5-46A6-812E-4F5CC04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E237-FAD5-465F-BDBE-D892178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5718-C5F8-4B84-B3ED-FC6143C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F52F-62CC-4963-B616-1960B93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A644-2F2E-404B-B6F4-8BEA72B7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41B2-5A07-4B6C-B94A-03FFD67D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7309-15DD-4931-9E63-06BBFABE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FAC-B449-405A-8077-7EFFB1F1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92C-5525-4FE6-B446-BDD3EBA4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93E-28AA-4B73-A5BA-1AD7F9C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CE2-A751-46DB-ACE6-187566C6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18F-9B1B-4BE5-8AC9-653C037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marL="3240" indent="-3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60" indent="-2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" indent="-2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20" indent="-2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20" indent="-2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20" indent="-2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FD4-1EDE-43BE-8F32-DB665E6346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F27-9284-4C6F-A53D-837A167B216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marL="3240" indent="-3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60" indent="-2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" indent="-2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20" indent="-2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20" indent="-2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20" indent="-2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D0A-4C92-4F38-89D7-15E4D748C8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39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42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45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48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C0A-DEB0-4973-9568-FEF640B998F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6.xml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34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6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8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ПОИГРАЕ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cc"/>
                </a:solidFill>
                <a:latin typeface="Tahoma"/>
              </a:rPr>
              <a:t>КТО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cc"/>
                </a:solidFill>
                <a:latin typeface="Tahoma"/>
              </a:rPr>
              <a:t>ХОЧЕТ СТАТЬ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cc"/>
                </a:solidFill>
                <a:latin typeface="Tahoma"/>
              </a:rPr>
              <a:t>МИЛЛИОНЕРОМ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ш…ая т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ш…ая т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ш…ая утром т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ш…ая утром т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ов…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47640"/>
                <a:gridCol w="1116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6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596360" y="0"/>
          <a:ext cx="1547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915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ов…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л…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л…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…ая зад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ё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ё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…ая зад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ё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ё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838080"/>
          </a:xfrm>
          <a:prstGeom prst="rect">
            <a:avLst/>
          </a:prstGeom>
          <a:gradFill rotWithShape="0">
            <a:gsLst>
              <a:gs pos="0">
                <a:srgbClr val="a98ee5"/>
              </a:gs>
              <a:gs pos="100000">
                <a:srgbClr val="e5dff5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нструк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294920"/>
            <a:ext cx="8353440" cy="5302440"/>
          </a:xfrm>
          <a:prstGeom prst="rect">
            <a:avLst/>
          </a:prstGeom>
          <a:solidFill>
            <a:srgbClr val="e8d5fa"/>
          </a:solidFill>
          <a:ln w="381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1.Игра содержит 15 задани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Если ответ верный, автоматически переходите к следующему заданию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Если ответ неверный, появится слово «неправильно». Выбрать другой ответ нельзя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4.Если вы дошли до первой несгораемой суммы (выполнили верно 5 заданий), получаете оценку «3». Вторая несгораемая сумма - 10 баллов- соответствует оценке «4».Третья несгораемая сумма - 15 баллов- соответствует оценке «5»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види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>
            <a:hlinkClick r:id="rId3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">
            <a:hlinkClick r:id="rId4" action="ppaction://hlinksldjump"/>
          </p:cNvPr>
          <p:cNvSpPr/>
          <p:nvPr/>
        </p:nvSpPr>
        <p:spPr>
          <a:xfrm>
            <a:off x="61128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3024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употреб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види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042920" y="6308640"/>
            <a:ext cx="3024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употреб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ж…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>
            <a:hlinkClick r:id="rId5" action="ppaction://hlinksldjump"/>
          </p:cNvPr>
          <p:cNvSpPr/>
          <p:nvPr/>
        </p:nvSpPr>
        <p:spPr>
          <a:xfrm>
            <a:off x="46836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>
            <a:hlinkClick r:id="rId6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ж…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WordArt 10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прочитанное мною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4">
            <a:hlinkClick r:id="rId2" action="ppaction://hlinksldjump"/>
          </p:cNvPr>
          <p:cNvSpPr/>
          <p:nvPr/>
        </p:nvSpPr>
        <p:spPr>
          <a:xfrm>
            <a:off x="111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>
            <a:hlinkClick r:id="rId3" action="ppaction://hlinksldjump"/>
          </p:cNvPr>
          <p:cNvSpPr/>
          <p:nvPr/>
        </p:nvSpPr>
        <p:spPr>
          <a:xfrm>
            <a:off x="514836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>
            <a:hlinkClick r:id="rId4" action="ppaction://hlinksldjump"/>
          </p:cNvPr>
          <p:cNvSpPr/>
          <p:nvPr/>
        </p:nvSpPr>
        <p:spPr>
          <a:xfrm>
            <a:off x="468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9528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8">
            <a:hlinkClick r:id="rId5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прочитанное мною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11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514836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68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528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забываемое впечат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1804320" y="55688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забываемое впечат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разга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258920" y="558972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755640" y="6237360"/>
            <a:ext cx="345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932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507672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разга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258920" y="558972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755640" y="6237360"/>
            <a:ext cx="345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932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07672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47640"/>
                <a:gridCol w="1116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…ая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…ая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…ая в музее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6836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380360" y="0"/>
          <a:ext cx="1763640" cy="402444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…ая в музее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8f8f8"/>
                </a:solidFill>
                <a:latin typeface="Tahoma"/>
              </a:rPr>
              <a:t>Спасибо за участие!!!</a:t>
            </a:r>
            <a:endParaRPr b="0" lang="en-US" sz="9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законченное, а начат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11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>
            <a:hlinkClick r:id="rId2" action="ppaction://hlinksldjump"/>
          </p:cNvPr>
          <p:cNvSpPr/>
          <p:nvPr/>
        </p:nvSpPr>
        <p:spPr>
          <a:xfrm>
            <a:off x="514836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39528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законченное, а начат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11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14836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5280" y="5589720"/>
            <a:ext cx="36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выученный урок по ис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>
            <a:hlinkClick r:id="rId2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>
            <a:hlinkClick r:id="rId3" action="ppaction://hlinksldjump"/>
          </p:cNvPr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>
            <a:hlinkClick r:id="rId4" action="ppaction://hlinksldjump"/>
          </p:cNvPr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8">
            <a:hlinkClick r:id="rId5" action="ppaction://hlinksldjump"/>
          </p:cNvPr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выученный урок по ис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5589720"/>
            <a:ext cx="345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003640" y="5516640"/>
            <a:ext cx="367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6656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042920" y="6308640"/>
            <a:ext cx="2446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проду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>
            <a:hlinkClick r:id="rId2" action="ppaction://hlinksldjump"/>
          </p:cNvPr>
          <p:cNvSpPr/>
          <p:nvPr/>
        </p:nvSpPr>
        <p:spPr>
          <a:xfrm>
            <a:off x="1258920" y="558972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>
            <a:hlinkClick r:id="rId3" action="ppaction://hlinksldjump"/>
          </p:cNvPr>
          <p:cNvSpPr/>
          <p:nvPr/>
        </p:nvSpPr>
        <p:spPr>
          <a:xfrm>
            <a:off x="755640" y="6237360"/>
            <a:ext cx="345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932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>
            <a:hlinkClick r:id="rId4" action="ppaction://hlinksldjump"/>
          </p:cNvPr>
          <p:cNvSpPr/>
          <p:nvPr/>
        </p:nvSpPr>
        <p:spPr>
          <a:xfrm>
            <a:off x="507672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>
            <a:hlinkClick r:id="rId5" action="ppaction://hlinksldjump"/>
          </p:cNvPr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)проду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24720" y="-360"/>
            <a:ext cx="21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258920" y="558972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55640" y="6237360"/>
            <a:ext cx="345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932360" y="5516640"/>
            <a:ext cx="367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076720" y="5589720"/>
            <a:ext cx="366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5796000" y="6237360"/>
            <a:ext cx="24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9"/>
          <p:cNvSpPr txBox="1"/>
          <p:nvPr/>
        </p:nvSpPr>
        <p:spPr>
          <a:xfrm>
            <a:off x="2556000" y="1197000"/>
            <a:ext cx="374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226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равильно </a:t>
            </a:r>
            <a:endParaRPr b="0" lang="en-US" sz="2400" spc="1" strike="noStrike">
              <a:ln w="9360">
                <a:solidFill>
                  <a:srgbClr val="f226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7020000" y="0"/>
            <a:ext cx="2124000" cy="3860640"/>
          </a:xfrm>
          <a:prstGeom prst="rect">
            <a:avLst/>
          </a:prstGeom>
          <a:solidFill>
            <a:srgbClr val="050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380360" y="0"/>
          <a:ext cx="1763640" cy="3886200"/>
        </p:xfrm>
        <a:graphic>
          <a:graphicData uri="http://schemas.openxmlformats.org/drawingml/2006/table">
            <a:tbl>
              <a:tblPr/>
              <a:tblGrid>
                <a:gridCol w="631800"/>
                <a:gridCol w="11318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22626"/>
                          </a:solidFill>
                          <a:latin typeface="Arial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2-02-19T11:21:19Z</dcterms:modified>
  <cp:revision>40</cp:revision>
  <dc:subject/>
  <dc:title>PowerPoint Presentation</dc:title>
</cp:coreProperties>
</file>