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167-45B1-4F49-BBB9-5B90CB85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9D7-4B5A-439D-8177-75DF6D8C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51B-F26F-493A-8112-AB7B1F8F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3B1-98D7-408D-82E8-35E0B753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B5D-B290-4FD2-A995-B019C2E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B21-CCDD-4644-84F6-BD68CCE9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030-013C-4031-B794-405FC64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EE4-F390-4D9F-9B3F-8749C93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0B7-F7AB-496B-9C00-A304672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CD2-0B74-44B2-A0DC-C43D766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D1C-8B22-4BF1-86A4-D0567641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3BB-F87D-4E86-A0AF-A7A4D85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68E-EC24-4A26-9798-504DB9EAA963}" type="slidenum">
              <a:rPr b="0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660033"/>
                </a:solidFill>
                <a:latin typeface="Arial"/>
              </a:rPr>
              <a:t>laufen –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бежать, бегать</a:t>
            </a:r>
            <a:endParaRPr b="0" lang="en-US" sz="5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0033"/>
                </a:solidFill>
                <a:latin typeface="Arial"/>
              </a:rPr>
              <a:t>Ergänzt!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Das Kind … Schlittschuh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… </a:t>
            </a: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du gern Schi?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Die Kinder …im Winter gern Schi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Wolfgang … Schi nicht besonders gern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Er … gut Schlittschuh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Wir … in die Schule und lernen dort gern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Ihr … ins Kino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33"/>
                </a:solidFill>
                <a:latin typeface="Arial"/>
              </a:rPr>
              <a:t>Sabine … gut Schi und Schlittschuh.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0033"/>
                </a:solidFill>
                <a:latin typeface="Arial"/>
              </a:rPr>
              <a:t>Bildet Sätze!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Winter kann ich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Sommer kann ich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Am Samstag kann er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Am Montag können wir 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Frühling könnt ihr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Juli kann Sabine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Am Wochenende kann er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Winter können sie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um die Wette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Hof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n die Schule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Schi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n die Bibliothek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m Stadion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Schlittschuh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ins Kino laufen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7:29:48Z</dcterms:created>
  <dc:creator>***</dc:creator>
  <dc:description/>
  <dc:language>en-US</dc:language>
  <cp:lastModifiedBy>***</cp:lastModifiedBy>
  <dcterms:modified xsi:type="dcterms:W3CDTF">2012-01-09T07:34:38Z</dcterms:modified>
  <cp:revision>2</cp:revision>
  <dc:subject/>
  <dc:title>laufen – бежать, бегать</dc:title>
</cp:coreProperties>
</file>