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5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FDA-AD65-4DDD-ADAB-F6821A75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F0FF-BDFA-47F5-BBE6-7364449E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3F7-B4E4-4667-9EF6-EF3F0C61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102-01ED-4397-AC0F-0CC2ACA9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6B8E-9528-45B0-87A6-596D6780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B0E1-EA4D-4C77-8576-32AD8919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9168-3613-4E44-9BD7-E1CDDC9E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9BC1-4BBE-40E7-A0DC-A510B175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97B5-CFDA-4DDA-8890-AA0A3717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B1AE-2977-4531-A0FC-71172F1D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6DFA-7BD8-48B3-8E37-9F638840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7375-BDF4-4E68-8D71-14487B6A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A4EF-8EE0-4C28-80EF-18D15153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2184-DF2A-4100-8557-285184CF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3063-EDB5-4539-BEB4-43051BAC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DEFB-26D6-4E87-9533-E234F6D8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B6C8-43C6-4CA7-B2A9-00CEE1F7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46FE-44A9-4CFD-B6C0-728CD368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7CA-68BB-42AB-B104-26FE2813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8EC-FF3E-4E90-9A39-43308ABD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F915-6E38-40EC-96DB-7D1B6F78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8987-2192-4A40-869D-39C8DCCA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D0C-4EBD-4554-83D2-A4C49E67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628-2279-4BA0-871E-61F472B0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C14D-AA12-4100-9270-798CFE7F5C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7A7A-937E-4E71-956A-D1F7C9CEF8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7.jpeg"/><Relationship Id="rId10" Type="http://schemas.openxmlformats.org/officeDocument/2006/relationships/image" Target="../media/image55.jpeg"/><Relationship Id="rId11" Type="http://schemas.openxmlformats.org/officeDocument/2006/relationships/image" Target="../media/image20.jpeg"/><Relationship Id="rId12" Type="http://schemas.openxmlformats.org/officeDocument/2006/relationships/image" Target="../media/image56.jpeg"/><Relationship Id="rId13" Type="http://schemas.openxmlformats.org/officeDocument/2006/relationships/image" Target="../media/image57.jpe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47181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Verdana"/>
              </a:rPr>
              <a:t>Слово о словарях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221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де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Решетников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Анна Петровна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читель русск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языка и литератур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ОУ «СОШ № 14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292720" y="549360"/>
            <a:ext cx="362736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Два дела особенно трудны: это писать словарь и грамматику (Готфрид Герман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нтересен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тный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ловарь русского языка, он был создан на основе словаря Ушакова. Словарь содержит около 90 000 слов. Помимо самых распространённых слов русского языка в него включены научные и технические термины, просторечные и диалектные слова, архаизмы, историзмы и т.п. Также в словаре приводятся производные, сложные и сложносокращённые слова, написание которых может вызвать затрудн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ловарь позволяет осуществлять поиск слов и просматривать их список в алфавитном порядке, а также в обратном алфавитном порядк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1484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692360" y="4941720"/>
            <a:ext cx="1122120" cy="1408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 rot="21130800">
            <a:off x="179280" y="2421000"/>
            <a:ext cx="1238400" cy="1763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 rot="20452800">
            <a:off x="323640" y="4005360"/>
            <a:ext cx="1274760" cy="15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В ногу со временем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Помните: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 u="sng">
                <a:solidFill>
                  <a:srgbClr val="cc0000"/>
                </a:solidFill>
                <a:uFillTx/>
                <a:latin typeface="Verdana"/>
              </a:rPr>
              <a:t>Словари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– это самые верные друзья и самые надежные помощники тех, кто стремится постичь глубины и тонкости великого и могучего русского язы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 rot="20298600">
            <a:off x="1547640" y="3573360"/>
            <a:ext cx="1257480" cy="1752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987640" y="3573360"/>
            <a:ext cx="887400" cy="122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 rot="1228200">
            <a:off x="4066920" y="3212640"/>
            <a:ext cx="1157040" cy="1658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 rot="20179200">
            <a:off x="2916000" y="4868640"/>
            <a:ext cx="850680" cy="1368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3708360" y="4869000"/>
            <a:ext cx="851040" cy="1198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 rot="1458000">
            <a:off x="7524720" y="4868640"/>
            <a:ext cx="936720" cy="1295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4932360" y="4653000"/>
            <a:ext cx="1368360" cy="1441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395280" y="407664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6156360" y="3141720"/>
            <a:ext cx="1155600" cy="1790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324000" y="2852640"/>
            <a:ext cx="1369800" cy="936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2"/>
          <a:stretch/>
        </p:blipFill>
        <p:spPr>
          <a:xfrm rot="1714800">
            <a:off x="7236000" y="3141720"/>
            <a:ext cx="1091880" cy="1650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3"/>
          <a:stretch/>
        </p:blipFill>
        <p:spPr>
          <a:xfrm>
            <a:off x="539640" y="404640"/>
            <a:ext cx="154476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5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Справочное бюро «</a:t>
            </a:r>
            <a:r>
              <a:rPr b="1" i="1" lang="en-US" sz="3200" spc="-1" strike="noStrike">
                <a:solidFill>
                  <a:srgbClr val="cc0000"/>
                </a:solidFill>
                <a:latin typeface="Verdana"/>
              </a:rPr>
              <a:t>У Совы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Словарь – это целый мир, расположенный в алфавитном порядке. Здесь мысли, труды, горести наших предков и наши собственные.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А.Фран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609920" cy="1193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 rot="579000">
            <a:off x="2303280" y="4578120"/>
            <a:ext cx="1218960" cy="1384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995640" y="4005360"/>
            <a:ext cx="1084320" cy="1224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059280" y="2924280"/>
            <a:ext cx="1368360" cy="1261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4716360" y="3357720"/>
            <a:ext cx="868320" cy="1106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 rot="20058600">
            <a:off x="2411280" y="3357720"/>
            <a:ext cx="749520" cy="120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 rot="20724600">
            <a:off x="6516360" y="4868640"/>
            <a:ext cx="1206360" cy="1396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 rot="1311000">
            <a:off x="4976640" y="4717800"/>
            <a:ext cx="1109880" cy="1441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1258920" y="3429000"/>
            <a:ext cx="1081080" cy="1152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1"/>
          <a:stretch/>
        </p:blipFill>
        <p:spPr>
          <a:xfrm rot="20952000">
            <a:off x="1200240" y="4651200"/>
            <a:ext cx="1054080" cy="1438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395280" y="4437000"/>
            <a:ext cx="768240" cy="1198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3"/>
          <a:stretch/>
        </p:blipFill>
        <p:spPr>
          <a:xfrm rot="20150400">
            <a:off x="3634920" y="5013360"/>
            <a:ext cx="768600" cy="1216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4"/>
          <a:stretch/>
        </p:blipFill>
        <p:spPr>
          <a:xfrm rot="19506600">
            <a:off x="7740720" y="4436640"/>
            <a:ext cx="971640" cy="1009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5"/>
          <a:stretch/>
        </p:blipFill>
        <p:spPr>
          <a:xfrm>
            <a:off x="6948360" y="3573360"/>
            <a:ext cx="777960" cy="1198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6"/>
          <a:stretch/>
        </p:blipFill>
        <p:spPr>
          <a:xfrm rot="1884600">
            <a:off x="5866920" y="3212640"/>
            <a:ext cx="1109880" cy="1584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7"/>
          <a:stretch/>
        </p:blipFill>
        <p:spPr>
          <a:xfrm rot="1617600">
            <a:off x="7848720" y="2828880"/>
            <a:ext cx="888840" cy="1279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8"/>
          <a:stretch/>
        </p:blipFill>
        <p:spPr>
          <a:xfrm rot="19807200">
            <a:off x="250920" y="349992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9"/>
          <a:stretch/>
        </p:blipFill>
        <p:spPr>
          <a:xfrm>
            <a:off x="324000" y="2349360"/>
            <a:ext cx="79200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Лишь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СЛОВ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жизнь дана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Словаре находятся все книги: суть лишь в том, чтобы извлекать эти книги из не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028520" cy="1346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651640" y="4508640"/>
            <a:ext cx="2808000" cy="1333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7093080" y="2781360"/>
            <a:ext cx="1549440" cy="1346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 rot="20410800">
            <a:off x="610920" y="2924280"/>
            <a:ext cx="237636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Как хороший барометр откликается словарь на все  изменения жизни (Супрун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Усердней с каждым днем гляжу в словар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В его словах мерцают искры чув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В  подвалы слов не раз сойдет искусств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Держа в руке свой потайной словар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На всех словах – события печ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Они дались не даром челове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Читаю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«Век… От века…Вековать… Век дожив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Бог сыну не дал ве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Век заседать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Век заживать чужой…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В словах звучит укор, и гнев, и сове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Нет, не словарь лежит передо мной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А древняя рассыпанная повесть.(С.Марша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04000" y="213372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 rot="20641800">
            <a:off x="7020000" y="3933720"/>
            <a:ext cx="1855800" cy="16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Словарь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– это книга для кни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Заглядывал я встарь в Академический словарь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(А.С.Пушкин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76360" y="2924280"/>
            <a:ext cx="2735280" cy="252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11280" y="260280"/>
            <a:ext cx="1047600" cy="13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Благородный труд во имя людей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Гордостью отечественной лексикографии по праву считаются Толковые словари </a:t>
            </a:r>
            <a:r>
              <a:rPr b="1" i="1" lang="en-US" sz="2000" spc="-1" strike="noStrike">
                <a:solidFill>
                  <a:srgbClr val="cc0000"/>
                </a:solidFill>
                <a:latin typeface="Verdana"/>
              </a:rPr>
              <a:t>В.И.Даля, Д.Н.Ушакова и С.И.Ожего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1325520" cy="1152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20457600">
            <a:off x="900000" y="2923920"/>
            <a:ext cx="1625760" cy="1904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 rot="1865400">
            <a:off x="4211280" y="2997000"/>
            <a:ext cx="1511280" cy="2050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877080" y="2852640"/>
            <a:ext cx="1512720" cy="1960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268360" y="4076640"/>
            <a:ext cx="1105200" cy="163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 rot="20671200">
            <a:off x="5003640" y="465264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 rot="1278000">
            <a:off x="7596360" y="4581000"/>
            <a:ext cx="107928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Словарь </a:t>
            </a:r>
            <a:r>
              <a:rPr b="1" i="1" lang="en-US" sz="2000" spc="-1" strike="noStrike">
                <a:solidFill>
                  <a:srgbClr val="cc0000"/>
                </a:solidFill>
                <a:latin typeface="Verdana"/>
              </a:rPr>
              <a:t>В.И. Даля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– неисчерпаемая сокровищница для всех тех, кто интересуется историей русского народа, его культурой и язык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Настоящей революцией в словарном деле стал «</a:t>
            </a:r>
            <a:r>
              <a:rPr b="1" i="1" lang="en-US" sz="1800" spc="-1" strike="noStrike">
                <a:solidFill>
                  <a:srgbClr val="cc0000"/>
                </a:solidFill>
                <a:latin typeface="Verdana"/>
              </a:rPr>
              <a:t>Толковый словарь живого великорусского языка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», созданный профессиональным филологом </a:t>
            </a:r>
            <a:r>
              <a:rPr b="1" i="1" lang="en-US" sz="1800" spc="-1" strike="noStrike">
                <a:solidFill>
                  <a:srgbClr val="cc0000"/>
                </a:solidFill>
                <a:latin typeface="Verdana"/>
              </a:rPr>
              <a:t>Владимиром Ивановичем Далем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. Словарь, содержащий около 200 тыс. слов, запечатлел состояние русского языка той эпохи. Именно включение в словарь разговорных, диалектных и даже просторечных слов делает его столь интересным для читател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rot="1466400">
            <a:off x="3634920" y="4724280"/>
            <a:ext cx="1030320" cy="1414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716360" y="4508640"/>
            <a:ext cx="1008000" cy="1215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 rot="20370000">
            <a:off x="250920" y="2133360"/>
            <a:ext cx="142560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34920" y="304920"/>
            <a:ext cx="6740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льзя, чтоб тот себя прославил, кто грамматических не знает правил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(А. Сумароков)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Verdana"/>
              </a:rPr>
              <a:t>Дмитрий Николаевич Ушаков-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одна из самых ярких фигур отечественной лексикографии. Он автор многих словарей, среди которых «Толковый словарь», состоящий из четырех томов и включающий в себя 85289 сл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се школьники знают его Орфографический словар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20923800">
            <a:off x="6333840" y="4182840"/>
            <a:ext cx="1625400" cy="1868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20594400">
            <a:off x="398520" y="3360600"/>
            <a:ext cx="1736640" cy="2664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763640" cy="15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не знает его словар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Verdana"/>
              </a:rPr>
              <a:t>Сергей Иванович Ожегов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занимался лексикологией и лексикографией, вопросами культуры речи, историей русского литературного языка и языка художественной литературы. Хорошо известен его однотомный «Словарь русского языка», вышедший в 1949 год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 rot="20567400">
            <a:off x="476280" y="3614400"/>
            <a:ext cx="2336760" cy="26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06:30:49Z</dcterms:created>
  <dc:creator>Гость</dc:creator>
  <dc:description/>
  <dc:language>en-US</dc:language>
  <cp:lastModifiedBy>МАМА</cp:lastModifiedBy>
  <dcterms:modified xsi:type="dcterms:W3CDTF">2010-11-18T12:26:44Z</dcterms:modified>
  <cp:revision>17</cp:revision>
  <dc:subject/>
  <dc:title>Слайд 1</dc:title>
</cp:coreProperties>
</file>