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53C-C0F6-498F-9D4E-A9DAF9F5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0E0-B234-44D1-9E1B-83F29E89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C72-0547-4D4E-A63E-98E272BF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B88-BFB1-4E88-A0C6-BA994BAB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58B0-9506-4754-878D-0FFBE5F3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6164-A9B0-4B41-8B81-082B8CCD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F920-E700-428A-B0F4-E2B5AD6F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1E49-42E6-45F6-9681-3744DA5C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A9CA-68B7-4973-8875-7B8F015A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C962-CE64-4BE7-AF9C-B23E05A9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6D2F-B690-4C1C-8426-E30C8883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267-520A-48AC-B8F2-033E1F60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A18E-77F6-42FD-A364-BDD2505A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E4FC-BFE6-48A7-93A4-37B0C387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F75F-A21F-4A2B-BC66-92275CE2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0EA4-C5A9-41D9-9ED7-FBA62FBB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00AC-FB6A-43D2-B93E-E116DBE8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B4B-BB0C-42A2-9E29-EEF1A612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F4F-7F9C-4F70-87BE-AF91A7C5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BD8-0DF2-4EAC-9307-E3E9129F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8FE5-8C22-416C-B83F-F490B990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1AE-7B6B-4325-ADA2-9104730B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492-6ADB-4140-B830-D38B72F2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B960-A675-4493-9955-E1398FC0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B033-D99C-434D-8166-0C95D6EB0F9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F501-6DD0-403A-AD62-F5B77FE2D1E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50752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Wir gehen zum Maskenb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122040"/>
            <a:ext cx="30258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Otto geht als Gnom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301920" y="115920"/>
            <a:ext cx="47228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Waldo geht als Junge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05636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Molli geht als Mädchen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4720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0" y="122040"/>
            <a:ext cx="41767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Monika geht als Eichhörnchen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165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88000" y="122040"/>
            <a:ext cx="4032000" cy="48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Helga geht als Fee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0640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0" y="122040"/>
            <a:ext cx="410364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Heidi geht als Hund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39304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10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11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Peter geht als Igel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329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92720" y="122400"/>
            <a:ext cx="3672000" cy="49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Dieter geht als Clown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9546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3178080" cy="61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Hans geht als Hase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638520" y="549360"/>
            <a:ext cx="437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Waldo geht als Pirat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52498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640" y="122400"/>
            <a:ext cx="7893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Klaus geht als Hase zum Maskenball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0567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43280" y="122040"/>
            <a:ext cx="410544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Franz geht als Wolf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44628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122040"/>
            <a:ext cx="36003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Marta geht als Eichhörnchen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89440" y="549360"/>
            <a:ext cx="41292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11280" y="122040"/>
            <a:ext cx="4608360" cy="40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Richard geht als Prinz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3996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360" y="122040"/>
            <a:ext cx="371628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Sabine geht als Prinzessin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576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1640" y="122400"/>
            <a:ext cx="342900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Jörg geht als Pirat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987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346716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Werner geht als Wolf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699000" y="115920"/>
            <a:ext cx="43146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7640" y="122400"/>
            <a:ext cx="35733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Karin geht als Fuchs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9020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00360" y="122040"/>
            <a:ext cx="350028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Sven geht als Hase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929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Laura geht als Löwe zum Maskenball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3:57:34Z</dcterms:created>
  <dc:creator>***</dc:creator>
  <dc:description/>
  <dc:language>en-US</dc:language>
  <cp:lastModifiedBy>***</cp:lastModifiedBy>
  <dcterms:modified xsi:type="dcterms:W3CDTF">2010-10-09T14:25:21Z</dcterms:modified>
  <cp:revision>2</cp:revision>
  <dc:subject/>
  <dc:title>Слайд 1</dc:title>
</cp:coreProperties>
</file>