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A2C2-5287-4EB3-AE09-EBECF67D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5211-BC63-4E94-B25E-8EDC5D5D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FB23-178D-4840-995C-3CC7BC466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76C4-0B00-4309-8A2C-25B9A1CB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1BA3-0B99-4966-A94B-CA211E0F2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1C15-0592-4F27-86F2-C63B595D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94E8-F955-4FFF-8D22-B76A3D0C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5A15-57C0-45AA-BC7A-1149F0AF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956A-553F-4C76-87B8-21B4EDBE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BB0B-83FA-4602-B70D-88BCC180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EE14-67F4-428B-85DC-2E2EA9DA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D1AA-00F0-455F-9955-91BEC780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F2B6-6507-4115-A958-70C9B747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3ECF-2907-4A57-AC3C-6952D8DF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A52A-ECE0-4159-8885-05A79170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9F52-4FD2-4582-BFA5-26A9369A5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06104-EB9C-47BA-B3F7-E6C56E440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170E-94BC-4111-86D1-4B986014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CE36-F4DC-401C-BF1B-EA7ABD6B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E514-B804-43C7-8480-D1B9308F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5180-981C-41A4-A209-E733B013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3770-0484-4650-A47F-DAD7FEAA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1962-08CD-45CF-B8A5-0FB5D047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EB91-63C3-4D23-BF60-87475C5F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44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b4445"/>
                </a:gs>
                <a:gs pos="100000">
                  <a:srgbClr val="0a3f4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b4445"/>
                </a:gs>
                <a:gs pos="100000">
                  <a:srgbClr val="39dee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CAB0-C4A7-45DC-8E9D-0F407F9FB6C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44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b4445"/>
                </a:gs>
                <a:gs pos="100000">
                  <a:srgbClr val="0939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b4445"/>
                </a:gs>
                <a:gs pos="100000">
                  <a:srgbClr val="39dee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9CD9-F9D4-4401-8A90-868E383613B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44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800" spc="-1" strike="noStrike">
                <a:solidFill>
                  <a:srgbClr val="ffcc00"/>
                </a:solidFill>
                <a:latin typeface="Tahoma"/>
              </a:rPr>
              <a:t>Mein Lieblingstier</a:t>
            </a:r>
            <a:endParaRPr b="0" lang="en-US" sz="8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44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5229360"/>
            <a:ext cx="89280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Tahoma"/>
              </a:rPr>
              <a:t>Das ist ein Tier. Das ist ein Bär. Der Bär ist braun, dick, aber er kann schnell laufen. Er ist ein Braunbär. Der Bär frisst Fisch, Beeren, Obst, Honig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26920" y="115920"/>
            <a:ext cx="7490160" cy="515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44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24000" y="274680"/>
            <a:ext cx="341964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Tahoma"/>
              </a:rPr>
              <a:t>Das ist ein Tier. Das ist ein Hamster. Der Hamster ist klein, nett, freundlich.</a:t>
            </a:r>
            <a:br>
              <a:rPr sz="3200"/>
            </a:br>
            <a:r>
              <a:rPr b="0" lang="de-DE" sz="3200" spc="-1" strike="noStrike">
                <a:solidFill>
                  <a:srgbClr val="ffcc00"/>
                </a:solidFill>
                <a:latin typeface="Tahoma"/>
              </a:rPr>
              <a:t>Ich liebe meinen Hamster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400720" cy="648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44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8000" y="5373360"/>
            <a:ext cx="89280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Tahoma"/>
              </a:rPr>
              <a:t>Das ist ein Tier. Das ist ein Affe. Der Affe heißt Tscharli. Er ist groß, nett, freundlich. </a:t>
            </a:r>
            <a:br>
              <a:rPr sz="2800"/>
            </a:br>
            <a:r>
              <a:rPr b="0" lang="de-DE" sz="2800" spc="-1" strike="noStrike">
                <a:solidFill>
                  <a:srgbClr val="ffcc00"/>
                </a:solidFill>
                <a:latin typeface="Tahoma"/>
              </a:rPr>
              <a:t>Tscharli frisst Bananen gern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16000" y="115920"/>
            <a:ext cx="7056360" cy="528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44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8000" y="551628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Tahoma"/>
              </a:rPr>
              <a:t>Das ist ein Tier. Das ist ein Weißbär. Weißbären leben im Norden. Sie sind groß, weiß. Sie laufen schnell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332000" y="115920"/>
            <a:ext cx="6480000" cy="554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44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14800" cy="64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Tahoma"/>
              </a:rPr>
              <a:t>Das ist ein Tier. Das ist ein Elefant. Der Elefant ist sehr groß, nett, freundlich. Elefanten leben in Afrika. Sie fressen Gras gern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292640" cy="648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44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8920" y="5373360"/>
            <a:ext cx="8713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Tahoma"/>
              </a:rPr>
              <a:t>Das ist ein Tier. Das ist ein Löwe. </a:t>
            </a:r>
            <a:br>
              <a:rPr sz="3200"/>
            </a:br>
            <a:r>
              <a:rPr b="0" lang="de-DE" sz="3200" spc="-1" strike="noStrike">
                <a:solidFill>
                  <a:srgbClr val="ffcc00"/>
                </a:solidFill>
                <a:latin typeface="Tahoma"/>
              </a:rPr>
              <a:t>Der Löwe ist sehr stark. Er ist groß und braun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6769440" cy="5414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44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76720" y="274680"/>
            <a:ext cx="395928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Tahoma"/>
              </a:rPr>
              <a:t>Das ist ein Tier. Das ist ein Tiger. Der Tiger ist stark und sehr böse. Er ist ein Raubtier. </a:t>
            </a:r>
            <a:br>
              <a:rPr sz="3200"/>
            </a:br>
            <a:r>
              <a:rPr b="0" lang="de-DE" sz="3200" spc="-1" strike="noStrike">
                <a:solidFill>
                  <a:srgbClr val="ffcc00"/>
                </a:solidFill>
                <a:latin typeface="Tahoma"/>
              </a:rPr>
              <a:t>Tiger fressen andere Tiere.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857840" cy="648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44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4868640"/>
            <a:ext cx="8856720" cy="18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Tahoma"/>
              </a:rPr>
              <a:t>Das ist ein Tier. Das ist ein Delfin. Delfine leben im Meer. Sie schwimmen gut. Sie können sprechen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547640" y="115920"/>
            <a:ext cx="5994720" cy="449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44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000" y="5444640"/>
            <a:ext cx="8928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Tahoma"/>
              </a:rPr>
              <a:t>Das sind Pinguine. Sie leben im Norden. Sie sind groß, nett und schön. Das ist eine Familie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5832720" cy="5410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44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8000" y="620280"/>
            <a:ext cx="4176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Tahoma"/>
              </a:rPr>
              <a:t>Das ist ein Tier. Das ist ein Eichhörnchen. Es ist klein, nett, schön und lustig. Es frisst Beeren, Pilze und Nüsse. Das Eichhörnchen springt vom Baum zu Baum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140360" y="765000"/>
            <a:ext cx="4868640" cy="525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44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219280" y="1341000"/>
            <a:ext cx="38163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Tahoma"/>
              </a:rPr>
              <a:t>Das ist ein Tier. Das ist ein Igel. Der Igel ist nett, klein und schön. Er hat spitze Stacheln. Er frisst gern Beeren und Pilze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08000" y="836640"/>
            <a:ext cx="5100480" cy="525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44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Tahoma"/>
              </a:rPr>
              <a:t>Das ist ein Tier. Das ist eine Katze. Die Katze wohnt im Haus. Sie ist nicht groß; schön, nett, freundlich. Die Katze frisst Fische, Brot, Wurst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6769440" cy="4886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44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4869000"/>
            <a:ext cx="82915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Tahoma"/>
              </a:rPr>
              <a:t>Das ist ein Vogel. Das ist eine Eule. Die Eule ist nicht groß. Sie ist nett und klug. Sie frisst Mäuse und keine Vögel. Sie ist weise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44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4927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Tahoma"/>
              </a:rPr>
              <a:t>Das ist ein Tier. Das ist ei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H</a:t>
            </a:r>
            <a:r>
              <a:rPr b="0" lang="de-DE" sz="2800" spc="-1" strike="noStrike">
                <a:solidFill>
                  <a:srgbClr val="ffcc00"/>
                </a:solidFill>
                <a:latin typeface="Tahoma"/>
              </a:rPr>
              <a:t>ase. Der Hase ist weiß im Winter. Er ist nicht groß, aber schön. Der Hase kann schnell laufen. Er frisst Gras, Blätter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87280" y="11592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44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551628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Tahoma"/>
              </a:rPr>
              <a:t>Das ist ein Tier. Das ist ein Fuchs. Der Fuchs ist nicht besonders groß. Er ist rot und schlau. Er frisst Mäuse, Hasen, Vögel. Der Fuchs ist schön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116000" y="115920"/>
            <a:ext cx="6767640" cy="531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44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7640" y="551628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Tahoma"/>
              </a:rPr>
              <a:t>Das ist ein Tier. Das ist ein Wolf. Der Wolf ist grau, nett aber böse, sehr böse. Er frisst Hasen und Haustiere. Der Wolf lebt im Wald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71640" y="115920"/>
            <a:ext cx="7129440" cy="534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44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5229360"/>
            <a:ext cx="885672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Tahoma"/>
              </a:rPr>
              <a:t>Das ist ein Tier. Das ist ein Haustier. Der Hund ist klein, aber nett und freundlich. Er ist weiß. Der Hund  ist freundlich. Er frisst Suppe, Fisch, Fleisch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42920" y="11592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0:11:05Z</dcterms:created>
  <dc:creator>***</dc:creator>
  <dc:description/>
  <dc:language>en-US</dc:language>
  <cp:lastModifiedBy>***</cp:lastModifiedBy>
  <dcterms:modified xsi:type="dcterms:W3CDTF">2011-02-20T10:43:08Z</dcterms:modified>
  <cp:revision>3</cp:revision>
  <dc:subject/>
  <dc:title>Слайд 1</dc:title>
</cp:coreProperties>
</file>