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2B5-B054-4C28-9107-A9E211FA66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881B-977A-4659-A584-D41F57898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9AEA-51F4-4DE5-9563-53EB5B799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E196-D441-4BFA-A6EF-1C6CAAC20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F630-7A84-4780-A9B7-90284C6FD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2D9-6F94-42B7-9493-5C2F2E564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DE58-B7BB-41F9-B4FE-EC0CCB9E7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CB2D-702F-4BA0-BF04-95D5A58C5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956-A3B0-4969-81BF-6E33DE8CA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15A-D684-4B26-9E89-4086795B4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1F4-8222-4E8E-A582-DDF78D07C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2E5-C44D-490E-84D8-A3D16FF45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4955-FE45-4E76-ADF9-235A9B3739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F2C-2243-4D93-9DF0-6936D4392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B708-86AC-465C-A0EF-9AECD8F0B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DB50-D697-48AE-9E97-A2E7978D0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FBD-C361-4B23-A54C-F27E6C2B8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1C4E-1350-4DA2-95CB-881F42B00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257-F43D-4C2F-9071-FBD496052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A23B-CE66-405B-B2BC-8D3C12233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8E5-AD5B-42BB-85B8-434DBA550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8BCF-9F74-40DF-982A-935E183BB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E10-9B88-429E-BE31-EF31E4B95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2CB6-8835-42A4-820E-8A22C701E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DFE-ADA7-485B-BD34-0BABD57E5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B58D-1DC1-4135-8D1A-1B2931E26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8C71-D4E3-43F7-A0ED-B5990D2D5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68F-C390-4C77-8ACB-2F15F9156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5591-3D9D-491C-B4B7-F43F4EF15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9FFA-DAA9-43A8-A5C0-D7FE7D1E0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A218-71DB-443C-9F40-A7FC2497A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F2CA-3726-43C9-BDC6-03B85ADBE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E5E-B1CF-4C3B-A9F9-682180F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8C2-A541-4B5D-A8EC-C1ABA65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5BD-B0EA-4BFE-9500-9D605DA6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0F0-D30E-4DFE-A68E-7BCDB46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E99-6990-4B91-9C88-E18D0990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F5D7-6F5A-4271-82B0-090E8825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50D0-F5F5-4738-9722-873A8D0C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90DF-0B72-497E-95ED-175F9248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FDE8-E82A-4E62-97A9-E982C16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3EB1-137A-48D3-9900-221E9716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9758-6A8F-4337-9689-34B9839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FB3-D92B-41C6-911A-4284741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13FA-A0A5-456C-B1C9-50083C5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57AA-B9B4-4157-8779-713C448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CE48-BB92-4623-A114-21C1F36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BE91-8087-4644-A87F-7F08CCE0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C93-36F6-481B-A513-04677F67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D7F-2AA6-420D-95A1-15E6E2DA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C94-DFEA-4231-AF17-13428AF5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D89-3D77-42FB-8F01-F58897A6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4AD-2849-4998-8B5A-608C6BD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7A8-4C54-470D-A347-E8593A5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5D2-F766-4167-BC0B-45433C3B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793-5462-4C3B-93B2-2D72B25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E1E8-545A-444C-967E-55E907D6E7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5ECD-A885-4A48-A42A-AB247559FB9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УРОК РУССКОГО ЯЗЫК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 «Б» клас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Учитель:  Ильинская Л.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вет на зада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42920" y="2852640"/>
            <a:ext cx="878688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акая (широкая)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асленица –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д. ч.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жен. р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440" y="1828800"/>
            <a:ext cx="8172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70c0"/>
                </a:solidFill>
                <a:latin typeface="Comic Sans MS"/>
              </a:rPr>
              <a:t>местоимение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могут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изменяться п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адежам, числам и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иметь род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kustodiev25"/>
          <p:cNvPicPr/>
          <p:nvPr/>
        </p:nvPicPr>
        <p:blipFill>
          <a:blip r:embed="rId1"/>
          <a:stretch/>
        </p:blipFill>
        <p:spPr>
          <a:xfrm>
            <a:off x="0" y="0"/>
            <a:ext cx="9144000" cy="6429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1357200" y="6357960"/>
            <a:ext cx="71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стодиев Б. М. «Масленичное гулян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5960" y="-360"/>
            <a:ext cx="65721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omic Sans MS"/>
              </a:rPr>
              <a:t>Личные местоимения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я, ты, он, она, оно, мы, вы, о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42680" y="2071800"/>
            <a:ext cx="73580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Закончите строчки четверостишия, вставив нужное по смыслу местоим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лго ждали мы 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конец дождали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и посвящали 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с горы катали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 ждали 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Сканирован07-02-19 1451"/>
          <p:cNvPicPr/>
          <p:nvPr/>
        </p:nvPicPr>
        <p:blipFill>
          <a:blip r:embed="rId1"/>
          <a:stretch/>
        </p:blipFill>
        <p:spPr>
          <a:xfrm>
            <a:off x="0" y="0"/>
            <a:ext cx="164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озвратное местоимение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б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ставить словосочет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Глагол + возврат. мест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зец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думать о себ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3416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Сканирован07-02-19 1451"/>
          <p:cNvPicPr/>
          <p:nvPr/>
        </p:nvPicPr>
        <p:blipFill>
          <a:blip r:embed="rId1"/>
          <a:stretch/>
        </p:blipFill>
        <p:spPr>
          <a:xfrm>
            <a:off x="468360" y="0"/>
            <a:ext cx="16351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omic Sans MS"/>
              </a:rPr>
              <a:t>Вопросительные местоим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кто? что? какой? чей?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колько? каков? который (час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оставить простое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вопросительное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предложение о маслени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Сканирован07-02-19 1451"/>
          <p:cNvPicPr/>
          <p:nvPr/>
        </p:nvPicPr>
        <p:blipFill>
          <a:blip r:embed="rId1"/>
          <a:stretch/>
        </p:blipFill>
        <p:spPr>
          <a:xfrm>
            <a:off x="0" y="0"/>
            <a:ext cx="18572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0" y="128592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топаешь, то и полопае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кольк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 – столько у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71680" y="1285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14240" y="2928960"/>
            <a:ext cx="22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Сканирован07-02-19 1451"/>
          <p:cNvPicPr/>
          <p:nvPr/>
        </p:nvPicPr>
        <p:blipFill>
          <a:blip r:embed="rId1"/>
          <a:stretch/>
        </p:blipFill>
        <p:spPr>
          <a:xfrm>
            <a:off x="0" y="0"/>
            <a:ext cx="1857240" cy="2835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658800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70c0"/>
                </a:solidFill>
                <a:uFillTx/>
                <a:latin typeface="Comic Sans MS"/>
              </a:rPr>
              <a:t>Неопределённые местоимения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кто, нечто, некоторый,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сколько, кое-кто, кое-что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кто-то, кто-нибудь, что-нибуд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270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от относительных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стоимени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и помощи приставки кое и суффиксов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, либо, нибудь,  образоват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определенные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стоиме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бразец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ем-нибудь, кое-ч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564000" y="620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17440" y="620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868360" y="620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349080" y="1052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16000" y="-360"/>
            <a:ext cx="71280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omic Sans MS"/>
              </a:rPr>
              <a:t>Отрицательные местоимения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то, ничто, никакой, ниче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кого, нечег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определить когда пишетс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е, а когда 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го спроси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го не спроси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445080" y="105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813440" y="105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144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693800" y="486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Сканирован07-02-19 1451"/>
          <p:cNvPicPr/>
          <p:nvPr/>
        </p:nvPicPr>
        <p:blipFill>
          <a:blip r:embed="rId1"/>
          <a:stretch/>
        </p:blipFill>
        <p:spPr>
          <a:xfrm>
            <a:off x="468360" y="0"/>
            <a:ext cx="16351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Сканирован07-02-19 1451"/>
          <p:cNvPicPr/>
          <p:nvPr/>
        </p:nvPicPr>
        <p:blipFill>
          <a:blip r:embed="rId1"/>
          <a:stretch/>
        </p:blipFill>
        <p:spPr>
          <a:xfrm>
            <a:off x="0" y="0"/>
            <a:ext cx="1857240" cy="3024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119640" cy="13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99"/>
                </a:solidFill>
                <a:uFillTx/>
                <a:latin typeface="Comic Sans MS"/>
              </a:rPr>
              <a:t>Притяжательные местоимения</a:t>
            </a: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мой, твой, свой, наш, ваш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9640" y="278100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оставить словосочет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Притяжат. мест. + сущ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Образец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ша масле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36720" y="3789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kustodiev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6"/>
          <p:cNvSpPr txBox="1"/>
          <p:nvPr/>
        </p:nvSpPr>
        <p:spPr>
          <a:xfrm>
            <a:off x="1214280" y="0"/>
            <a:ext cx="515808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- мы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ий язы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43760" y="5715000"/>
            <a:ext cx="285732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12 го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Сканирован07-02-19 1451"/>
          <p:cNvPicPr/>
          <p:nvPr/>
        </p:nvPicPr>
        <p:blipFill>
          <a:blip r:embed="rId1"/>
          <a:stretch/>
        </p:blipFill>
        <p:spPr>
          <a:xfrm>
            <a:off x="0" y="0"/>
            <a:ext cx="1928880" cy="28353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573552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omic Sans MS"/>
              </a:rPr>
              <a:t>Указательные местоимения: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т, этот, такой, таков, столько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0040" y="2714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определить род следующих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местоим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000160" y="4149720"/>
            <a:ext cx="3500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763640" y="1000080"/>
            <a:ext cx="3591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ен.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.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акой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уж.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059280" y="1071720"/>
            <a:ext cx="22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жен.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643200" y="23572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ср.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214880" y="36432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муж. р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Сканирован07-02-19 1451"/>
          <p:cNvPicPr/>
          <p:nvPr/>
        </p:nvPicPr>
        <p:blipFill>
          <a:blip r:embed="rId1"/>
          <a:stretch/>
        </p:blipFill>
        <p:spPr>
          <a:xfrm>
            <a:off x="0" y="0"/>
            <a:ext cx="1857240" cy="3024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26436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omic Sans MS"/>
              </a:rPr>
              <a:t>Определительные местоимения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сь, всякий, каждый, сам, самый, любой, иной, друг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2997360"/>
            <a:ext cx="875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идумать СМС с определительными местоимения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Масленица - самый весёлый праздник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Comic Sans MS"/>
              </a:rPr>
              <a:t>Девять разрядов местоимений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42920" y="2205000"/>
          <a:ext cx="8858160" cy="254016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нос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тяж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врат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определё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каз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иц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синтаксическу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ль выделенных местоимений в предложен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Да, и </a:t>
            </a: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такой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, моя Россия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Ты</a:t>
            </a:r>
            <a:r>
              <a:rPr b="0" i="1" lang="ru-RU" sz="4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всех</a:t>
            </a:r>
            <a:r>
              <a:rPr b="0" i="1" lang="ru-RU" sz="4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краев дороже </a:t>
            </a: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мне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 algn="ct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. А. Бл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600" spc="-1" strike="noStrike">
                <a:solidFill>
                  <a:srgbClr val="0070c0"/>
                </a:solidFill>
                <a:latin typeface="Comic Sans MS"/>
              </a:rPr>
              <a:t>местоимения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 в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предложении чаще всего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являются подлежащим,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дополнением,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определение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0"/>
            <a:ext cx="77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сленица… Только вдумайтесь в        слов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Что он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несет? И сразу представляются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с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ставляющие      праздника: ярмарки, хороводы, песни, пляски, игры, а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амо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главное – блины. Блины – круглые, румяные, горячие – непременный атрибут масленицы.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н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являли собой символ солнца, которое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с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ярче разгоралось, удлиняя тени. Проходили века, менялась жизнь, но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ичт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е могло изменить широкую масленицу.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ё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стречали и провожали с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то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же неудержимой удалью,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алекие времена. Масленицу в народе всегда любили и ласково называли «касаточка», «сахарные уста», «честная масленица», «перепелочка», «объедуха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000" spc="-1" strike="noStrike" u="sng">
                <a:solidFill>
                  <a:srgbClr val="703dff"/>
                </a:solidFill>
                <a:uFillTx/>
                <a:latin typeface="Comic Sans MS"/>
              </a:rPr>
              <a:t>Слова для справок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, что, оно, все, этог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ое, они, собой, всё, ничто, её, той, что, т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тавить пропущенные местоимения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мотри в слова для справок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разряд каждого вставленного местоим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11280" y="620640"/>
            <a:ext cx="7991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еница… Только вдумайтесь в        слово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ет? И сразу представляютс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яющ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здника: ярмарки, хороводы, песни, пляски, игры, 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вное – блины. Блины – круглые, румяные, горячие – непременный атрибут масленицы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л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 солнца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рче разгоралось, удлиняя тени. Проходили века, менялась жизнь, н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ч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могло изменить широкую масленицу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тречали и провожали с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же неудержимой удалью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лекие времена. Масленицу в народе всегда любили и ласково называли «касаточка», «сахарные уста», «честная масленица», «перепелочка», «объеду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859280" y="657360"/>
            <a:ext cx="749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660360" y="639720"/>
            <a:ext cx="67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л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349440" y="1197000"/>
            <a:ext cx="6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652720" y="11224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а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5724360" y="1527120"/>
            <a:ext cx="90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060000" y="2343240"/>
            <a:ext cx="6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л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612720" y="2948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п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1764360" y="335772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р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7452360" y="3267000"/>
            <a:ext cx="6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л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635280" y="3807000"/>
            <a:ext cx="74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7237080" y="385596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8172360" y="374184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 на зад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6013080" y="692280"/>
            <a:ext cx="80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о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7380360" y="2440080"/>
            <a:ext cx="17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тор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500720" y="249228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оз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42920" y="1785960"/>
            <a:ext cx="860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ывод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естоимения нашу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           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речь делают красивее и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           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богаче, помогаю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избегать повтор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6600" spc="-1" strike="noStrike" u="sng">
                <a:solidFill>
                  <a:srgbClr val="000000"/>
                </a:solidFill>
                <a:uFillTx/>
                <a:latin typeface="BreastBomb"/>
              </a:rPr>
              <a:t>Тема: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0000"/>
                </a:solidFill>
                <a:latin typeface="BreastBomb"/>
              </a:rPr>
              <a:t> 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BreastBomb"/>
              </a:rPr>
              <a:t>Местоимение как часть речи.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BreastBomb"/>
              </a:rPr>
              <a:t>Разряды местоимений</a:t>
            </a:r>
            <a:r>
              <a:rPr b="1" i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2960" y="17859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ридумать рекламу местоимения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68360" y="90792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тере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Что интересно было на уроке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кие творческие работы вы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выполняли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уч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Чему вы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авно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Что сегодняшний урок принес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н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kustodiev05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5"/>
          <p:cNvSpPr txBox="1"/>
          <p:nvPr/>
        </p:nvSpPr>
        <p:spPr>
          <a:xfrm>
            <a:off x="1071720" y="0"/>
            <a:ext cx="6715080" cy="37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 знакомо вокруг, тем не менее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земле ещё много всего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достойно, поверь, удивления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моего, и тво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6300720" y="5877000"/>
            <a:ext cx="158436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12 го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713880" y="1714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omic Sans MS"/>
              </a:rPr>
              <a:t>СПАСИБО ЗА УРОК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11280" y="1413000"/>
            <a:ext cx="7993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Цель: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зучить местоимение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 часть ре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учиться правильно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отреблять местои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86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Comic Sans MS"/>
              </a:rPr>
              <a:t>Я о себе такого мнения: </a:t>
            </a:r>
            <a:br>
              <a:rPr sz="4500"/>
            </a:br>
            <a:r>
              <a:rPr b="1" i="1" lang="ru-RU" sz="4500" spc="-1" strike="noStrike">
                <a:solidFill>
                  <a:srgbClr val="000000"/>
                </a:solidFill>
                <a:latin typeface="Comic Sans MS"/>
              </a:rPr>
              <a:t>Огромна роль местоимения!</a:t>
            </a:r>
            <a:br>
              <a:rPr sz="4500"/>
            </a:br>
            <a:r>
              <a:rPr b="1" i="1" lang="ru-RU" sz="4500" spc="-1" strike="noStrike">
                <a:solidFill>
                  <a:srgbClr val="000000"/>
                </a:solidFill>
                <a:latin typeface="Comic Sans MS"/>
              </a:rPr>
              <a:t>Я делу отдаюсь сполна </a:t>
            </a:r>
            <a:br>
              <a:rPr sz="4500"/>
            </a:br>
            <a:r>
              <a:rPr b="1" i="1" lang="ru-RU" sz="4500" spc="-1" strike="noStrike">
                <a:solidFill>
                  <a:srgbClr val="000000"/>
                </a:solidFill>
                <a:latin typeface="Comic Sans MS"/>
              </a:rPr>
              <a:t>Я заменяю имена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ака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н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начнется через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есколько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дней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65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Широкая маслен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чнется через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емь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в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дн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42892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ирокая  масле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менить могу другие части речи,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Взвалив обязанности их к себе на плечи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Когда приходится слова другие замещать,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На их значение всегда мне надо указа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9280" y="3571560"/>
            <a:ext cx="800100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естоимение употребляются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место имени, указывая на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редмет, признак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оличество,    н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е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зывают и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 род и число местоим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акая (широкая)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6:28:57Z</dcterms:created>
  <dc:creator>татьяна</dc:creator>
  <dc:description/>
  <dc:language>en-US</dc:language>
  <cp:lastModifiedBy>ар</cp:lastModifiedBy>
  <dcterms:modified xsi:type="dcterms:W3CDTF">2012-02-12T17:58:21Z</dcterms:modified>
  <cp:revision>98</cp:revision>
  <dc:subject/>
  <dc:title>Тема: Местоимение как часть речи. Разряды местоимений.</dc:title>
</cp:coreProperties>
</file>