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D9C-D878-47DF-8AB6-A236E2BD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C99-C168-4196-B8FF-AAEE8D8B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786-E48E-4523-9361-23761D04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0EF-8B94-4A55-A798-6924F3D7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E088-9814-4E1A-ABBD-282739C2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66F8-0ED3-487A-99E3-B7302EE7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5C18-A076-45B0-A833-2DADCDD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9B0A-92F1-4A73-B9F4-FB569E6E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E3FC-FB7D-4E9E-B451-EF5C60DD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D87E-84A1-4E1B-A819-EE125C9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1AE9-B563-481C-8BA2-3A56FE3A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20D-2197-4835-91F7-446BD5FF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0549-E9C8-4440-AE2B-0A875FB4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D871-B94F-45A1-BDE2-0F745BE9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F8DD-EDE9-4794-A6A6-9E6420BC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CB9C-600F-4E59-8716-8240835C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E033-3FB8-4289-BF89-E71B8EEC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7FF-6FFB-44CA-B294-9ED07E5F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556-5349-48B0-9815-000F1A6C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4C4-1DFF-4877-93AF-49BA68E7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F5D-DF01-46A6-ACCF-BA0C4FF5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6B6-E2C2-4CF4-B0A1-232C054F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25F-0EFA-4F53-90B4-7552AD96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659-06A6-4011-8FA4-845E2CE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e4e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8B19-367F-460B-B9BE-F4CFD1D51F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6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7A0A-1463-4DE9-B9CC-5EB0D80636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d4d4ce"/>
                </a:solidFill>
                <a:latin typeface="Tahoma"/>
              </a:rPr>
              <a:t>Frau Krause</a:t>
            </a:r>
            <a:br>
              <a:rPr sz="5400"/>
            </a:br>
            <a:r>
              <a:rPr b="1" lang="de-DE" sz="5400" spc="-1" strike="noStrike">
                <a:solidFill>
                  <a:srgbClr val="d4d4ce"/>
                </a:solidFill>
                <a:latin typeface="Tahoma"/>
              </a:rPr>
              <a:t>Fräulein Krause</a:t>
            </a:r>
            <a:br>
              <a:rPr sz="5400"/>
            </a:br>
            <a:r>
              <a:rPr b="1" lang="de-DE" sz="5400" spc="-1" strike="noStrike">
                <a:solidFill>
                  <a:srgbClr val="d4d4ce"/>
                </a:solidFill>
                <a:latin typeface="Tahoma"/>
              </a:rPr>
              <a:t>Herr Krause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 Mädchen. Das Mädchen heißt Fräulein Marta. Fräulein Marta lebt in Saarbrücken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89640" y="260280"/>
            <a:ext cx="4325760" cy="648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 Mann. Der Mann heißt Herr Merkel. Herr Merkel lebt in Köln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10240" y="260280"/>
            <a:ext cx="4122720" cy="64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e Frau. Die Frau heißt Frau Fuchs. Frau Fuchs lebt in Wöbbelin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981320" cy="64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Das ist ein Mann. Der Mann heißt Herr Medwedjew. Herr Medwedjew lebt in Moskau.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840720" cy="465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Das ist ein Mädchen- Das Mädchen heißt Fräulein Susi. </a:t>
            </a:r>
            <a:br>
              <a:rPr sz="4000"/>
            </a:b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Fräulein Susi lebt in Magdeburg.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9280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9280" y="274680"/>
            <a:ext cx="382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e Frau. Die Frau heißt Frau Krause. Frau Krause lebt in Weimar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70120" cy="648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Das ist ein Mann. Der Mann heißt Herr Leder. </a:t>
            </a:r>
            <a:br>
              <a:rPr sz="4000"/>
            </a:b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Herr Leder lebt in Leipzig.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99112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16000" y="274680"/>
            <a:ext cx="397044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e Frau. Die Frau heißt Frau Krause. Frau Krause lebt in Berlin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40160" cy="64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9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 Mann. Der Mann heißt Herr Neumann. Herr Neumann lebt in Dresden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56040" y="189000"/>
            <a:ext cx="4140360" cy="65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e Frau. Die Frau heißt Frau Pohl. Frau Pohl lebt in Bremen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92520" y="115920"/>
            <a:ext cx="4413240" cy="662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75444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 Mann. Der Mann heißt Herr Müller. Herr Müller lebt in Schwerin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468680" cy="633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e Frau. Die Frau heißt Frau Mohn. Frau Mohn lebt in Frankfurt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0400" y="333360"/>
            <a:ext cx="4224240" cy="63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9280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Das ist eine Frau. Die Frau heißt </a:t>
            </a:r>
            <a:br>
              <a:rPr sz="4000"/>
            </a:b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Frau Dietrich. </a:t>
            </a:r>
            <a:br>
              <a:rPr sz="4000"/>
            </a:b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Frau Dietrich lebt in München.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99436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4d4ce"/>
                </a:solidFill>
                <a:latin typeface="Tahoma"/>
              </a:rPr>
              <a:t>Das ist ein Mädchen. Das Mädchen heißt Fräulein Wolf. Fräulein Wolf lebt in Hamburg.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84760" y="189000"/>
            <a:ext cx="4224240" cy="63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Das ist ein Mann. Der Mann </a:t>
            </a:r>
            <a:br>
              <a:rPr sz="4000"/>
            </a:b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heißt Herr Werner. </a:t>
            </a:r>
            <a:br>
              <a:rPr sz="4000"/>
            </a:br>
            <a:r>
              <a:rPr b="0" lang="de-DE" sz="4000" spc="-1" strike="noStrike">
                <a:solidFill>
                  <a:srgbClr val="d4d4ce"/>
                </a:solidFill>
                <a:latin typeface="Tahoma"/>
              </a:rPr>
              <a:t>Herr Werner lebt in Potsdam.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696360" cy="473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0:26:34Z</dcterms:created>
  <dc:creator>***</dc:creator>
  <dc:description/>
  <dc:language>en-US</dc:language>
  <cp:lastModifiedBy>***</cp:lastModifiedBy>
  <dcterms:modified xsi:type="dcterms:W3CDTF">2011-10-08T06:24:47Z</dcterms:modified>
  <cp:revision>3</cp:revision>
  <dc:subject/>
  <dc:title>Обращение – 2 класс</dc:title>
</cp:coreProperties>
</file>