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F7546-FC7A-4E02-9E3A-B61638AFB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D6ADB-27E7-471E-AA78-8A7980E6A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EDC3A-583F-4E90-A8E3-AB96618E1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50DA1-21B0-4763-97E0-194EF7990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DD086-295B-427F-B5DD-D8B4EA188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BE4B6-786F-4A2E-A6AB-BF64A7898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13C88-6A47-4CBE-AF18-DE1E072E9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1DC83-01B1-4E57-9B33-21947EBC4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79E7C-8EB6-4649-AEA6-C66FAA472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22BB3-E33C-40A5-A800-6A7E7C38D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691DC-84AF-461E-9000-D43E58DCF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3849F-76D6-4E52-929E-503315C1F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7BE33-2446-47F2-B85A-B4815B340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AFF6E-1AB7-49CD-A9D8-473799BFE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961A9-09A1-4CF9-A2E2-BE87FC8AE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21DD9-3B58-4716-B41F-E91DA1A5D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E82C8-4A18-46CA-9A7F-D17354891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562D3-F5D7-4751-AE7F-E7087276A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60ED5-3B7E-4CE5-AA3F-AF734E95B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3368C-79DD-4E4B-96B5-98371FA3B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35FF6-B5C6-44A4-A56E-3D460C0EF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4C2BA-62EE-4194-BFFA-7360F60F3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700CF-2017-44F7-97E1-53F5F1749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215E4-1D97-4F24-BA2D-A2ADC6ABE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2355F-C7FD-426D-9447-48845826868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CD7DA-114A-4580-882B-02972413ED4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03280" y="1125360"/>
            <a:ext cx="734544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6666"/>
                </a:solidFill>
                <a:latin typeface="Arial"/>
              </a:rPr>
              <a:t>Портфолио учителя</a:t>
            </a:r>
            <a:endParaRPr b="0" lang="en-US" sz="54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Образец оформления</a:t>
            </a:r>
            <a:br>
              <a:rPr sz="3200"/>
            </a:b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 титульного листа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26560" y="1827360"/>
            <a:ext cx="8137800" cy="49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Муниципальное образовательное учреждение средняя общеобразовательная школа № 40 города Твер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ОРТФОЛИО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учителя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(предмет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Ф.И.О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Тверь, 2011-2012 уч.год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Раздел 1</a:t>
            </a:r>
            <a:br>
              <a:rPr sz="3200"/>
            </a:b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«Общие сведения об учителе»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99640" y="1557000"/>
            <a:ext cx="77835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Фамилия, имя, отчество, год рожден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Образование (что и когда окончил, специальность, квалификация по диплому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Трудовой и педагогический стаж, стаж работы в данном ОУ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Повышение квалификаци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Копии документов, подтверждающих наличие учёных и почётных званий и степене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Наиболее значимые правительственные награды, грамоты, благодарственные письм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Дипломы различных конкурс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70160" y="431640"/>
            <a:ext cx="717696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Раздел 2</a:t>
            </a:r>
            <a:br>
              <a:rPr sz="3200"/>
            </a:b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«Результаты педагогической деятельности»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4000" y="1699920"/>
            <a:ext cx="8351640" cy="50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Verdana"/>
              </a:rPr>
              <a:t>Материалы с результатами освоения обучающимися образовательных программ и сформированности у них ключевых компетентностей по преподаваемому предмету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Verdana"/>
              </a:rPr>
              <a:t>Сравнительный анализ деятельности педагогического работника за 3 года на основании: - контрольных срезов знаний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2500" spc="-1" strike="noStrike">
                <a:solidFill>
                  <a:srgbClr val="000000"/>
                </a:solidFill>
                <a:latin typeface="Verdana"/>
              </a:rPr>
              <a:t>- участия воспитанников в школьных и окружных олимпиадах, конкурсах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Verdana"/>
              </a:rPr>
              <a:t>Результаты промежуточной и итоговой аттестации (ЕГЭ) учащихся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Verdana"/>
              </a:rPr>
              <a:t>Наличие медалистов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79520" y="792000"/>
            <a:ext cx="6718320" cy="7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Раздел 3</a:t>
            </a:r>
            <a:br>
              <a:rPr sz="3200"/>
            </a:b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«Научно-методическая 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              деятельность»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79280" y="1557000"/>
            <a:ext cx="87854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УМК и материалы, в которых обосновывается выбор образовательной программы и комплекта учебно-методической литератур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Материалы, в которых обосновывается выбор используемых образовательных технологи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Материалы, содержащие обоснование применения в своей практике тех или иных средств педагогической диагностики для оценки образовательных результат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Использование информационно-коммуникационных технологий в образовательном процессе, технологий обучения детей с проблемами развития и т.п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684360" y="404640"/>
            <a:ext cx="8013600" cy="574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Работа в методическом объединении школы и города, сотрудничество с ВУЗами и другими учреждениям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Участие в профессиональных и творческих педагогических конкурсах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Участие в методических днях и предметных неделях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Организация и проведение семинаров, «круглых столов», мастер - классов и т.п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Проведение научных исследовани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Разработка авторских программ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Подготовка творческого отчёта, реферата, доклада, стать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Написание кандидатской или докторской диссертаци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Другие документ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3400" cy="132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Раздел 4</a:t>
            </a:r>
            <a:br>
              <a:rPr sz="3200"/>
            </a:b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«Внеурочная деятельность по 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предмету»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4000" y="1628640"/>
            <a:ext cx="80024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Список творческих работ, рефератов, учебно-исследовательских работ, проектов, выполненных учащимися по предмету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Победители олимпиад, конкурсов, соревнований, интеллектуальных марафонов и др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Сценарии внеклассных мероприятий, фотографии, видеозаписи проведённых мероприятий (выставки, предметные экскурсии, КВНы и т.п.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Программы кружков и факультативов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Другие документы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Раздел 5</a:t>
            </a:r>
            <a:br>
              <a:rPr sz="3200"/>
            </a:b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«Учебно – материальная база»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69800" y="1628280"/>
            <a:ext cx="73134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Список словарей и другой справочной литературы по предмету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Список наглядных пособий (макеты, таблицы, схемы, иллюстрации, портреты, карты и др.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Наличие технических средств обучен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Наличие компьютера и компьютерных средств обучения (ЦОРы, программы виртуального эксперимента, контроля знаний, электронные учебники и т.д.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1042920" y="1557360"/>
            <a:ext cx="765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Аудио и видеопособ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Наличие дидактического материала, сборников задач, упражнений, примеров рефератов и сочинений и т.п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Другие документы по желанию учител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2T16:55:09Z</dcterms:created>
  <dc:creator>мама</dc:creator>
  <dc:description/>
  <dc:language>en-US</dc:language>
  <cp:lastModifiedBy>1</cp:lastModifiedBy>
  <dcterms:modified xsi:type="dcterms:W3CDTF">2012-02-22T18:03:51Z</dcterms:modified>
  <cp:revision>7</cp:revision>
  <dc:subject/>
  <dc:title>Портфолио учителя</dc:title>
</cp:coreProperties>
</file>