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ED5-A66C-4EC0-B321-853F8812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B76-4C90-4C0D-AF7B-AAEC9684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47A-45F4-415F-88D3-DB629199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5C9-1348-4F81-8D1C-CE0F6677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1FD6-C5CD-4B6A-873C-9DA9FB05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C97E-0321-4BD5-A730-009C736B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9946-188F-4B03-8D45-81ECC7BC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A94A-2CE9-4673-864C-86D5EE7D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298D-26A4-4B97-AC7C-FDD605EB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452C-8601-495A-928E-23DD5E88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D01E-2E77-4326-B5D0-F6FAB09A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D72-6398-4444-9012-91CED52F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875F-7973-4CE8-973B-60A7DD9F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C16B-24B7-43EF-A5E2-894840FA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0765-EA97-4728-B43D-6ED940D7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B8E-2235-4E97-9068-AA0758CD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C29D-AA63-4146-9377-FA1E382F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EA1-36F4-4FC4-A1D9-9F141E2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3C0-A87F-475D-A79C-DA8141E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BF0-23E2-4ACF-8893-80017D8A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DB8-2C3C-4480-8332-D6FE5C0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B89-0408-4DF0-84C5-8314C25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09B-B5D5-476B-BF59-C7EC4241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6A1-12BA-4C66-8ED1-FF570DC9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BF6-872D-46AD-AE06-160B6A420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C1AF-A2AB-434C-876D-BFCA7D2FE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ДУХОВНОЕ НАСЛЕДИЕ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000" y="4723920"/>
            <a:ext cx="7775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митрий Сергеевич Лихаче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- Лауреат Премии Президента Российской Федерации в области литературы и искус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За честь и достоинство талант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3219480" cy="2924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69960" y="1700280"/>
            <a:ext cx="20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7280" y="27756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бщественная деятельность. Признани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6058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авайте будем людьми счастливыми, то есть имеющими привязанности, любящими глубоко и серьезно что-то значитель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253960" cy="4105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63640" y="4437000"/>
            <a:ext cx="3095640" cy="2063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29564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ревожная совесть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3499920"/>
            <a:ext cx="82184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гда академику Д. с. Лихачеву задали вопрос : В чем вы видите смысл жизни? Он ответил так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изнь – это драгоценнейший дар, он дается не зря, а д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ой-то огромной, великой цели. Вы подумайте: природа создавала челове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иллионы лет. И человек обязан отблагодарить природу за это и сво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ворческой работой продолжать эту созидательную деятельность. Но нуж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должать накапливать в жизни  добро, накапливать все то, что способству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зиданию. Жизнь –прежде всего творчество, но это не значит, что кажд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ловек должен родиться художником, балериной или ученым. Можно твори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сто добрую атмосферу вокруг себя… Творчество – оно беспрерыв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.С. Лихач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3024000" cy="2117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1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6944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амое лучшее, что я хочу сказать молодому поколению, - спешите учиться, спешите получать образование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360" y="2133360"/>
            <a:ext cx="35989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472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о я далек от горьких сожалений –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 растерял я по ветру листву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греет солнце зимний небосклон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ойдет весна в цветении сирен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 летний зной смягчат густые тени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 до листка сгорит осенний клен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ак – год за годом. Жизнь, ты явь иль сон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чем твой мрак и вспышки озарений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 глубина падений и прозрений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 крик ребенка, и предсмертный стон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ы вновь и вновь смыкаешь круг извечн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ождений и смертей, велик и ма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ходит и укачивает вечер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сех, кто за долгий, трудный день уста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 я иду по кругу. И мо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 истоку повернула коле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363760" cy="381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93080" y="765000"/>
            <a:ext cx="1584360" cy="1235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924360" y="1473120"/>
            <a:ext cx="1439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773360"/>
            <a:ext cx="4475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Историческое значение каждого русского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еликого человека измеряется его заслугами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Родине, а его человеческое достоинство 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силою его патриотизма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Н.Г. Чернышевский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3168360" cy="4753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2592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роки нравственн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349360"/>
            <a:ext cx="39704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ворческое долголетие Дмит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хачёва – явление уникальное 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о же время поучительное. Эт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ечно, не только творческо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голетие, но и физическое. Ка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 странно, я думаю, что о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ультат двух вещей: первое –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брожелательного отношения 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юдям, и второе постоянно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зостановочной работы мысл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. Грани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6247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сли жить только для себя, то от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рожитого не останется и следа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Если жить для других, то другие сберегут то, чему служил, чему отдавал силы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Д.С. Лихачев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57336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 таких людях говорят — «совесть нации». И Дмитрий Сергееви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ихачев действительно был совестью нации: в годы страш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линских репрессий, в годы засилья атеистической идеологии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ультуре и науке он защищал и спасал от забвения и уничто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амятники отечественной культуры, в эпоху антирелигиоз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паганды открывал для современников и потомков духовное наслед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шествующих эпох Российской истории и показывал через древнерусску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итературу — как наши предки старались и умели жить по сове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2109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Академик Лихачев является автором просветительской книги «Письма о добром и прекрасном» Книга написана в публицистическом  стиле. Издана в 1985 году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49687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Какой стиль речи называется публицистически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ублицистический стиль занимает особое мес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реди функциональных стилей, так как основ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ункция, которую он выполняет, это фун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действия. Публицистический сти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ализуется в средствах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то язык газет, радио, телевид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ублицистический стиль сближается, с од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ороны, с художественной литературой, но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же время содержит черты всех стиле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учного, разговорного, делового. К жанр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ублицистического стиля относятся: очерк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тьи, репортажи, интервью и т.д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64000" y="2852640"/>
            <a:ext cx="360072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нига Д.С. Лихачева написана в форме писем. Что такое письмо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исьмо – написанный текст, посылаемый д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общения чего – нибуд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.И. Ожог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своей книге Д.С. Лихачев посылает читателям 4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исем. Почему автор выбрал форму писем и ко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и обращены, мы узнаем, прочитав вступительн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тью книги «Письма к молодым читателям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исьмо второ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одость – вся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линные друзья приобретаются в молодости.  Молодость - это вре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ближения. И об этом следует помнить и друзей беречь, ибо настоя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ружба очень помогает и в горе и в рад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памяти остаются все поступки, совершенные в молодости. Хорош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удут радовать, дурные – не давать спать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акое слово является ключевым и согласны ли вы с мнением автор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сть ли у вас друзья и как вы поступаете с ним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чему молодым легче сблизить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052280"/>
            <a:ext cx="3682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Автор работы: Решетникова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Анна Петровна,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учитель русского языка и литературы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МОУ «СОШ № 14» города Братск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952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ьмо четверт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амая большая ценность –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ая большая ценность в мире – жизнь: чужая, своя, жизнь живот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ира и растений, жизнь культуры, жизнь на всем ее протяжении – и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шлом, и в настоящем, и в будущем… А жизнь бесконечно глубо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ы всегда встречаемся с чем-то, чего не замечали раньше, что пораж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с своей красотой, неожиданной мудростью, неповторимост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ыли ли в вашей жизни такие встречи, которые ва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азил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то были эти интересные люди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исьмо пят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чем смысл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до прожить жизнь с достоинством, чтобы не стыдно было вспомни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ди достоинства жизни надо уметь отказываться от мелких удовольствий,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малых тоже… Не врать ради выгоды… Жизнь – прежде всего творчество, 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то не значит, что каждый человек, чтобы жить, должен родиться художником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алериной или ученым. Можно творить просто добрую атмосферу вокруг себ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ловек рождается и оставляет по себе память. Об этом нужно заботиться 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мого начала… И вот очень важно, какую память он о себе остав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 вас есть цель в жизни? А принципы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меете ли вы отказываться от удовольствий ради принципов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то нужно делать, чтобы создавать вокруг себя благоприятную ауру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кую память вы бы хотели оставить после себ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исьмо седьмо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объединяет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ажи заботы. Забота скрепляет отношения между людь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ли забота направлена только на себя, то выраст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гоист. Незаботливый или беззаботный человек недобр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не любящий ник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подтверждение этой мысли Д.С.Лихачев предлагает проследить жизнь человека с момента его зачатия и до стар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ботитесь ли вы о ком-нибудь сейчас и как это проявляетс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исьмо восьм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ыть веселым, но не смеш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каким веселым нужно быть? Шумное и навязчивое веселье утомитель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кружающим. Не будьте смешными.  Не быть смешным – это не только ум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бя вести, но и признак ума. Смешным можно быть во всем: в манере одевать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поведении (не кладите руки на стол, не старайтесь всех перекричать, будь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легантны). Не мучайтесь своими недостатками, если они у вас есть. …будь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авдивы. Стремящийся обмануть других прежде всего обманывается с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ожь всегда выдает себя, ложь всегда “чувствуется”, и вы не толь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новитесь противны, хуже – вы смеш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ть ли среди ваших знакомых смешные люди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Чем они выделяютс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исьмо двенадцат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ловек должен быть интеллигент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ллигентность – это способность к пониманию, 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сприятию, это терпимое отношение к миру и к люд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ли в вашем окружении (дома, в школе, в других местах) интеллигентные люди? Почему вы так считает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значит быть интеллигентным в наши дн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исьмо тринадцат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 воспита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спитанный человек – это тот, кто хочет и умеет счита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другими, это тот, кому собственная вежливость не толь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вычна и легка, но и приятна. Это тот, кто в рав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епени вежлив и со старшими и с младшими – годами и п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ож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читаете ли вы себя воспитанным человеко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вы думаете: легко ли в наши дни жить воспитанны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юдям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исьмо четырнадцат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 дурных и хороших влиян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жизни каждого человека есть любопытное возрастн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вление: сторонние влияния. Влияния бывают и хорошие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хие. Плохих влияний следует опаса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ой человек прежде всего попадает под влияния? (безволь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овите примеры хороших влиян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исьмо пятнадцат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 зави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жасное чувство, от которого страдает прежде всего тот, кто завиду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висть развивается прежде всего там, где вы сами себе чуж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вивайте в себе свои собственные индивидуальные склонност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вою собственную неповторимость в окружающем вас мире, будь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им собой, и вы никогда не будете завидов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спытывали ли вы к кому-нибудь чувство зависти и по какому повод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жно или нужно с ним бороть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исьмо восемнадцат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кусство ошиба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жизни ошибок бывает много. И надо уметь выходить 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шибок: исправлять их немедленно и… красиво. Призна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своей ошибке перед самим собой не всегда легко, нуж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ыт, чтобы после совершенной ошибки как можно скорее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можно легче включиться в работу, продолжить е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ли человек право на ошибк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ие ошибки нельзя исправить и почем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исьмо двадцать втор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юбите чит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человека должны быть любимые произведения, к которы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обращается неоднократно, которые знает в деталях, 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торых может напомнить в подходящей обстановке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Есть ли у вас дома книги, которые вы или ваши р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ечитывают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акие это книги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Кто их принес в дом и поставил на полк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У него была судьба такая – прямая, как стрела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Филолог, историк, общественный деятел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Академик АН СССР/1970/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Дважды лауреат Государственной премии /1952,1969/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Герой Социалистического труда /1986/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Лауреат Государственной премии Россий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едерации/1993/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468000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ьмо сороков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 памя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мять – преодоление времени, преодоление смер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спамятный” – это прежде всего человек неблагодарны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зответственный, а следовательно, и неспособный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брые, бескорыстные поступ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ие семейные традиции передаются в вашем род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мните ли вы своих ушедших родственников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“Письмецо в конверте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ьмо сорок втор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меть заметить красоту наших городов и се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амое трудное – заметить идеальный образ в облике гор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села. Если нет этого идеального образа в какой-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стности, то нет и крас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юбите ли вы свой город? За чт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бы вы изменили в облике города, чтобы он стал еще лучш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исьмо вашего ровесник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8598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й ровесник, я обращаюсь к тебе со словами: «Возьми в руки э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нигу, прочти её, ты не пожалеешь о потраченном времени, ведь оно 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йдёт даром. Вернись к «Письмам о добром и прекрасном»; читая и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 сам станешь добрее и прекраснее. И пиши письма, пиши чаще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исьма – мосты, связывающие людей на огромных расстояниях. Это 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стые листы бумаги, исписанные строками о события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изошедших   за   какое-то   время... они   несут   в   себе   тепл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ловеческой души, проносят его на всём пути не растеряв ни капли,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их эмоции и переживания, все, чем хочется поделиться с другом...» 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если это письма великих людей, адресованные будущим поколениям, 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ни ценны вдвой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2939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еномен Лихачев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чем же все-таки феномен Лихачева. Ведь он, в сущности , был боец-одиноч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его распоряжении не было ни партии, ни движения, не было ни влиятель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олжности, ни правительственной верхушки. Ничего. В его распоряжении бы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ишь моральная репутация и авторитет. Власти сменялись, но и Горбачев,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льцин, и череда руководителей, правительства — все они вынуждены бы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дти на какие-то компромиссы, обращаться к Лихачеву. И скорее всего 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тому, что так любят культуру, а потому что приходилось считаться с е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нением и его мировым авторитетом. Лихачев был лично независим. Люб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артия мешает духовной свободе. И он никогда не состоял ни в одной парт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то был его твердый принцип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27280" y="260280"/>
            <a:ext cx="561672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адо прожить жизнь с достоинством, чтобы не стыдно было вспоминать .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                        Д.С. Лихачев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.С.Лихачев верил в то, что доброта и духов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асота человека способны на многое. И вы, юн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коление, сможете сохранить и приумножить т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то Вам завещано. А для этого нужно быть силь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ухом и верой в будущее, чтобы жизнь на плане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ля продолжа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016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бы помнили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006 год был объявлен президентом России В.В.Путиным Годом гуманитарных наук, культуры и образования – Годом академика Д.С.Лихачё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4292640"/>
            <a:ext cx="61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дание трехтомника избранных трудов академ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“Культура и будущее России”, кинофестива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рытие интернет-портала, выпуск почтовой мар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книжный салон, цикл телевизионных передач, посвященных ученому – вот лишь малая часть мероприятий в честь100-летия со дня рождения этого удивительного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700680" y="3645000"/>
            <a:ext cx="2264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амятник                     совест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197160" cy="5257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4368960" cy="2913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788000" y="0"/>
            <a:ext cx="1881000" cy="2305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 rot="20827200">
            <a:off x="179280" y="259920"/>
            <a:ext cx="1592280" cy="114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8388360" y="5877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708360" y="6237360"/>
            <a:ext cx="5256360" cy="620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сня «Россия» в исполнении Аллы Пугаче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953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eec94"/>
                </a:solidFill>
                <a:latin typeface="Times New Roman"/>
              </a:rPr>
              <a:t>Он был символом и отражением доставшейся ему эпохи.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0567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был человеком удивительной судьбы. Начав св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разование в дореволюционной России, Дмитр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ргеевич Лихачев, по его собственным словам, всю жиз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чился: учился у древних эпох, у памятников род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стории и старины, учился мудрости по древнерусс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итературе, изучением которой занимался десятки лет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чился у своего собственного жизненного опыта, — а пережи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митрий Сергеевич все страшные события XX века. Но и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яжелейших жизненных испытаниях Д.С. Лихачев оставал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ерен самым высоким духовно-нравственным идеал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этому не меньше, чем его труды по истории русс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итературы и культуры, для нас важна сама его личность 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тот человек стал для нас живой «связью эпох», «связью време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сторик древнерусской литератур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19280" y="1599840"/>
            <a:ext cx="532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Задушевной любовью всегда оставалась для Дмитрия Сергеевича русская литература, особенно древняя. Эту привязанность он пронес через всю жизнь, написал десятки книг-исследований о литературе Древней Руси: “Человек в литературе Древней Руси”, “Русские летописи и их культурно-историческое значение”, “Возникновение русской литературы”, “Поэтика древнерусской литературы” и многие другие. Д.С.Лихачев перевел уникальный памятник древнерусской литературы – “Слово о полку Игореве”. Этот – золотой фонд русской филологи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2641680" cy="338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17431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eec94"/>
                </a:solidFill>
                <a:latin typeface="Times New Roman"/>
              </a:rPr>
              <a:t>Кто может быть примером сегодня? Таким человеком должен быть Д.С.Лихачёв.  </a:t>
            </a:r>
            <a:br>
              <a:rPr sz="3200"/>
            </a:br>
            <a:r>
              <a:rPr b="0" i="1" lang="ru-RU" sz="3200" spc="-1" strike="noStrike">
                <a:solidFill>
                  <a:srgbClr val="feec94"/>
                </a:solidFill>
                <a:latin typeface="Times New Roman"/>
              </a:rPr>
              <a:t>               Даниил Гранин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ово и полку Игореве” и культура его времени” – уже в самом названии книги звучит подтверждение любимой идеи Лихачева: понять литературное явление можно, только обладая глубокими знаниями о духовном мире той эпохи, в которую оно созда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митрий Сергеевич Лихачев сделал самый точный дословный перевод “Слова о полку Игореве” с древнерусского на современный русский язык и раскрыл читателю ХХ века уникальность этого шедевра мировой литерату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Когда идет разговор о таком разностороннем человеке, каким был Дмитрий Сергеевич Лихачев, хочется ничего не упустить из виду, рассказать о ярких эпизодах его жизни, о научных трудах, о заслугах. Но важно не забыть о главном – о душе, о внутренних нравственных законах, по которым жил этот удивительный человек. А главный закон – это любовь человека к Родин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948360" y="1700280"/>
            <a:ext cx="2051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ногим в своем воспитании я обязан школам,  в которых учился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 Солдат в бою, моряк в волна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лосчастный узник в одиночке,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то б ни был я – не все ль равно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моем нутре гнездится стра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склоне «жизнь» я бурной ноч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шу, как камешек в гора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д бездной «смерть». И лишь од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безумством страсти я кричу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 жить хочу! Я жить хочу!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03640" y="4292640"/>
            <a:ext cx="3816360" cy="2386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259236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ловки и Беломоро-Балтийский канал (1928-1932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ю жизнь я не мог оставаться наблюдателем. Мне всегда надо было  быть участником. Всегда вмешивался и получал шишки. Но если бы шишек не было, был бы несчаст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когда добивался – получал рад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3906720"/>
            <a:ext cx="2151000" cy="2951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11640" y="4292640"/>
            <a:ext cx="38876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Годы войны в блокадном Ленинграде. Институт русской литературы (Пушкинский дом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4176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м дни голодные знаком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дом Больш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дни разлу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имя Пушкинского до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адемии нау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с ржа эпохи не задел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ума блокада не свел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 знали: слово – это дел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воря высокие де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2814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1:44:31Z</dcterms:created>
  <dc:creator>МАМА</dc:creator>
  <dc:description/>
  <dc:language>en-US</dc:language>
  <cp:lastModifiedBy>МАМА</cp:lastModifiedBy>
  <dcterms:modified xsi:type="dcterms:W3CDTF">2012-02-22T11:24:27Z</dcterms:modified>
  <cp:revision>60</cp:revision>
  <dc:subject/>
  <dc:title>Слайд 1</dc:title>
</cp:coreProperties>
</file>