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2363-4233-4289-B2AB-332D2DE7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BCD-6073-41B3-A057-B255A1D6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8FD6-6FE6-44C1-9362-D4E04932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765F-702D-44E6-9294-0F9753D6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2301-A4E6-4C51-9160-53D7237F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BF46-442E-48FF-83C8-9BE0DD66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F26B-F8F1-4626-8D92-A62866AF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EB39-AD8B-4B96-B595-A2C76418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211D-E473-436F-8E98-4689F995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C593-9244-4540-A67F-CC088F28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0AC8-621C-4F93-A00E-55554C0B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C8BA-3E24-4D7D-AC1C-1EFE38DE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4394-09E5-4B11-A29E-DF6CBA3A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FD94-E499-4A41-A13F-61115F73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A8E2-F239-49E1-9FF1-CD9B495F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D4DC-7A6F-4528-8E85-DF0EC035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4F32-4336-4506-873E-AE33A346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F61-6258-43B8-827D-7FF05955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3EF1-C280-4D3E-878F-9C3BDAE5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D50A-650E-4E5D-B4E6-90FDCC90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495-5EFA-44D7-AA97-DC99204B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3A24-1E9A-4742-8DAD-16788784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4C55-E450-445C-9434-BF6DCBDC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6456-A295-42F4-AE21-26A89E1C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1A67-A9FF-4F5E-9391-71F3494724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25D8-8E10-4B2A-A9FA-0E16D2917C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1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 ВАМ ПИШУ…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ли урок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Знакомство с основными правилами созд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кста эпистолярного жан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Развитие умения создания письмен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амостоятельного высказы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Развитие навыка коммуникативного общ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Отработка навыка постановки зна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пинания при обращении и вводных слов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спитание аккуратности, доброжелательн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ветлив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77080" y="115920"/>
            <a:ext cx="17161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634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Письмо академика </a:t>
            </a:r>
            <a:br>
              <a:rPr sz="3600"/>
            </a:b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Д.С. Лихачева к молодеж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039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 молодости формируется не только человек – формирует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ся его жизнь, все его окружение. Если он правильно выбер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ебе друзей, ему будет легче жить, легче переносить горе 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легче переносить радость. Радость ведь также над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«перенести», чтобы она была самой радостной, самой дорогой 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очной, чтобы она не испортила человека и дала настояще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ушевное богатство, сделала человека еще более щедры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адость, не разделенная с задушевными друзьями, не радос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Храните молодость до глубокой старости. Храните молодость 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воих старых, но приобретенных в молодости друзьях. Хранит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олодость в своих навыках, привычках, в своей молод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«открытости к людям», непосредственности. Храните ее во все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не думайте, что взрослым вы станете «совсем, совсем иным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будете жить в другом мир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помните поговорку: «Береги честь смолоду». Уйти совсе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т своей репутации, созданной в школьные годы, нельзя, 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зменить ее можно, но очень трудн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аша молодость – это и наша старос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96160" y="189000"/>
            <a:ext cx="2160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851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Письмо поэта К.М. Симонов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836640"/>
            <a:ext cx="6624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дравствуй, Машка, здравствуй, доч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Шлю тебе я два цветочк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о ландыш и ромашк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ак ли это – дочка Машк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 нарисовал цве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ак ли, как рисуешь т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андыш-то почти хорош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андыш сразу разберешь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 ромашка подгуляла -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епестков уж слишком мал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колько нужно добавлять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в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етыре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ять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 теперь рисую дом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де мы с Нин-Паловной жив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ыша и труба, и окн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 дождик, под которым мокн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т они (рисунок поэта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ерху дождик, снизу сне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 несчастный челове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3816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Пишите друг другу письма, ведь они помогают жить, делая нас добрее.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А.П. Чехов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5472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исатель Н.С. Лесков как-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метил: «Скверное письм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трудняет чтени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схолаживает впечатлени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, наконец, серд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итающего и настраивает е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тив вас»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867280" y="4365720"/>
            <a:ext cx="1729080" cy="2276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966000" y="1916280"/>
            <a:ext cx="1874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Давайте, определим, что будет являться одной из составляющих хорошего письма. А помогут нам в этом письма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6335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Здравствуй, подруга Вер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ишу тебе письмо, так как обещала. 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еня все по-прежнему. Хожу в школу вместе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Людкой, потому что с Ленкой поссорилас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на сильно много воображает. Учится уж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неохота, все ждут каникул. Скорей бы о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наступили. Погода у нас стоит нормальн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риезжай скорей. Я тебя жд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Твоя подруга Кат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20131800">
            <a:off x="5968800" y="41097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Аленушка! Здравствуй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Дружочек мой дорогой, как я по тебе скучаю, как многое мне надо теб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рассказать. Представляешь, вчера наконец-то после долгих уговор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апа согласился отвезти нас к озеру Любви. Это озеро находится в 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километрах от нашего поселка. Я слышала легенду о том, как дв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любленных в стародавние времена решили вместе броситься в во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этого озера, потому что родители не хотели их свадьбы. Они дол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лакали на берегу озера, и все это слышала русалка-волшебница. 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ожалела юных влюбленных и подарила им вечную жизнь, превратив их 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два сросшихся ивовых дерева на берегу после их смерти. Теперь они 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расстаются никогда. Это очень трогательно – обнявшиеся ивы на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зеркальной гладью озера. Я думаю, что на тебя это тоже произвело б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печатление. Вокруг озера – красивейшая растительность. Воздух чис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 наполнен ароматом цветов и трав. Вода в озере прозрачная, и в е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глубине мелькают серебристой чешуёй рыбки. На лодках по озеру плаваю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любленные парочки . Мы пробыли на озере почти три час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но нисколько не устали, а наоборот, получили массу впечатлений.  Все каникул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читаю книги из списка литературы, данного нашей учительницей для летне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чтения. Открыла для себя Тургенева. Его романы очень понравились, а героин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росто вызывают восхищение, хочется быть на них похоже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 следующем письме расскажу о том, как мы с Олей побывали в гостях у Марин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До свидания. Жду твоих писем. Твоя подруга Над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659640" y="4869000"/>
            <a:ext cx="230508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Первое условие создания письма:</a:t>
            </a:r>
            <a:br>
              <a:rPr sz="3200"/>
            </a:b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Информация.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нформация в письме – это «кусоче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еловеческой жизни, к которому интерес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рнуться спустя го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Что может служить информацией для письм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школьные дел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бытия в семь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лече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елание поделиться впечатлением о прочитанном или увиденном, о трудностях и проблемах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Второе условие создания письма.</a:t>
            </a:r>
            <a:br>
              <a:rPr sz="32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Культура человека.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важение к адресату и его времени должно подсказать вам, стоит ли браться за перо. Такое понятие, как внутренняя культура человека – это следующее условие эпистолярного жан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724360" y="4365720"/>
            <a:ext cx="23749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5915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Требования к оформлению письм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31640" y="2492280"/>
            <a:ext cx="734364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воря о культуре письма, отметим, что в письме, согласно принятому этикету, обязательны поля. В правом верхнем углу письма, как правило, ставится дата. Почерк должен быть таким, чтобы письмо не превращалось в ребус. Множество помарок и исправлений свидетельствуют о неуважении к адресату. Аккуратно и разборчиво подписывается конвер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670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сторическая справ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России XIX века в русском речевом письменном этике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ыли распространены зачины и концовки. Зачины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исьмах содержали обращения к адресату по и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честву с выражением ему всяческого почтения и добр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увств, пожелания здоровья. Концовки писем обыч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лались в одном стиле с зачинами и были оч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ногообразны. Это, прежде всего, многословные здрави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 почтительно любезные заверения в любви и памя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ред вами типичные зачины и концовки, отражающ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тикет писем XIX века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Эпистолярный жанр получил свое развитие в эпистолярной литературе, которая предстает перед нами в художественных произведениях, в</a:t>
            </a:r>
            <a:br>
              <a:rPr sz="20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публицистике, в критической литературе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5215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исьмо А. П. Чехова к  В.Г. Короленк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рогой  Владимир Галактионович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пешу сообщить Вам, что я добрался благополучно до сво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одного дома. Когда Вы, дорогой друг, писали последн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слание, я был далеко от Петербурга. На вечер в польз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емьи Г.И. Успенского едва ли попаду, так как выбраться из дому м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елегко и так как, вообще говоря на вечерах я не читаю. Достаточ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не почитать 3-5 минут, как во рту у меня сохнет, голос сипнет, и 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чинаю непрерывно откашлива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 Вукола я не праздновал. Проездом через Москву был 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ьваТолстого и с удовольствием провел у него часа два. «Рус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огатство» получаю. Большое Вам спасиб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репко жму Вам руку. Ваш душ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.П. Чех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88000" y="1628640"/>
            <a:ext cx="381636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каковы же его  признаки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1116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тор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Урока Письм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Решетник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на Петровн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У «СОШ № 14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рода Брат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580000" y="1484280"/>
            <a:ext cx="3132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Письмо Л.Н. Толстого к Н.Н. Страхову.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Любезный Николай Николаевич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лагодарю вас за письмо: мы поджидали его и начинали уж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еспокоиться о Вас. Очень  радуюсь за то, что Вам было хорош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у нас. Жду Вашу биографию, которую хоть и браните, но я знаю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что там будет много хорошего.  Я все переделываю, поправля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вое писанье и очень занят. Погода прекрасная, мы все веселы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здоровы. Смерть Тургенева я ожидал, а все-таки  очень час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думаю о нем теперь. Простите, что пишу несколько слов. 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забывайте нас за то, что мы Вас люб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аш Л. Н. Толст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Какие особенности эпистолярного жанра присутствуют в прочитанных письмах великих мастеров слова?</a:t>
            </a:r>
            <a:br>
              <a:rPr sz="40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исьмах А.П. Чехова и Л.Н. Толстого выделяются следующие особенности эпистолярного жан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   В доверительной форме авторы излагают свой внутренний ми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   Присутствие монологической и диалогической письменной ре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   Письмо предполагает обязательное присутствие адресата и отправите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   Письма как форма общ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Третье условие создания письма.</a:t>
            </a:r>
            <a:br>
              <a:rPr sz="32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Грамотность.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4941720"/>
            <a:ext cx="800748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4292640"/>
            <a:ext cx="792144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годня, когда вы будете писать своё письм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рузьям или родственникам, помните об э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244080"/>
            <a:ext cx="44640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Зачины:</a:t>
            </a:r>
            <a:br>
              <a:rPr sz="1600"/>
            </a:br>
            <a:r>
              <a:rPr b="1" i="1" lang="ru-RU" sz="1600" spc="-1" strike="noStrike">
                <a:solidFill>
                  <a:srgbClr val="ffffb7"/>
                </a:solidFill>
                <a:latin typeface="Arial"/>
              </a:rPr>
              <a:t>- Милостивейший князь…</a:t>
            </a:r>
            <a:br>
              <a:rPr sz="1600"/>
            </a:br>
            <a:r>
              <a:rPr b="1" i="1" lang="ru-RU" sz="1600" spc="-1" strike="noStrike">
                <a:solidFill>
                  <a:srgbClr val="ffffb7"/>
                </a:solidFill>
                <a:latin typeface="Arial"/>
              </a:rPr>
              <a:t>- Вселюбезнейшая княгиня…</a:t>
            </a:r>
            <a:br>
              <a:rPr sz="1600"/>
            </a:br>
            <a:r>
              <a:rPr b="1" i="1" lang="ru-RU" sz="1600" spc="-1" strike="noStrike">
                <a:solidFill>
                  <a:srgbClr val="ffffb7"/>
                </a:solidFill>
                <a:latin typeface="Arial"/>
              </a:rPr>
              <a:t>- Любезный друг…</a:t>
            </a:r>
            <a:br>
              <a:rPr sz="1600"/>
            </a:br>
            <a:r>
              <a:rPr b="1" i="1" lang="ru-RU" sz="1600" spc="-1" strike="noStrike">
                <a:solidFill>
                  <a:srgbClr val="ffffb7"/>
                </a:solidFill>
                <a:latin typeface="Arial"/>
              </a:rPr>
              <a:t>- Бесценная матушка…</a:t>
            </a:r>
            <a:br>
              <a:rPr sz="1600"/>
            </a:br>
            <a:r>
              <a:rPr b="1" i="1" lang="ru-RU" sz="1600" spc="-1" strike="noStrike">
                <a:solidFill>
                  <a:srgbClr val="ffffb7"/>
                </a:solidFill>
                <a:latin typeface="Arial"/>
              </a:rPr>
              <a:t>Душевно уважаемая и</a:t>
            </a:r>
            <a:br>
              <a:rPr sz="1600"/>
            </a:br>
            <a:r>
              <a:rPr b="1" i="1" lang="ru-RU" sz="1600" spc="-1" strike="noStrike">
                <a:solidFill>
                  <a:srgbClr val="ffffb7"/>
                </a:solidFill>
                <a:latin typeface="Arial"/>
              </a:rPr>
              <a:t>добрейшая тётушка</a:t>
            </a:r>
            <a:br>
              <a:rPr sz="1600"/>
            </a:br>
            <a:r>
              <a:rPr b="1" i="1" lang="ru-RU" sz="1600" spc="-1" strike="noStrike">
                <a:solidFill>
                  <a:srgbClr val="ffffb7"/>
                </a:solidFill>
                <a:latin typeface="Arial"/>
              </a:rPr>
              <a:t>- Милая маменька</a:t>
            </a:r>
            <a:br>
              <a:rPr sz="1600"/>
            </a:br>
            <a:r>
              <a:rPr b="1" i="1" lang="ru-RU" sz="1600" spc="-1" strike="noStrike">
                <a:solidFill>
                  <a:srgbClr val="ffffb7"/>
                </a:solidFill>
                <a:latin typeface="Arial"/>
              </a:rPr>
              <a:t>-  Душенька моя</a:t>
            </a:r>
            <a:br>
              <a:rPr sz="1600"/>
            </a:b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6913440" cy="30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нцовки писе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Целую ваши ручки, прошу вашего родитель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лагословения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оклонитесь всем добрым приятелям и будь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здоровы и веселы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- Ваш покорнейший слуга и внук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- Остаюсь вашим всепокорнейшим сыном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 глубочайшим почтением и искренней сынов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реданностью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- Оставайтесь всегда здоровы и веселы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0" y="2060640"/>
            <a:ext cx="56880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кие из этих формул являются устаревшим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867280" y="115920"/>
            <a:ext cx="26701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6923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Задания по группам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руппа 1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чащиеся этой группы составляют зачины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нцовки для дружеских писем сверстни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руппа 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чащиеся этой группы составляют зачины и концовки д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исем родителям и взрослым родственни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руппа 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чащиеся этой группы составляют зачины и концовки д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ловой переписки с людьми, от которых ждут помощ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шения пробл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685880" cy="14000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187280" y="5445000"/>
            <a:ext cx="705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кие формулы, приведённые ранее на слайда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жно использовать в современном письм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А теперь возьмите чистый лист бумаги. Вспомните, какие три условия необходимы для создания письма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5184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напишете вы? Посла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торое кто-то долгие г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удет хранить и перечитыв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ли ваш адресат запутается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устой болтовне и гряз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езграмотных каракулях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драженно бросит ваш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исьмо в мусорную корзину? Все зависит от ва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9512600">
            <a:off x="5867280" y="2422080"/>
            <a:ext cx="2881440" cy="1150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форм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741400">
            <a:off x="4906440" y="4281480"/>
            <a:ext cx="2354400" cy="1407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3525600">
            <a:off x="7236360" y="4580640"/>
            <a:ext cx="1512720" cy="1943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АМОТ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rot="54000">
            <a:off x="4931280" y="4941720"/>
            <a:ext cx="22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льтура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Существует несколько видов писем: официальные, деловые, личные. Они совершенно разные по стилю их написания и языку. На нашем уроке мы поработаем  над  составлением писем личного характера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5256000" cy="40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Композиция письма: 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обращение, вступление, основная часть, заключение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215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Творческая работа -  письмо, адресованное в XVIII  век своему брату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Милостивый государь, Алексей Павлович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Вчера я была безмерно счастлива, получив от Вас  весточку. Хочу писать, а не зна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с чего нача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Мне так хочется сказать Вам что-нибудь приятное за все ваши хлопоты обо мне, з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вашу привязанность ко мне. Посылаю Вам книгу, которую вы просили, любезнейш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братец мой. Забота Ваша, Алексей Павлович, о самочувствии моем очень трогательн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здоровьем я немного поправилась. Погода у нас прескверная, вводит в уныние. Од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радость – на именины снег выпа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Надеюсь видеть Вас с Петрушей у нас на Рождество, мы будем рады. Приезжайт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очень прош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Как здоровье моей бесценной тетушки? Нашла ли она тот сорт роз, котор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желала? Если так, то я уверена, что цветник наш стал еще прекрасне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Хотела я сообщить Вам о многом, но приходится заканчивать мое послание. О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одном прошу: отвечайте мне, голубчик мой, как можно подробнее. Смотри ж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непременно пиш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Имею честь пребыть вашей доброй подруг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5950080"/>
            <a:ext cx="889308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шу обратить внимание на язык и стиль этого пись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какой форме представлены композиционные час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626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11 ноября День написания писем 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(обязательно бумажных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5215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ый век, новые технологии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успеваем влюбиться-жениться-подружиться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естись виртуаль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поздравляем и дарим подарки виртуальн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пишем электронные письма и читаем электронные книги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 окружают виртуальные люди и вещ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в стремительном беге времени нам,  кажется, этого хвата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 же тогда так бьется сердце,  когда в почтовом ящи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и ярких рекламных буклетов вдруг обнаружится  Настоящее Письмо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хочется уединиться,  забраться в кресло с ногам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всего этого виртуального многоголосия, и читать вкрадчивый шепот другой души?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 ещё помните это свое радостное  удивление-возбуждение-предвкушен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хотите повторить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гда - зажгите свечи, возьмите перо и бумаг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медленно начнит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о-во-ри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77080" y="115920"/>
            <a:ext cx="20876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43588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…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Смайлики – это не только образчики крякозяблового искусства, маленькие тренажерчики для воображения,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но и незаменимые заменители невербальной составляющей человеческого общения, в условиях всеобщей клавиатуризации,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технократизации, и все большего удаления человека от человека…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8920" y="4797000"/>
            <a:ext cx="8666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ысль принадлежит только тебе, слов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надлежит  другим, а рукописное слово вечн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763640" cy="14382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1368360" cy="1173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763640" y="3500280"/>
            <a:ext cx="1582920" cy="1149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6877080" y="3141720"/>
            <a:ext cx="2127240" cy="1773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5076720" y="3357720"/>
            <a:ext cx="1657440" cy="1325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3492360" y="3429000"/>
            <a:ext cx="12956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Письмо - это фотография душ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77080" y="907920"/>
            <a:ext cx="2297160" cy="244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4869000"/>
            <a:ext cx="2556000" cy="1989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556000" y="907920"/>
            <a:ext cx="2232000" cy="1622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907920"/>
            <a:ext cx="2627280" cy="2283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6588000" y="4724280"/>
            <a:ext cx="2556000" cy="2130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2484360" y="2492280"/>
            <a:ext cx="2376720" cy="2160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4716360" y="981000"/>
            <a:ext cx="2152800" cy="2664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2556000" y="4626000"/>
            <a:ext cx="2066760" cy="2232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0" y="3213000"/>
            <a:ext cx="2556000" cy="1898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>
            <a:off x="4572000" y="3645000"/>
            <a:ext cx="2305080" cy="1684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1"/>
          <a:stretch/>
        </p:blipFill>
        <p:spPr>
          <a:xfrm>
            <a:off x="6732720" y="2924280"/>
            <a:ext cx="241128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>
            <a:off x="4500720" y="5300640"/>
            <a:ext cx="2076120" cy="1557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3"/>
          <a:stretch/>
        </p:blipFill>
        <p:spPr>
          <a:xfrm>
            <a:off x="2071800" y="2133720"/>
            <a:ext cx="148428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…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мне бы не хотелось, чтобы электронная почта представлялась вам каким-то чудовищем.</a:t>
            </a:r>
            <a:br>
              <a:rPr sz="1800"/>
            </a:b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 Большинству людей нравится эта форма общения – нужно только отвести ей должное место в распорядке дня.</a:t>
            </a:r>
            <a:br>
              <a:rPr sz="1800"/>
            </a:b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К. Крампиш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вое письмо - среди такого спама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4797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много мы потеряли, перестав писать письм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лефонный разговор нельзя перечитывать снова и сн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348000" y="2492280"/>
            <a:ext cx="2079720" cy="2087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067280" y="5734080"/>
            <a:ext cx="4752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Напиши мне письмо, я очень жду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3814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b7"/>
                </a:solidFill>
                <a:latin typeface="Arial Black"/>
              </a:rPr>
              <a:t>Домашнее задание:</a:t>
            </a:r>
            <a:br>
              <a:rPr sz="3600"/>
            </a:br>
            <a:r>
              <a:rPr b="1" i="1" lang="en-US" sz="3600" spc="-1" strike="noStrike">
                <a:solidFill>
                  <a:srgbClr val="ffffb7"/>
                </a:solidFill>
                <a:latin typeface="Arial Black"/>
              </a:rPr>
              <a:t>написать дружеское послания близкому человеку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2881080" cy="20685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55640" y="6237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419640" y="2349360"/>
            <a:ext cx="5472000" cy="4104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24000" y="5805360"/>
            <a:ext cx="2808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Песня «Напиши мне письмо»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в исполнении группы «Веселые ребята»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3814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244440"/>
            <a:ext cx="6264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Чаще всего нежелание писать письмо связано с неумением его написать. Академик Д.С. Лихачёв в письмах к молодёжи как-то заметил: 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меть хорошо писать нужно не только писателю или учёному. Даже хорошо, свободно и с известной долей юмора написанное письмо другу характеризует вас не меньше, чем ваша устная речь. Через письмо дайте почувствовать себя, своё расположение духа, свою раскованность в обращении к симпатичному вам человеку. Но как научиться писать? Надо писать, писать дневники, письма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732720" y="0"/>
            <a:ext cx="22255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62755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Об истории эпистолярного жанр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844640"/>
            <a:ext cx="80074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а письма используется в романах, в стихотворных произведениях, в публицистике (открытое письмо), в критике. В античности письма сочинялись как литературные произведения, которые были предназначены для публичного чтения. Письма Эпикура, Цицерона, Сенеки  являются прекрасным образцом эпистолярного жанра. В Византии эпистолярная литература стала ведущей и имела характер публицистический, о чем говорят письма Николая Мистика, патриарха Фотия. В средние века в Европе межмонастырская переписка стала средством публичной полемики. Образцом русской средневековой публицистики стали  переписка Ивана 4 с князем Курбским. В русской литературе можно назвать следующие произведения, написанные в эпистолярном жанре: «Письма русского путешественника» Н.М. Карамзина, «Роман в письмах» А.С. Пушкина, «Бедные люди» Ф.М. Достоевского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524720" y="115920"/>
            <a:ext cx="14065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663588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Словарь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эпистолярный – написанный в форме письма, перепис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этикет – установленный порядок в поведении, формах обра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дресат – тот, кому адресовано письм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дресант – тот, кто отправляет письм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36000" y="69840"/>
            <a:ext cx="17157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72104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Почему вызывает улыбку это стихотворение?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397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жеподписавшийся волка повстреч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шеупомянутый громко зарыч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округ всё цветики – просто благод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причине этого – жалко пропад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жеподписавшийся крикнул: «Караул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на полной скорости к речке драпану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шеупомянутый, голодом томи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том же направлении бросился за н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счастью, тут охотничек мимо проходил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овой впоследствии волка застрел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жеподписавшийся просит за спасен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разить охотнику это поздравлень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20000" y="2349360"/>
            <a:ext cx="1949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Хорошее знание стилей речи русского языка и особенностей каждого стиля необходимо для создания текста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915920"/>
            <a:ext cx="5533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ределите, какого стиля эти отрыв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йдите доказательства принадлеж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ждого отрывка названному стил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 rot="1450800">
            <a:off x="6300360" y="24922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rot="2239800">
            <a:off x="109080" y="4041720"/>
            <a:ext cx="2644920" cy="1295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фициально-делов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7800">
            <a:off x="3925440" y="3080880"/>
            <a:ext cx="984240" cy="15620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уч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9927800">
            <a:off x="2314440" y="3166560"/>
            <a:ext cx="986040" cy="1800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говор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311200">
            <a:off x="4140360" y="4508640"/>
            <a:ext cx="2736720" cy="1152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ублицист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11280" y="5516640"/>
            <a:ext cx="79236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486900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203280" y="4508640"/>
            <a:ext cx="863640" cy="19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203280" y="5589720"/>
            <a:ext cx="108108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Отрывок из письма В.В. Маяковского.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852156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литературно-художественный отдел Гиз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ответ на ваше письмо сообщаю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 моем возвращении из-за границы мною был заключен с Гизом договор 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 имевшееся в договоре вещи: «Роман», «Драма», «Мое открыт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мерики» и «Испания, Атлантический океан, Гавана» (стихи). Я сумел сдать дв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ледние книги. Работа над «Драмой» и «Романом» задержалась благодар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зникшей большой работе (тоже для Гиза) над Октябрьской поэмой. Это край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удная поэма, сданная в срок Гизу, кроме отрыва от других работ, еще и край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еня утомила. После месячного отдыха надеюсь в 4-х, 5-тимесячный ср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полнить все взятые на себя обязательства. Я неоднократно предлаг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иквидировать все материальные обязательства, вытекавшие из договора, 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итературно художественный отдел указывал мне всегда на желатель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хранения договора в силе и откладывал день сдачи книг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ли и сейчас Гизу интересны указанные книги, прошу продлить ср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говора сообразно с моими указаниями о време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348000" y="4724280"/>
            <a:ext cx="2952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12:57:44Z</dcterms:created>
  <dc:creator>МАМА</dc:creator>
  <dc:description/>
  <dc:language>en-US</dc:language>
  <cp:lastModifiedBy>МАМА</cp:lastModifiedBy>
  <dcterms:modified xsi:type="dcterms:W3CDTF">2012-02-22T12:03:27Z</dcterms:modified>
  <cp:revision>36</cp:revision>
  <dc:subject/>
  <dc:title>Слайд 1</dc:title>
</cp:coreProperties>
</file>