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32B2C-81E3-472C-AB65-7A362903C13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87C96-733A-41E6-A740-5E319C6E1D2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5401-7655-4A00-A692-59E41C28A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90A4-2C10-4213-AD1A-13EF57FB4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9A19-9A55-485B-9F84-B4A72639E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CA04-9BA4-48BF-8C7C-BFC2B4DFE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FEEA2-3F7F-471E-9BDB-A4562C09B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EFEC8-C477-4FF0-A889-D4717CA89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D558E-C2C3-4975-ACBF-22C3E9B0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A9004-134B-4612-BC74-98F36885B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8821E-8EE5-4819-B67D-55462B070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D25EE-DDA8-40B8-AEAE-04AA5EFA9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00337-800E-4C6E-91DD-E7A1AD15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F2BF-329F-4304-96C5-6F042950E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183C4-2B97-4A7C-8B01-C5A61BFE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C1CA4-C8B9-4E72-9F81-4C2D6F0D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73281-8486-4D7F-BE1B-EC53A6E42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F92B2-0431-458C-BEDF-CE42926A8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DDD09-86A8-4C1A-A1F3-9AD56C1D7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47B9-2318-4617-83DD-EE4B57772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30B0-D477-4522-8644-AB6AFDFE3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7F51-FD6B-4016-A6DC-B722A1BE9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691A-F24A-486E-8458-7A088114C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1F64-4358-4968-86A9-444E1264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B078-8268-409F-A3EC-ECB734A7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7EA6-C3AB-431B-BAC6-E38165A9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D02D0-1C0D-4AA4-8CA0-49821D5E095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D8A1D-88FF-4745-A8FC-B882276309E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1996560"/>
            <a:ext cx="7753320" cy="373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eaea"/>
                </a:solidFill>
                <a:latin typeface="Monotype Corsiva"/>
              </a:rPr>
              <a:t>ЗИМНИЕ ПРАВОСЛАВНЫЕ ПРАЗДНИКИ</a:t>
            </a:r>
            <a:endParaRPr b="1" lang="en-US" sz="7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Введение во храм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Пресвятой Богородицы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4 </a:t>
            </a: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декабря</a:t>
            </a: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 </a:t>
            </a: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8" name="Picture 2" descr="D:\Documents and Settings\Admin\Рабочий стол\ПДД\103227350.jpg"/>
          <p:cNvPicPr/>
          <p:nvPr/>
        </p:nvPicPr>
        <p:blipFill>
          <a:blip r:embed="rId1"/>
          <a:stretch/>
        </p:blipFill>
        <p:spPr>
          <a:xfrm>
            <a:off x="2714760" y="1857240"/>
            <a:ext cx="42145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42920" y="333360"/>
            <a:ext cx="74232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День святого апостола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Андрея Первозванного</a:t>
            </a:r>
            <a:br>
              <a:rPr sz="4000"/>
            </a:b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13 декабря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0" name="Picture 2" descr="D:\Documents and Settings\Admin\Рабочий стол\ПДД\2011_01_26\IMG_0004.jpg"/>
          <p:cNvPicPr/>
          <p:nvPr/>
        </p:nvPicPr>
        <p:blipFill>
          <a:blip r:embed="rId1"/>
          <a:stretch/>
        </p:blipFill>
        <p:spPr>
          <a:xfrm>
            <a:off x="2643120" y="1916280"/>
            <a:ext cx="4357800" cy="47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Monotype Corsiva"/>
              </a:rPr>
              <a:t>День Святого благоверного князя Александра Невского</a:t>
            </a: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Monotype Corsiva"/>
              </a:rPr>
              <a:t>6 декабря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2" descr="D:\Documents and Settings\Admin\Рабочий стол\ПДД\2011_01_21\IMG_0010.jpg"/>
          <p:cNvPicPr/>
          <p:nvPr/>
        </p:nvPicPr>
        <p:blipFill>
          <a:blip r:embed="rId1"/>
          <a:stretch/>
        </p:blipFill>
        <p:spPr>
          <a:xfrm>
            <a:off x="2786040" y="1857240"/>
            <a:ext cx="414324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День святителя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Николая Чудотворца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19 декабря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5" name="Picture 2" descr="D:\Documents and Settings\Admin\Рабочий стол\ПДД\c35a703d3176.jpg"/>
          <p:cNvPicPr/>
          <p:nvPr/>
        </p:nvPicPr>
        <p:blipFill>
          <a:blip r:embed="rId1"/>
          <a:stretch/>
        </p:blipFill>
        <p:spPr>
          <a:xfrm>
            <a:off x="3000240" y="1916280"/>
            <a:ext cx="3786480" cy="47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Monotype Corsiva"/>
              </a:rPr>
              <a:t>День святителя </a:t>
            </a: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Monotype Corsiva"/>
              </a:rPr>
              <a:t>Василия Великого</a:t>
            </a: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Monotype Corsiva"/>
              </a:rPr>
              <a:t>14 января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7" name="Picture 2" descr="D:\Documents and Settings\Admin\Рабочий стол\ПДД\0101sfiervasiliecelmare17.jpg"/>
          <p:cNvPicPr/>
          <p:nvPr/>
        </p:nvPicPr>
        <p:blipFill>
          <a:blip r:embed="rId1"/>
          <a:stretch/>
        </p:blipFill>
        <p:spPr>
          <a:xfrm>
            <a:off x="3000240" y="1916280"/>
            <a:ext cx="3714840" cy="47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Monotype Corsiva"/>
              </a:rPr>
              <a:t>Крещение Господне </a:t>
            </a: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Monotype Corsiva"/>
              </a:rPr>
              <a:t>(Святое Богоявление)</a:t>
            </a: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Monotype Corsiva"/>
              </a:rPr>
              <a:t>19 января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9" name="Picture 3" descr="D:\Documents and Settings\Admin\Рабочий стол\ПДД\ib18.jpg"/>
          <p:cNvPicPr/>
          <p:nvPr/>
        </p:nvPicPr>
        <p:blipFill>
          <a:blip r:embed="rId1"/>
          <a:stretch/>
        </p:blipFill>
        <p:spPr>
          <a:xfrm>
            <a:off x="3000240" y="1916280"/>
            <a:ext cx="3643560" cy="47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Monotype Corsiva"/>
              </a:rPr>
              <a:t>День святой </a:t>
            </a:r>
            <a:br>
              <a:rPr sz="4000"/>
            </a:br>
            <a:r>
              <a:rPr b="1" lang="ru-RU" sz="4000" spc="-1" strike="noStrike">
                <a:solidFill>
                  <a:srgbClr val="eaeaea"/>
                </a:solidFill>
                <a:latin typeface="Monotype Corsiva"/>
              </a:rPr>
              <a:t>мученицы Татианы</a:t>
            </a:r>
            <a:br>
              <a:rPr sz="4000"/>
            </a:br>
            <a:r>
              <a:rPr b="1" lang="ru-RU" sz="4000" spc="-1" strike="noStrike">
                <a:solidFill>
                  <a:srgbClr val="eaeaea"/>
                </a:solidFill>
                <a:latin typeface="Monotype Corsiva"/>
              </a:rPr>
              <a:t>25 января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1" name="Picture 2" descr="D:\Documents and Settings\Admin\Рабочий стол\ПДД\ib2273.jpg"/>
          <p:cNvPicPr/>
          <p:nvPr/>
        </p:nvPicPr>
        <p:blipFill>
          <a:blip r:embed="rId1"/>
          <a:stretch/>
        </p:blipFill>
        <p:spPr>
          <a:xfrm>
            <a:off x="3071880" y="1989000"/>
            <a:ext cx="3643200" cy="47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Monotype Corsiva"/>
              </a:rPr>
              <a:t>Сретение Господне </a:t>
            </a: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Monotype Corsiva"/>
              </a:rPr>
              <a:t>15 февраля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3" name="Picture 3" descr="D:\Documents and Settings\Admin\Рабочий стол\ПДД\53046.jpeg"/>
          <p:cNvPicPr/>
          <p:nvPr/>
        </p:nvPicPr>
        <p:blipFill>
          <a:blip r:embed="rId1"/>
          <a:stretch/>
        </p:blipFill>
        <p:spPr>
          <a:xfrm>
            <a:off x="2643120" y="1857240"/>
            <a:ext cx="43578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8T15:56:01Z</dcterms:created>
  <dc:creator>Admin</dc:creator>
  <dc:description/>
  <dc:language>en-US</dc:language>
  <cp:lastModifiedBy>Admin</cp:lastModifiedBy>
  <dcterms:modified xsi:type="dcterms:W3CDTF">2011-01-27T17:33:26Z</dcterms:modified>
  <cp:revision>27</cp:revision>
  <dc:subject/>
  <dc:title>ЗИМНИЕ ПРАВОСЛАВНЫЕ ПРАЗДНИКИ</dc:title>
</cp:coreProperties>
</file>