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F93-21D9-49CF-A642-09AD3962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51D-9652-4F2E-A446-DCE17D75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326-1D5A-411B-A4E4-232D869E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47C-8BAC-4434-8317-F63D3194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93E-6A83-4DC5-86D5-C92C65D1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755-483F-407D-BE01-7329614A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989-D270-43A3-9674-4CA6416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CB1-D8AC-49F9-94D3-05A81C49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DB3-C9DA-4087-85BB-FA39AE57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199-AD07-4A9E-BB69-4A20509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BE4-88A8-4A12-B007-3ED10A5A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0C1-3BF5-4FFE-8E52-45948EAF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0375-FAD7-4119-92F3-08289571B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a/Metropole_Zlicin_-_skakaci_panak_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ukflagb"/>
          <p:cNvPicPr/>
          <p:nvPr/>
        </p:nvPicPr>
        <p:blipFill>
          <a:blip r:embed="rId1"/>
          <a:stretch/>
        </p:blipFill>
        <p:spPr>
          <a:xfrm>
            <a:off x="1285920" y="1857240"/>
            <a:ext cx="6415200" cy="3214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t’s play toget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43120" y="621468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читель МБОУ «Гимназия г.Невеля Псковской обла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Е.А.Ковал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 play togeth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18f527e1590d593b2f4e617c026017b7"/>
          <p:cNvPicPr/>
          <p:nvPr/>
        </p:nvPicPr>
        <p:blipFill>
          <a:blip r:embed="rId1"/>
          <a:stretch/>
        </p:blipFill>
        <p:spPr>
          <a:xfrm>
            <a:off x="1000080" y="1785960"/>
            <a:ext cx="327816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0_1c8fb_522a256f_L"/>
          <p:cNvPicPr/>
          <p:nvPr/>
        </p:nvPicPr>
        <p:blipFill>
          <a:blip r:embed="rId2"/>
          <a:stretch/>
        </p:blipFill>
        <p:spPr>
          <a:xfrm>
            <a:off x="4929120" y="16430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5at"/>
          <p:cNvPicPr/>
          <p:nvPr/>
        </p:nvPicPr>
        <p:blipFill>
          <a:blip r:embed="rId3"/>
          <a:stretch/>
        </p:blipFill>
        <p:spPr>
          <a:xfrm>
            <a:off x="785880" y="4214880"/>
            <a:ext cx="3375000" cy="218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23b11"/>
          <p:cNvPicPr/>
          <p:nvPr/>
        </p:nvPicPr>
        <p:blipFill>
          <a:blip r:embed="rId4"/>
          <a:stretch/>
        </p:blipFill>
        <p:spPr>
          <a:xfrm>
            <a:off x="4714920" y="4214880"/>
            <a:ext cx="3948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play hopscot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3280" y="1557000"/>
            <a:ext cx="4245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Do you like to play hopscotc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omic Sans MS"/>
              </a:rPr>
              <a:t>Do you like to play hopscotch with your sist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 you like to play hopscotch with your friend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Yes, I like to play hopscotch very 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File:Metropole Zlicin - skakaci panak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28640"/>
            <a:ext cx="388944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611280" y="5300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класс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like to play leap-fr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59280" y="1412640"/>
            <a:ext cx="403848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Do you want to 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leap-fr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*Oh, I’d love 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*No, I don’t want to play leap-fr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58920" y="3860280"/>
            <a:ext cx="4111560" cy="2808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oes she want to play leap-fr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Yes, she does, she wants to play leap-fr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, she doesn’t. She doesn’t want to play leap-fr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_1c8fb_522a256f_L"/>
          <p:cNvPicPr/>
          <p:nvPr/>
        </p:nvPicPr>
        <p:blipFill>
          <a:blip r:embed="rId1"/>
          <a:stretch/>
        </p:blipFill>
        <p:spPr>
          <a:xfrm>
            <a:off x="250920" y="1700280"/>
            <a:ext cx="4249800" cy="45370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57" name="Text Box 9"/>
          <p:cNvSpPr/>
          <p:nvPr/>
        </p:nvSpPr>
        <p:spPr>
          <a:xfrm>
            <a:off x="324000" y="530064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ех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5at"/>
          <p:cNvPicPr/>
          <p:nvPr/>
        </p:nvPicPr>
        <p:blipFill>
          <a:blip r:embed="rId1"/>
          <a:stretch/>
        </p:blipFill>
        <p:spPr>
          <a:xfrm>
            <a:off x="826920" y="1916280"/>
            <a:ext cx="6985080" cy="4527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95280" y="260280"/>
            <a:ext cx="856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like to play tag with my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want to play tag very m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857160" y="57862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а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9386473_tatyanuy_Deriy_pryatki"/>
          <p:cNvPicPr/>
          <p:nvPr/>
        </p:nvPicPr>
        <p:blipFill>
          <a:blip r:embed="rId1"/>
          <a:stretch/>
        </p:blipFill>
        <p:spPr>
          <a:xfrm>
            <a:off x="1116000" y="189000"/>
            <a:ext cx="648180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187280" y="479736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я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411280" y="476280"/>
            <a:ext cx="4032360" cy="703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ide-and-s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24000" y="59500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he likes to play hide-and-s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7:28:30Z</dcterms:created>
  <dc:creator>Дом</dc:creator>
  <dc:description/>
  <dc:language>en-US</dc:language>
  <cp:lastModifiedBy>1</cp:lastModifiedBy>
  <dcterms:modified xsi:type="dcterms:W3CDTF">2012-02-22T18:46:19Z</dcterms:modified>
  <cp:revision>8</cp:revision>
  <dc:subject/>
  <dc:title>Слайд 1</dc:title>
</cp:coreProperties>
</file>