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FE7-DA72-480A-BD3B-4B8DD41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DD1-0642-468C-AE85-090A1A3B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CA0-8FEA-4A72-85CC-21998E05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1AC-8942-4001-81BD-8A994CDA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9358-D039-42F0-AC06-8650EF1C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B3E2-3303-4235-A03E-CD72D09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31E-2478-473E-9E25-CC4AC67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D99F-71A0-47E5-A68E-205FA10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85BA-DB29-4697-87BE-4AF166A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418-6EFE-4F2A-853C-2680F7A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72B3-C76F-4804-BB25-4458510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3F8-EDA8-40DC-941B-DFB7B1A1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8CA-52E2-4D57-A871-2BAA9EE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5C4C-36A8-4BDD-A0F6-035B7DB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73A4-C4D1-427D-97B8-9EE3424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C0A5-4109-4EEF-B53C-D0F5F55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4386-FC4D-40F9-8AC3-625D3046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784C-B7F6-4450-8C6E-865670D4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328D-4306-438B-A3E5-0BCF042A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CB2B-C10F-43ED-852C-198897F3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2A67-BF68-47D9-B6F4-0C4A2C8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BEF4-E589-483D-9151-694B707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67D-9E7C-4916-A7EB-11A1EF4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094C-60C4-4B1E-9CF5-15BAF76E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963D-EC1B-43A8-8352-A4E6A47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AB29-130C-464E-9C14-DA326A2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4385-C0DC-4330-B2A6-479C7DC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248C-430A-42EE-9EB5-D2CE07D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0BF5-E082-40A2-9E07-3B4EC614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5571-B268-4BFD-B08B-D2AFEB07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07DF-F1CD-4214-B2D9-273949CD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063E-C09A-4B35-B0F6-A0D374C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F19E-191C-434F-A907-1A74BECC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E8F-32E9-4DA7-AE99-FE753069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145A9-2166-4280-AC53-587BACB4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8CAF-2B4A-405A-85B2-57B8785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E12A-1091-4D65-8673-677FBEA3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16AB-5253-495E-9DB0-38A4974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C5DD-2AF7-4A92-9B14-DE25D1A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A375-9E13-4C9D-BFF6-6946D37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28214-FD18-4082-876C-E398984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779B-5EC7-4C65-8520-2E82101F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7D3C-DE6D-4083-B0C6-1751826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E55-38DA-4DCD-AA6A-E54ACB1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D9F-5131-4CB3-B0C8-CEB618B0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CF8-4D82-42F9-AE86-41B696A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5BE-D8B0-4B03-9411-2BB7530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083-F616-4852-96D2-C92857D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7C4-F7C6-4341-B822-527F6772677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BD9-B591-4E1E-81DD-AC912D1D66F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E39-42FC-4776-8F1C-990F2E2D63A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69B-8BD5-4628-9CD4-A31F8DDA60D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2"/>
          <a:stretch/>
        </p:blipFill>
        <p:spPr>
          <a:xfrm>
            <a:off x="682560" y="615960"/>
            <a:ext cx="6973920" cy="2146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d700"/>
                </a:solidFill>
                <a:latin typeface="Constanti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Ф. Шуберт (1797-1828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771640" y="1557360"/>
          <a:ext cx="3456000" cy="46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557360"/>
                    <a:ext cx="345600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Балет невылупившихся птенц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Текст 29"/>
          <p:cNvGraphicFramePr/>
          <p:nvPr/>
        </p:nvGraphicFramePr>
        <p:xfrm>
          <a:off x="1258920" y="1844640"/>
          <a:ext cx="316872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844640"/>
                    <a:ext cx="31687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Текст 29"/>
          <p:cNvGraphicFramePr/>
          <p:nvPr/>
        </p:nvGraphicFramePr>
        <p:xfrm>
          <a:off x="4716360" y="1844640"/>
          <a:ext cx="3816360" cy="388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Текст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844640"/>
                    <a:ext cx="3816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Заголовок 8"/>
          <p:cNvGraphicFramePr/>
          <p:nvPr/>
        </p:nvGraphicFramePr>
        <p:xfrm>
          <a:off x="1835280" y="981000"/>
          <a:ext cx="5486400" cy="5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Заголовок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981000"/>
                    <a:ext cx="5486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Текст 29"/>
          <p:cNvGraphicFramePr/>
          <p:nvPr/>
        </p:nvGraphicFramePr>
        <p:xfrm>
          <a:off x="2700360" y="1628640"/>
          <a:ext cx="3887640" cy="489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Текст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1628640"/>
                    <a:ext cx="3887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7"/>
          <p:cNvSpPr txBox="1"/>
          <p:nvPr/>
        </p:nvSpPr>
        <p:spPr>
          <a:xfrm>
            <a:off x="2771640" y="189000"/>
            <a:ext cx="3238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8" descr="025"/>
          <p:cNvPicPr/>
          <p:nvPr/>
        </p:nvPicPr>
        <p:blipFill>
          <a:blip r:embed="rId2"/>
          <a:stretch/>
        </p:blipFill>
        <p:spPr>
          <a:xfrm>
            <a:off x="2771640" y="2649600"/>
            <a:ext cx="3067200" cy="39560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3"/>
          <p:cNvSpPr/>
          <p:nvPr/>
        </p:nvSpPr>
        <p:spPr>
          <a:xfrm>
            <a:off x="2286000" y="500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7d9e8"/>
                </a:solidFill>
                <a:latin typeface="Arial"/>
              </a:rPr>
              <a:t>Фридрих, Каспар Давид (1774–1840), художник, один из лидеров романтизма в немецком изобразительном искусстве, мастер пейза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«Эпоха великих археологических открытий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4" descr="25117"/>
          <p:cNvPicPr/>
          <p:nvPr/>
        </p:nvPicPr>
        <p:blipFill>
          <a:blip r:embed="rId2"/>
          <a:stretch/>
        </p:blipFill>
        <p:spPr>
          <a:xfrm>
            <a:off x="1979640" y="2286000"/>
            <a:ext cx="52354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омантизм (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romantisme) –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идейное и художественное направление в европейской и американской духовной культуре конца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XVIII –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ер. пол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XIX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ек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davyd1"/>
          <p:cNvPicPr/>
          <p:nvPr/>
        </p:nvPicPr>
        <p:blipFill>
          <a:blip r:embed="rId2"/>
          <a:stretch/>
        </p:blipFill>
        <p:spPr>
          <a:xfrm>
            <a:off x="2340000" y="2000160"/>
            <a:ext cx="3017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арл Павлович Брюлов (1799-185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635280" y="2214360"/>
            <a:ext cx="3618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Текст 29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832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1" i="1" lang="en-US" sz="2400" spc="-1" strike="noStrike">
                <a:solidFill>
                  <a:srgbClr val="04617b"/>
                </a:solidFill>
                <a:latin typeface="Arial"/>
              </a:rPr>
              <a:t>Всадница</a:t>
            </a: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35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Главные представители романтизма в живописи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: Э. Делакруа, Т. Жерико, Ф. О. Рунге, К. Д. Фридрих, Дж. Констебл, У. Тернер, в России – О. А. Кипренский, А. О. Орловский, К. Брюллов.</a:t>
            </a:r>
            <a:br>
              <a:rPr sz="2800"/>
            </a:b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Представители романтизма в литературе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: Новалис, Жан Поль, Э. Гофман, У. Вордсворт, Байрон, в России – М. Ю. Лермонтов, В. А. Жуковский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Главные представители романтизма в музыке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- Ф. Шуберт, Г. Берлиоз, Р. Шуман, Ф. Шопен, Ф. Лист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8:04:23Z</dcterms:created>
  <dc:creator>Кирилл</dc:creator>
  <dc:description/>
  <dc:language>en-US</dc:language>
  <cp:lastModifiedBy>tn</cp:lastModifiedBy>
  <dcterms:modified xsi:type="dcterms:W3CDTF">2011-01-16T17:39:59Z</dcterms:modified>
  <cp:revision>16</cp:revision>
  <dc:subject/>
  <dc:title>Слайд 1</dc:title>
</cp:coreProperties>
</file>