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06B-6A1A-4414-80FB-28A6592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167-03B5-40FA-AFA4-0ABAB7F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B9A-8F1C-4608-92E1-318197B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E66-54FE-4E4E-970C-4BF65B9A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A84-FBFC-4B6A-9059-A553952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EBD-A293-4C9D-9998-C5A1B08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CD9-4174-483D-BA6F-4AC1D9D9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8C0-F883-484A-B67E-39E4766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98F-E1A1-4AC7-AA7E-F6E07107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FAB-FE65-40C6-9A6A-52EF925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F6D-1552-4D3B-A6E8-EDD8C3B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389-4252-49F2-BE39-620C15A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669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FC4-A887-4D0B-A8EB-0EE8CAE36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3192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итайте фантастику,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витесь её мастер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летая от суетных бу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 причудливым дерзким ми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что впереди – неведом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люди слабы и силь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лночны крыла у Де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 обратной их сторон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о всё же зачем-то на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помощь приди, фантас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м всем бескорыстно угады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кой будет жизнь без н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- Синеют ли в будущем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леют ли обл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как там – в грядущем ве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чается венчик цв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мы – будто миру суд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книгой по вечер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итайте фантастику,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витесь её мастер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14483910_Time_1600x1200"/>
          <p:cNvPicPr/>
          <p:nvPr/>
        </p:nvPicPr>
        <p:blipFill>
          <a:blip r:embed="rId1"/>
          <a:stretch/>
        </p:blipFill>
        <p:spPr>
          <a:xfrm>
            <a:off x="4859280" y="3933720"/>
            <a:ext cx="352908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b77"/>
          <p:cNvPicPr/>
          <p:nvPr/>
        </p:nvPicPr>
        <p:blipFill>
          <a:blip r:embed="rId1"/>
          <a:stretch/>
        </p:blipFill>
        <p:spPr>
          <a:xfrm>
            <a:off x="324000" y="260280"/>
            <a:ext cx="471168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38876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удущее рождается из настоящего. Будущее создаётся нами сейчас. В каждую минуту, которую мы проживаем, нам дана возможность твори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rb40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redbery2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7153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b71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3276720" y="5734080"/>
            <a:ext cx="45352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бота над очередным сценари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rb52"/>
          <p:cNvPicPr/>
          <p:nvPr/>
        </p:nvPicPr>
        <p:blipFill>
          <a:blip r:embed="rId1"/>
          <a:stretch/>
        </p:blipFill>
        <p:spPr>
          <a:xfrm>
            <a:off x="0" y="0"/>
            <a:ext cx="9144000" cy="6073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1763640" y="6308640"/>
            <a:ext cx="5113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бочий кабинет писат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b53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468360" y="6308640"/>
            <a:ext cx="7704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ый друг Рэя Брэдбери - печатная машин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3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b96"/>
          <p:cNvPicPr/>
          <p:nvPr/>
        </p:nvPicPr>
        <p:blipFill>
          <a:blip r:embed="rId1"/>
          <a:stretch/>
        </p:blipFill>
        <p:spPr>
          <a:xfrm>
            <a:off x="684360" y="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826920" y="5300640"/>
            <a:ext cx="630396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ручение Национальной премии искусств в 2004 году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3000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b55"/>
          <p:cNvPicPr/>
          <p:nvPr/>
        </p:nvPicPr>
        <p:blipFill>
          <a:blip r:embed="rId1"/>
          <a:stretch/>
        </p:blipFill>
        <p:spPr>
          <a:xfrm>
            <a:off x="234000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b23"/>
          <p:cNvPicPr/>
          <p:nvPr/>
        </p:nvPicPr>
        <p:blipFill>
          <a:blip r:embed="rId1"/>
          <a:stretch/>
        </p:blipFill>
        <p:spPr>
          <a:xfrm>
            <a:off x="197964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900000" y="333360"/>
            <a:ext cx="685800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ский рисунок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 advTm="3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b9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антастика -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phantastike – искусство воображать), разновидность художественной литературы; её исходной идейно-эстетической установкой является диктат воображения над реальностью, порождающий картину "чудесного мира", противопоставленного обыденной действительности и привычным, бытовым представлениям о правдоподоб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b83"/>
          <p:cNvPicPr/>
          <p:nvPr/>
        </p:nvPicPr>
        <p:blipFill>
          <a:blip r:embed="rId1"/>
          <a:stretch/>
        </p:blipFill>
        <p:spPr>
          <a:xfrm>
            <a:off x="0" y="-22320"/>
            <a:ext cx="9088560" cy="683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rb95"/>
          <p:cNvPicPr/>
          <p:nvPr/>
        </p:nvPicPr>
        <p:blipFill>
          <a:blip r:embed="rId1"/>
          <a:stretch/>
        </p:blipFill>
        <p:spPr>
          <a:xfrm>
            <a:off x="14032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b49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859280" y="-888120"/>
            <a:ext cx="41054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...простой человек разве только одну сотую может увидеть своими глазами, а остальные девяносто девять процентов он познает через книгу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"451 градус по Фаренгейту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вилизация  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"Ц." появилось в 18 в. в тесной связи с понятием "культура". Французские философы-просветители называли цивилизованным общество, основанное на началах разума и справедлив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50px-Mona_Lisa-restored"/>
          <p:cNvPicPr/>
          <p:nvPr/>
        </p:nvPicPr>
        <p:blipFill>
          <a:blip r:embed="rId1"/>
          <a:stretch/>
        </p:blipFill>
        <p:spPr>
          <a:xfrm>
            <a:off x="250920" y="189000"/>
            <a:ext cx="4668840" cy="6669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003280" y="549000"/>
            <a:ext cx="38941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Леонардо да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ртрет госпожи Лизы Джокон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на Лиза, 1503—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Ritratto di Monna Lisa del Gioc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оска (тополь), масло. 76,8 × 5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Лувр, 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360" y="274320"/>
            <a:ext cx="4608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на Лиза» за пуленепробиваемым стеклом в Лувре и толпящиеся рядом посетители муз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3754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обенно завораживает зрителя демоническая обворожительность этой улыбки. Сотни поэтов и писателей писали об этой женщине, которая кажется то обольстительно улыбающейся, то застывшей, холодно и бездушно смотрящей в пространство, и никто не разгадал ее улыбку, никто не истолковал ее мысли. Все, даже пейзаж, таинственны, подобно сновидению, трепетны, как предгрозовое марево чувственности (Му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200px-Mona-lisa-through-glass"/>
          <p:cNvPicPr/>
          <p:nvPr/>
        </p:nvPicPr>
        <p:blipFill>
          <a:blip r:embed="rId1"/>
          <a:stretch/>
        </p:blipFill>
        <p:spPr>
          <a:xfrm>
            <a:off x="5076720" y="836640"/>
            <a:ext cx="3168720" cy="30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180px-Mona_Lisa_detail_mouth"/>
          <p:cNvPicPr/>
          <p:nvPr/>
        </p:nvPicPr>
        <p:blipFill>
          <a:blip r:embed="rId2"/>
          <a:stretch/>
        </p:blipFill>
        <p:spPr>
          <a:xfrm>
            <a:off x="4427640" y="3693960"/>
            <a:ext cx="446544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  работ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шли проблему (проблемный вопрос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работали с текс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яснили позицию авт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Узнали ваше собственное мнение (согласие/несогласие с автором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Нашли аргументы в других источниках.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особ работы с заданием части С в варианте ЕГЭ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628640"/>
            <a:ext cx="7416720" cy="20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!!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258920" y="1125360"/>
            <a:ext cx="6337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й Бредбери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3708360" y="4508640"/>
            <a:ext cx="1943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920)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b48"/>
          <p:cNvPicPr/>
          <p:nvPr/>
        </p:nvPicPr>
        <p:blipFill>
          <a:blip r:embed="rId1"/>
          <a:stretch/>
        </p:blipFill>
        <p:spPr>
          <a:xfrm>
            <a:off x="395280" y="189000"/>
            <a:ext cx="521496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4105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анта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 будущем помог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ж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настоящ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rb61"/>
          <p:cNvPicPr/>
          <p:nvPr/>
        </p:nvPicPr>
        <p:blipFill>
          <a:blip r:embed="rId1"/>
          <a:stretch/>
        </p:blipFill>
        <p:spPr>
          <a:xfrm>
            <a:off x="1403280" y="0"/>
            <a:ext cx="6551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b56"/>
          <p:cNvPicPr/>
          <p:nvPr/>
        </p:nvPicPr>
        <p:blipFill>
          <a:blip r:embed="rId1"/>
          <a:stretch/>
        </p:blipFill>
        <p:spPr>
          <a:xfrm>
            <a:off x="212400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r"/>
          <p:cNvPicPr/>
          <p:nvPr/>
        </p:nvPicPr>
        <p:blipFill>
          <a:blip r:embed="rId1"/>
          <a:stretch/>
        </p:blipFill>
        <p:spPr>
          <a:xfrm>
            <a:off x="395280" y="260280"/>
            <a:ext cx="3745080" cy="604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ead%20is___"/>
          <p:cNvPicPr/>
          <p:nvPr/>
        </p:nvPicPr>
        <p:blipFill>
          <a:blip r:embed="rId2"/>
          <a:stretch/>
        </p:blipFill>
        <p:spPr>
          <a:xfrm>
            <a:off x="4788000" y="260280"/>
            <a:ext cx="3787560" cy="6048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rb35"/>
          <p:cNvPicPr/>
          <p:nvPr/>
        </p:nvPicPr>
        <p:blipFill>
          <a:blip r:embed="rId1"/>
          <a:stretch/>
        </p:blipFill>
        <p:spPr>
          <a:xfrm>
            <a:off x="4630680" y="-27000"/>
            <a:ext cx="4513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rb31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6:46:29Z</dcterms:created>
  <dc:creator>Учитель</dc:creator>
  <dc:description/>
  <dc:language>en-US</dc:language>
  <cp:lastModifiedBy>SHTURM</cp:lastModifiedBy>
  <dcterms:modified xsi:type="dcterms:W3CDTF">2011-01-29T08:54:30Z</dcterms:modified>
  <cp:revision>12</cp:revision>
  <dc:subject/>
  <dc:title>Слайд 1</dc:title>
</cp:coreProperties>
</file>