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46A-1A81-43FD-A4C7-A8541326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E7E8-C979-4B69-ABAD-641A7521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A66-7E43-4AEA-A4DE-C9FDF888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ED3-2473-4B21-B3BA-8D559AE4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A590-964E-46D3-BF6A-F0247C9B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836-AE4B-4BF7-9AF0-5C02AC5A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171-F8AB-445D-B21E-15F06E59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31F-18C9-49D1-AB87-308106C7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8EE-320C-4593-B262-98CDB63B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31DE-A8E6-461D-92AD-13324D41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91E-EA41-48C3-918A-AA7E87E4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F782-6B58-4FC1-BF6B-C951A7B6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90a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841E-4ED3-4662-9BDC-574CED239A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90a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ект </a:t>
            </a:r>
            <a:br>
              <a:rPr sz="4400"/>
            </a:br>
            <a:br>
              <a:rPr sz="4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Русские народные промыслы.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Гжель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79280" y="3933720"/>
            <a:ext cx="6769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 ученица 6 класса «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ея «Серпух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хлова М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итель: учитель русского языка Винниченко Людмила Рэ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90a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51280" y="1706040"/>
            <a:ext cx="42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003280" y="3357360"/>
            <a:ext cx="414036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радиционная роспись - выполненные от руки растительные и геометрические орнаменты, нанесенные быстрыми, сочными мазками ки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60280"/>
            <a:ext cx="871380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арфоровые изделия изготавливаются путем литья в гипсовых формах. Шликер (жидкую фарфоровую массу) литейщик заливает в формы. Пористый гипс впитывает влагу, шликер постепенно затвердевает и приобретает очертания форм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зделия, прошедшие обжиг, живописец расписывает окисью кобаль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2997360"/>
            <a:ext cx="460872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90a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95400"/>
            <a:ext cx="8424720" cy="66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90a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90a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Второй эта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очинение-описание предмета народного промысл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 научном сти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90a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жель - известный во всём мире народный художественный промысел. Там с незапамятных времён изготовлялись керамические изделия с ручной росписью традиционно синей краской на основе кобальта: чайники, кувшины, вазы и другая посуда, различные предметы сервировки сто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90a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80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еред нами керамическая шкатулка, расписанная гжел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на имеет размер 16 сантиметров в высоту, и 12 сантиметров в ширину. Форма – шар, на котором возвышается фигура рыбки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Цвет изделия - белый с синим орнаментом. На самой рыбке орнамент полукруглый (который имитирует чешуйки рыбы). По окружности шара расположен другой орнамент : чередование вертикальных и горизонтальных пол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анный предмет используется как шкатулка для хранения драгоцен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90a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Третий этап</a:t>
            </a:r>
            <a:br>
              <a:rPr sz="6000"/>
            </a:br>
            <a:br>
              <a:rPr sz="60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очинение-описание изделия народного промысла  в художественном сти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90a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ак-то раз под Новый год мне подарили «золотую рыбку». Она оказалась не только «золотая», но и гжельс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Золотой я назвала рыбку потому, что есть у неё секрет. Рыбка возвышается над раковинкой-шкатулкой. Когда мне подарили эту шкатулку, в ней лежали маленькие конфетки  в золотистых фантиках. При свете елочки они казались россыпью самоцветов, которые Дед Мороз просыпал на снег. Это ощущение возникло из-за красивой бело-голубой гаммы Гж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90a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89680" y="260280"/>
            <a:ext cx="4054320" cy="640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664920"/>
            <a:ext cx="4680000" cy="60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оспись на рыбке можно было сравнить с зимним узором на окне в исполнении великого художника - Деда Моро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не очень понравился этот подарок. Рыбка как будто дышала зимней свежесть и была такой сказочны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споминая тот новогодний вечер, я решила  использовать шкатулку для хранения своих украшений. И с тех пор праздник всегда рядом со м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90a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87280" y="188640"/>
            <a:ext cx="856944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ff"/>
                </a:solidFill>
                <a:latin typeface="Bodoni MT Black"/>
              </a:rPr>
              <a:t>ГЖЕ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32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90a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104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3333ff"/>
                </a:solidFill>
                <a:latin typeface="Monotype Corsiva"/>
              </a:rPr>
              <a:t>ГЖЕ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76560" y="0"/>
            <a:ext cx="5888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90a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История возникновения промы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90a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425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Arial"/>
              </a:rPr>
              <a:t>История возникновения гж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5329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3333ff"/>
                </a:solidFill>
                <a:latin typeface="Arial"/>
              </a:rPr>
              <a:t>         </a:t>
            </a: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Гжель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- это название подмосковного региона, который находится в 60 километрах от Москвы. Со словом «гжель» ассоциируется красота и гармония, сказка и быль. Фарфор с нарядной синей росписью и многоцветная майолика  очень известны .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Гжельские изделия привлекают к себе всех, кто любит прекрасное, богатой фантазией и гармоничностью, высоким профессионализмом их создателей. 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3780000" cy="595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90a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5113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68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рхеологические исследования на территории Гжели подтверждают существование здесь гончарного ремесла с начала XIV века. Впервые поселение Гжель упомянуто в документах, датированных 1320 г.  Тогда оно среди других поселений было отписано  князем Иваном Даниловичем Калитой старшему сыну.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Гжельская земля издавна была богата лесами, реками, высококачественными глинами. 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392436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90a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64360" y="4897440"/>
            <a:ext cx="1979640" cy="1960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40000" y="549360"/>
            <a:ext cx="482436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 протяжение столетий гжельские крестьяне изготавливали предметы оптового обихода, изразцы, черепицу. Со второй половины XVIII века она прославилась выпуском майоликовой посуды- изделий из цветных глин с яркой многоцветной росписью по белой эмали. В XIX веке гжельские мастера изобрели новый для себя материал и новую технологию: выпускали полуфаянс, затем фаянс и, наконец, фарф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3745080" cy="63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90a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89000"/>
            <a:ext cx="5400720" cy="68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Особый интерес представляли изделия, расписанные в один цвет - синей подглазурной краской, наносимой кистью, с графической прорисовкой деталей. Выпуском фарфора и фаянса занимались многочисленные мелкие заводы и крупные предприятия. Конец XIX - начало XX веков стали периодом глубокого кризиса. Казалось, гжельское искусство погибло навсегда.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Послевоенное время связано с началом возрождения промысла. Для этого потребовались годы работы. В результате это привело к успеху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56160" y="333360"/>
            <a:ext cx="3737160" cy="60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90a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4249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жель - это вазы, статуэтки, игрушки, изделия интерьера: камины, люстры и другие фарфоровые издел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одукция из  гжели пользуется устойчивым спросом на Российском и международном ры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08640" y="0"/>
            <a:ext cx="4628880" cy="6597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954920" y="260280"/>
            <a:ext cx="4178520" cy="6264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411800" y="0"/>
            <a:ext cx="4732200" cy="6742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643280" y="260280"/>
            <a:ext cx="4079880" cy="6193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427640" y="189000"/>
            <a:ext cx="4395600" cy="6264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4643280" y="333360"/>
            <a:ext cx="4221360" cy="6120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572000" y="260280"/>
            <a:ext cx="4321080" cy="6264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4356000" y="333360"/>
            <a:ext cx="4500720" cy="652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4643280" y="333360"/>
            <a:ext cx="4222800" cy="6337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4427640" y="0"/>
            <a:ext cx="4551120" cy="6597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4427640" y="0"/>
            <a:ext cx="4500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90a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0" y="597240"/>
            <a:ext cx="4572000" cy="61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Опытные мастера-модельщики на специальных станках вытачивают гипсовые модели будущих изделий. Станок представляет собой гончарный круг с двумя стойками и деревянной рейкой для упора рук. С помощью клюшек-резцов обрабатывается поверхность гипсовой заготовки, с которой изготавливается рабочая форма для отливки издел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4360" y="476280"/>
            <a:ext cx="4262400" cy="6381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4572000" cy="6381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КАК СОЗДАЮТСЯ ГЖЕЛЬСКИЕ ИЗДЕЛ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9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4:57:41Z</dcterms:created>
  <dc:creator>Anna</dc:creator>
  <dc:description/>
  <dc:language>en-US</dc:language>
  <cp:lastModifiedBy>Customer</cp:lastModifiedBy>
  <dcterms:modified xsi:type="dcterms:W3CDTF">2012-02-22T12:59:17Z</dcterms:modified>
  <cp:revision>17</cp:revision>
  <dc:subject/>
  <dc:title>гжель</dc:title>
</cp:coreProperties>
</file>