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C05-037F-4AB5-AA00-7F7B1C56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763-2A80-408A-93F5-B22F9F33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D41-FEEB-451C-8A43-342A1BC0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29B-0CE3-4B9B-B7BD-4C8428A4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8FB-1E9E-4287-A75E-99001959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40C-9A75-4291-8A8B-ADC52FF8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0BA-95CF-40A8-BF5D-21480B4D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42C-2EB6-42D7-9F13-5BEE53A8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4A3-2878-4072-8D06-EDDD1B44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BA1-E632-4702-9090-0DF930BE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211-8C15-45E8-B7DA-C1ACB94A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132-A322-4E30-AAFA-F7CD4231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06A9-6263-426D-BB6C-3A8B21E22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220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Выполнила:  ученица 6 «А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ОУ лицея «Серпухов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города Серпух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Пашкова Да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Руководитель: учитель русского языка Винниченко Людмила Рэ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619280" y="1844640"/>
            <a:ext cx="6624720" cy="27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3333ff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Русские народ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3333ff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2843280" y="2997360"/>
            <a:ext cx="3456000" cy="122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3333ff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промыс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3333ff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59280" y="260280"/>
            <a:ext cx="31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20000"/>
                </a:solidFill>
                <a:latin typeface="Arial"/>
              </a:rPr>
              <a:t>Проект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-12600"/>
            <a:ext cx="777528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20000"/>
                </a:solidFill>
                <a:latin typeface="Arial"/>
              </a:rPr>
              <a:t>Случилось это так, как нередко происходит в народном искусстве, где на древнюю форму и традицию накладывается то новая роспись, то новая форма, то новая функция. Фигурки такой формы существовали на Руси давно. И разъемная деревянная игрушка бытовала издревле. А вот собственно матрешки каких – нибудь сто лет назад и в помине не б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66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20000"/>
                </a:solidFill>
                <a:latin typeface="Arial"/>
              </a:rPr>
              <a:t>Этап вто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7848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60000"/>
                </a:solidFill>
                <a:latin typeface="Arial"/>
              </a:rPr>
              <a:t>Сочинение-опис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000"/>
                </a:solidFill>
                <a:latin typeface="Arial"/>
              </a:rPr>
              <a:t>предмета народного промыс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Arial"/>
              </a:rPr>
              <a:t>в научном сти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0000"/>
                </a:solidFill>
                <a:latin typeface="Arial"/>
              </a:rPr>
              <a:t>Загорская матре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55436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0000"/>
                </a:solidFill>
                <a:latin typeface="Arial"/>
              </a:rPr>
              <a:t>Перед нами изделие загорских мастеров - загорская матрешка. Изготовлена из дерева. Размер -двадцать пять сантиметров. Игрушка окрашена в яркие цвета: платок – синий в белый горох, малиновый сарафан, желтый фартук с ярко-красной земляникой. В руках – оранжевая корзина с ягодами. Такое изображение орнамента  характерно для загорских матреш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0000"/>
                </a:solidFill>
                <a:latin typeface="Arial"/>
              </a:rPr>
              <a:t>Данное изделие используют как игрушку, либо предмет украшения интерьер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SC00658"/>
          <p:cNvPicPr/>
          <p:nvPr/>
        </p:nvPicPr>
        <p:blipFill>
          <a:blip r:embed="rId1"/>
          <a:stretch/>
        </p:blipFill>
        <p:spPr>
          <a:xfrm>
            <a:off x="5792760" y="692280"/>
            <a:ext cx="3030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0000"/>
                </a:solidFill>
                <a:latin typeface="Arial"/>
              </a:rPr>
              <a:t>Этап тре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56908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000"/>
                </a:solidFill>
                <a:latin typeface="Arial"/>
              </a:rPr>
              <a:t>Сочинение-опис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000"/>
                </a:solidFill>
                <a:latin typeface="Arial"/>
              </a:rPr>
              <a:t>предмета народного промыс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000"/>
                </a:solidFill>
                <a:latin typeface="Arial"/>
              </a:rPr>
              <a:t>в художественном сти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Arial"/>
              </a:rPr>
              <a:t>Моя мат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4752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0000"/>
                </a:solidFill>
                <a:latin typeface="Arial"/>
              </a:rPr>
              <a:t>У меня есть красивая загорская матрешка, ее мне подарила баб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0000"/>
                </a:solidFill>
                <a:latin typeface="Arial"/>
              </a:rPr>
              <a:t>Матрешка не очень большая. У нее на голове ярко-синий платочек и золотой кокошник, из-под которого выглядывает рыженькая челочка. Огромные голубые глаза с большими ресницами. Ярко-розовые щеки и аккуратные губ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SC00658"/>
          <p:cNvPicPr/>
          <p:nvPr/>
        </p:nvPicPr>
        <p:blipFill>
          <a:blip r:embed="rId1"/>
          <a:stretch/>
        </p:blipFill>
        <p:spPr>
          <a:xfrm>
            <a:off x="5289480" y="981000"/>
            <a:ext cx="36752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103280" y="6381720"/>
            <a:ext cx="504036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96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-108000" y="0"/>
            <a:ext cx="475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356000" y="549360"/>
            <a:ext cx="4608720" cy="61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60000"/>
                </a:solidFill>
                <a:latin typeface="Arial"/>
              </a:rPr>
              <a:t>На фартуке у моей игрушки нарисована ярко-красная земляника, а в руке - корзинка с яго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60000"/>
                </a:solidFill>
                <a:latin typeface="Arial"/>
              </a:rPr>
              <a:t>Если открыть матрёшку, то внутри найдешь еще одну такую же куколку, только поменьше. Это д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60000"/>
                </a:solidFill>
                <a:latin typeface="Arial"/>
              </a:rPr>
              <a:t>Хоть матрёшка и игрушка, но в нее никто не играет. Я храню ее на полочке как украшение и часто вытираю с неё п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DSC00963"/>
          <p:cNvPicPr/>
          <p:nvPr/>
        </p:nvPicPr>
        <p:blipFill>
          <a:blip r:embed="rId1"/>
          <a:stretch/>
        </p:blipFill>
        <p:spPr>
          <a:xfrm>
            <a:off x="108000" y="620640"/>
            <a:ext cx="3887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20000"/>
                </a:solidFill>
                <a:latin typeface="Arial"/>
              </a:rPr>
              <a:t>Этап пер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640" y="2276280"/>
            <a:ext cx="7632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Arial"/>
              </a:rPr>
              <a:t>Выбор предмета народного промысла,  исторические сведения о н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4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332000" y="404640"/>
            <a:ext cx="691344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ff0000"/>
                    </a:gs>
                    <a:gs pos="100000">
                      <a:srgbClr val="3333ff"/>
                    </a:gs>
                  </a:gsLst>
                  <a:lin ang="18900000"/>
                </a:gradFill>
                <a:latin typeface="Comic Sans MS"/>
              </a:rPr>
              <a:t>русская матрё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ff0000"/>
                  </a:gs>
                  <a:gs pos="100000">
                    <a:srgbClr val="3333ff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pic>
        <p:nvPicPr>
          <p:cNvPr id="50" name="Picture 8" descr="EPSON003"/>
          <p:cNvPicPr/>
          <p:nvPr/>
        </p:nvPicPr>
        <p:blipFill>
          <a:blip r:embed="rId1"/>
          <a:stretch/>
        </p:blipFill>
        <p:spPr>
          <a:xfrm>
            <a:off x="179280" y="1486080"/>
            <a:ext cx="8785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7058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0000"/>
                </a:solidFill>
                <a:latin typeface="Comic Sans MS"/>
              </a:rPr>
              <a:t>По сравнению с другими игрушками деревянная расписная кукла молода</a:t>
            </a:r>
            <a:r>
              <a:rPr b="0" lang="ru-RU" sz="2800" spc="-1" strike="noStrike">
                <a:solidFill>
                  <a:srgbClr val="e20000"/>
                </a:solidFill>
                <a:latin typeface="Arial"/>
              </a:rPr>
              <a:t>, ей чуть более ста лет. Для народной игрушки это не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0000"/>
                </a:solidFill>
                <a:latin typeface="Arial"/>
              </a:rPr>
              <a:t>Прообразом матрёшки могли послужить «писанки»-деревянные расписные пасхальные яйца, их уже много веков делают на Руси, они бывают полыми внутри , и в большее вкладывается меньшее. Другим прообразом матрешки стала ритуальная японская кукла, внутри которой помещалось еще несколько фигу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uiu"/>
          <p:cNvPicPr/>
          <p:nvPr/>
        </p:nvPicPr>
        <p:blipFill>
          <a:blip r:embed="rId1"/>
          <a:stretch/>
        </p:blipFill>
        <p:spPr>
          <a:xfrm>
            <a:off x="7050240" y="404640"/>
            <a:ext cx="1914480" cy="22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матрёшка"/>
          <p:cNvPicPr/>
          <p:nvPr/>
        </p:nvPicPr>
        <p:blipFill>
          <a:blip r:embed="rId2"/>
          <a:stretch/>
        </p:blipFill>
        <p:spPr>
          <a:xfrm>
            <a:off x="7026120" y="2852640"/>
            <a:ext cx="19051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36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44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44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20000"/>
                </a:solidFill>
                <a:latin typeface="Arial"/>
              </a:rPr>
              <a:t>В конце </a:t>
            </a:r>
            <a:r>
              <a:rPr b="0" lang="en-US" sz="3200" spc="-1" strike="noStrike">
                <a:solidFill>
                  <a:srgbClr val="e20000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e20000"/>
                </a:solidFill>
                <a:latin typeface="Arial"/>
              </a:rPr>
              <a:t> века в Абрамцево по эскизу художника Сергея Малютина местный токарь Звездочкин выточил первую деревянную куклу. А когда Малютин расписал её получилась девочка в русском сарафане, в платочке, с петухом в руке. По преданию, кто-то увидев куклу, смеясь воскликнул: «До чего похожа на нашу Матрену!». С тех пор и зовут эту игрушку матрешкой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Русской игрушке, окрещенной матрешкой, рожденной в подмосковном Сергиевом Посаде, досталась особая слава и особая любов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EPSON004"/>
          <p:cNvPicPr/>
          <p:nvPr/>
        </p:nvPicPr>
        <p:blipFill>
          <a:blip r:embed="rId1"/>
          <a:stretch/>
        </p:blipFill>
        <p:spPr>
          <a:xfrm>
            <a:off x="1042920" y="1341360"/>
            <a:ext cx="68421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32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4752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60000"/>
                </a:solidFill>
                <a:latin typeface="Arial"/>
              </a:rPr>
              <a:t>Сергиев – Посад (Загорск)  издавна славился своими игрушками, и резчики по дереву жили здесь издревле. Бытовало даже предание, что сам основатель обители преподобный Сергий Радонежский резал игрушки и дарил де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http://club-edu.tambov.ru/vjpusk/vjp131/rabot/02/images/11.jpg"/>
          <p:cNvPicPr/>
          <p:nvPr/>
        </p:nvPicPr>
        <p:blipFill>
          <a:blip r:embed="rId1"/>
          <a:stretch/>
        </p:blipFill>
        <p:spPr>
          <a:xfrm>
            <a:off x="5083200" y="189000"/>
            <a:ext cx="3976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20000"/>
                </a:solidFill>
                <a:latin typeface="Arial"/>
              </a:rPr>
              <a:t>В конце прошлого века мастер Звездочкин вырезал куклу на славу, одел ее в передник и сарафан, нарядил в платок с цветочками, в руки ей дал петуха.И имя девочке подобрал самое что ни на есть простонародное – Матрена. Успех к девочке Матрене – матрешке пришел в 1900 году на Всемирной выставке в Париже. Потом уж «разбрелись» русские матрешки по всему белу св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42:28Z</dcterms:created>
  <dc:creator>1</dc:creator>
  <dc:description/>
  <dc:language>en-US</dc:language>
  <cp:lastModifiedBy>Customer</cp:lastModifiedBy>
  <dcterms:modified xsi:type="dcterms:W3CDTF">2012-02-12T13:00:45Z</dcterms:modified>
  <cp:revision>11</cp:revision>
  <dc:subject/>
  <dc:title> </dc:title>
</cp:coreProperties>
</file>