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970-39F8-40CE-87D2-E39DB2A0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C92-498B-4AAB-A783-A627EEB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CE2-7160-4645-9952-E95A94AC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5B0-4BF5-435F-ABB3-16FB9901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6D91-6A5B-433F-ABAE-CB4A8FE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F9F-4EB3-4BB7-8F50-745A4A1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6E0-BFF2-4FD9-8E8E-7CF1E6E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1A9-F1C0-4ADD-961C-388704E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28C3-0FAB-4D7C-BE1B-BF88121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361E-050E-4D8A-8FC7-21FB5AA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2D9-A95E-4395-9BB9-07088E8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543-0C36-44F0-9201-3CFF6C30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A21-BE30-434B-99B0-D8A1CC2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D89-9693-4E0E-AEFD-6DFCD7E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F01-0283-4A3E-BC27-C536005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223-DD3A-4AF4-8A4C-8DCD3D0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C21-5AB4-49D9-9787-A28D9765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EE9-04B5-4F49-BA82-7900AFD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56E-D15A-4A2D-8784-12235C3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801-E791-4A20-BCB5-BF2E0F1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683-D8FB-4115-AD80-6767BF9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2E0-0D87-48EB-86C4-E53D1E9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014-3026-4D8B-A39B-A9F5DC3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2E0-AF09-4C01-9E39-BB5806F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9208-D823-45F4-96D6-4D18785C43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EA6-C136-4A9E-893A-AE86E961B4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bgu.ru/forums/uploads/post-175-116704068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lery.libo.ru/albums/userpics/Kalininskiy_KAZAK_0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52.radikal.ru/i138/0901/dc/1edc61c69ddc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zkurer.kz/images/stories/&#1042;&#1072;&#1089;&#1080;&#1083;&#1100;&#1077;&#1074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ctionbook.ru/static/bookimages/00/31/33/00313392.bin.dir/h/i_03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yanskobl.ru/projects/partisan/img/f27-2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30725/1251182200/5851463lxf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сторические и нравственные уроки поэмы Павла Василь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Соляной бун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37480" y="4451400"/>
            <a:ext cx="403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амсонов Ар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У «Русскополянская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имущество было на стороне казаков, они были хорошо обучены и вооружены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Картинка 17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8064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подавление бунта бросают казаков, вооруженных плетями и саблями. Они безжалостно расправляются с казахской беднотой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Картинка 18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эме происходит противостояние казаков и киргизов, что видно по описанию персонажей. Казаки безжалостно убивают джатаков, поднявших бунт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Картинка 144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57360"/>
            <a:ext cx="712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Исторические уро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931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Нельзя заставлять людей каторжно трудиться, из этого не выйдет ничего хорошего, только горе и страд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Практически все народные бунты жестоко подавлялись, потому что у бунтующих не было оружия, подготовки и дисципл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Если власть притесняет малоимущих, наживаясь на их рабском труде, то прежде всего это ведёт к восстанию униженных и к  деградации личности самих притесн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нравственные уроки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рушение Божьих заповедей и нравственных законов приводит к ужасным последствиям – гибели противоборствующих сторон, гибели антагони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икто не имеет права отнимать жизнь, данную Бо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эма доказывает, что нужно запоминать исторические уроки, делать нравственные выводы, чтобы не повторять ошибок прошлого. Она показывает, что навязывание другим народам своей воли приводит к бунтам или  войнам, как, например,  в Афганистане. Если мы не делаем  выводы, то это может кончиться очень плохо для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ослеслов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х и долог путь к человеку, люд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о страна вся в зелени – по колени тра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удет вам помилование, люди, буд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о меня ж, бедового, спойте 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ается в том, что сквозь пласты времени мы заглядываем в историю нашего родного края, узнаём о реальном историческом факте, отраженном в поэме П.Васильева « Соляной бун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bbd71"/>
                </a:solidFill>
                <a:latin typeface="Arial"/>
              </a:rPr>
              <a:t>Цель работы: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яснить, какие исторические и нравственные уроки можно извлечь из поэмы Павла Васильева «Соляной бунт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Изучить литературу по данному вопрос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роанализировать произведение, выяснить, имеет ли оно реальную историческую осно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утём опроса выяснить, знакомо ли это произведение учащимся нашей школы и взрослым, а также знают ли они вообще о соляном бунте  в Сибири 19 века?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Систематизировать изученный матери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Сделать выводы по изученной про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Картинка 1 из 15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4894200" cy="6524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64200" y="404640"/>
            <a:ext cx="2809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и всей сво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ологи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орности поэ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вла Василь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Соляной бун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вляется значитель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ытием на наш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этическом фро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Александр Курилович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захи разводили верблюдов, баранов, коров, коз. Основной отраслью оставалось овцеводство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i-main-pic" descr="Картинка 8 из 112"/>
          <p:cNvPicPr/>
          <p:nvPr/>
        </p:nvPicPr>
        <p:blipFill>
          <a:blip r:embed="rId1"/>
          <a:stretch/>
        </p:blipFill>
        <p:spPr>
          <a:xfrm>
            <a:off x="755640" y="1268280"/>
            <a:ext cx="784872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нищавшие казахи нанимались на работы к зажиточным казакам. Особенно тяжело было женщинам.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Картинка 191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7705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 переселенческой политики царской администрации казахи  теряли свои лучшие пастбища и несли немалые убытк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7" name="" descr="Картинка 211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13000"/>
            <a:ext cx="7201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заки. Вторая половина 19 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9" name="" descr="Картинка 46 из 71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8136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6:04:16Z</dcterms:created>
  <dc:creator>учебный</dc:creator>
  <dc:description/>
  <dc:language>en-US</dc:language>
  <cp:lastModifiedBy>OEM</cp:lastModifiedBy>
  <dcterms:modified xsi:type="dcterms:W3CDTF">2010-02-20T04:56:47Z</dcterms:modified>
  <cp:revision>24</cp:revision>
  <dc:subject/>
  <dc:title>Слайд 1</dc:title>
</cp:coreProperties>
</file>