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A85-1EE5-4C75-89EE-0EFCE764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BD6-53DE-4CAF-AA38-961E1A4A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478-29D9-4EBE-9A75-1FE9397B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AFF-1B79-4239-A1A2-1ADD6BE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57B-118F-49B0-9ED3-3313EE67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87E-3A03-4DEB-BF9D-DCA8CEB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C5D-3E38-449D-A3D7-F2976D45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079-828C-4343-A6A9-9E776BF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B75-F7D8-4B2B-83AE-857C1D8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DF0-5AF9-4647-9592-19136F1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A74-6050-4066-BFF2-0C58360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6FA-C80C-42E9-BAEA-B894652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346-72DB-480E-8B4B-29EEBE83A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66ff33"/>
                </a:solidFill>
                <a:latin typeface="Book Antiqua"/>
              </a:rPr>
              <a:t>Воспитание и обучение дошкольников на примере по программе «Социокультурные истоки» по книге  «Светлый образ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Book Antiqua"/>
              </a:rPr>
              <a:t>ПРЕДВАРИТЕЛЬНАЯ           РАБОТ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Чт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«Жития святых для детей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«Сергий Радонежский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«Святые земли русск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Работа в тетрад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Рассматривание и беседы: иконы преподобного Сергия Радонежск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зображения Троице-Сергиевой лав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огородской (Сергиево-Посадской) деревянной игру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слушивание аудиозаписи колокольного зв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000" spc="-1" strike="noStrike">
                <a:solidFill>
                  <a:srgbClr val="66ff33"/>
                </a:solidFill>
                <a:latin typeface="Book Antiqua"/>
              </a:rPr>
              <a:t>СЛОВАРНАЯ РАБ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Б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МУД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АВЕД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ЕПОДОБ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0920" y="404280"/>
            <a:ext cx="8234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Book Antiqua"/>
              </a:rPr>
              <a:t>Дети высказывают мнения, почему   жизнь преподобного Сергия      Радонежского можно назвать праве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Book Antiqu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Book Antiqua"/>
              </a:rPr>
              <a:t>Ан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никогда не врал, не просил денег, своим трудом добывал хл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Book Antiqua"/>
              </a:rPr>
              <a:t>Ариша</a:t>
            </a:r>
            <a:r>
              <a:rPr b="0" lang="ru-RU" sz="24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никогда  не обманывал, творил доб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Book Antiqua"/>
              </a:rPr>
              <a:t>И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- не хитрил, не крал, детям дарил пода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Book Antiqua"/>
              </a:rPr>
              <a:t>Милан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учил всех добру, был трудолюбивым, любил детей уважал добры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Book Antiqua"/>
              </a:rPr>
              <a:t>Наст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- молился за тех, кому трудно, любил детей, кормил медведя хлеб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66ff33"/>
                </a:solidFill>
                <a:latin typeface="Book Antiqua"/>
              </a:rPr>
              <a:t>Активное занят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032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Book Antiqua"/>
              </a:rPr>
              <a:t>Рассмотреть иллюстрации, подобрать к ним соответствующи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ДОБ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МУД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ТРУДОЛЮБИ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ПРОЗОРЛИ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394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51260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86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74560"/>
            <a:ext cx="74170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6327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Book Antiqua"/>
              </a:rPr>
              <a:t>ИСПОЛЬЗУЕМАЯ       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Book Antiqua"/>
              </a:rPr>
              <a:t>   ЛИТЕРАТУРА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002997499"/>
          <p:cNvPicPr/>
          <p:nvPr/>
        </p:nvPicPr>
        <p:blipFill>
          <a:blip r:embed="rId1"/>
          <a:stretch/>
        </p:blipFill>
        <p:spPr>
          <a:xfrm>
            <a:off x="2484360" y="907920"/>
            <a:ext cx="45878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68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6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0420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8487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600" spc="-1" strike="noStrike">
                <a:solidFill>
                  <a:srgbClr val="66ff33"/>
                </a:solidFill>
                <a:latin typeface="Book Antiqua"/>
              </a:rPr>
              <a:t>ДЕМОНСТРАЦИОННЫЙ   МАТЕРИАЛ</a:t>
            </a:r>
            <a:endParaRPr b="1" lang="en-US" sz="4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Троице-Сергиева лавра, Сергиев Посад"/>
          <p:cNvPicPr/>
          <p:nvPr/>
        </p:nvPicPr>
        <p:blipFill>
          <a:blip r:embed="rId1"/>
          <a:stretch/>
        </p:blipFill>
        <p:spPr>
          <a:xfrm>
            <a:off x="611280" y="333360"/>
            <a:ext cx="8219880" cy="616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765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Book Antiqua"/>
              </a:rPr>
              <a:t>Троице-Сергиева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Book Antiqua"/>
              </a:rPr>
              <a:t>Лав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5441c921e15"/>
          <p:cNvPicPr/>
          <p:nvPr/>
        </p:nvPicPr>
        <p:blipFill>
          <a:blip r:embed="rId1"/>
          <a:stretch/>
        </p:blipFill>
        <p:spPr>
          <a:xfrm>
            <a:off x="183528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Сергиев Посад"/>
          <p:cNvPicPr/>
          <p:nvPr/>
        </p:nvPicPr>
        <p:blipFill>
          <a:blip r:embed="rId1"/>
          <a:stretch/>
        </p:blipFill>
        <p:spPr>
          <a:xfrm>
            <a:off x="1116000" y="333360"/>
            <a:ext cx="7272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0293572_pt0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00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33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Богородская    игр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0292986_2bi180"/>
          <p:cNvPicPr/>
          <p:nvPr/>
        </p:nvPicPr>
        <p:blipFill>
          <a:blip r:embed="rId1"/>
          <a:stretch/>
        </p:blipFill>
        <p:spPr>
          <a:xfrm>
            <a:off x="4680000" y="692280"/>
            <a:ext cx="4464000" cy="568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9f20ac22b81ad82f49d4dda55347b13b"/>
          <p:cNvPicPr/>
          <p:nvPr/>
        </p:nvPicPr>
        <p:blipFill>
          <a:blip r:embed="rId2"/>
          <a:stretch/>
        </p:blipFill>
        <p:spPr>
          <a:xfrm>
            <a:off x="-181080" y="-171360"/>
            <a:ext cx="4681800" cy="3644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p_bogorodskaya_igr"/>
          <p:cNvPicPr/>
          <p:nvPr/>
        </p:nvPicPr>
        <p:blipFill>
          <a:blip r:embed="rId3"/>
          <a:stretch/>
        </p:blipFill>
        <p:spPr>
          <a:xfrm>
            <a:off x="250920" y="3141720"/>
            <a:ext cx="4752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G_1933"/>
          <p:cNvPicPr/>
          <p:nvPr/>
        </p:nvPicPr>
        <p:blipFill>
          <a:blip r:embed="rId1"/>
          <a:stretch/>
        </p:blipFill>
        <p:spPr>
          <a:xfrm>
            <a:off x="2700360" y="1673280"/>
            <a:ext cx="388944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44440"/>
            <a:ext cx="7799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Book Antiqua"/>
              </a:rPr>
              <a:t>«ИСТОКИ»</a:t>
            </a:r>
            <a:br>
              <a:rPr sz="2800"/>
            </a:br>
            <a:r>
              <a:rPr b="1" lang="en-US" sz="2800" spc="-1" strike="noStrike">
                <a:solidFill>
                  <a:srgbClr val="66ff33"/>
                </a:solidFill>
                <a:latin typeface="Book Antiqua"/>
              </a:rPr>
              <a:t>«ВОСПИТАНИЕ НА СОЦИОКУЛЬТУРНОМ       ОПЫТ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002997499"/>
          <p:cNvPicPr/>
          <p:nvPr/>
        </p:nvPicPr>
        <p:blipFill>
          <a:blip r:embed="rId1"/>
          <a:stretch/>
        </p:blipFill>
        <p:spPr>
          <a:xfrm>
            <a:off x="2484360" y="907920"/>
            <a:ext cx="45878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03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5002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5508720" cy="364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480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Book Antiqua"/>
              </a:rPr>
              <a:t>СВЕТЛЫЙ ОБРАЗ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561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«ИСТОК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              </a:t>
            </a: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«ВОСПИТАНИЕ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СОЦИОКУЛЬТУРНОМ  ОПЫТ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Book Antiqua"/>
              </a:rPr>
              <a:t>В ПОДГОТОВИТЕЛЬНОЙ 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6135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Book Antiqua"/>
              </a:rPr>
              <a:t>Цель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Book Antiqua"/>
              </a:rPr>
              <a:t>совместной образовательной деятельности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2604600"/>
            <a:ext cx="800748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Сформировать у детей представление о праведной жизни и светлом образе преподобного   Сергия Радонеж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-243000"/>
            <a:ext cx="6408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Book Antiqua"/>
              </a:rPr>
              <a:t>          </a:t>
            </a:r>
            <a:r>
              <a:rPr b="1" lang="en-US" sz="4400" spc="-1" strike="noStrike">
                <a:solidFill>
                  <a:srgbClr val="66ff33"/>
                </a:solidFill>
                <a:latin typeface="Book Antiqua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734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ервоначальное знакомство с социокультурной категорией «Традиции образ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дводить детей к пониманию праведной линии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ать представление о связи прошлого, настоящего, будущ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Формировать целостное восприятие жизненного п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оспитывать доброжелательное отношение к окружающему ми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24:28Z</dcterms:created>
  <dc:creator>6600</dc:creator>
  <dc:description/>
  <dc:language>en-US</dc:language>
  <cp:lastModifiedBy>6600</cp:lastModifiedBy>
  <dcterms:modified xsi:type="dcterms:W3CDTF">2012-02-22T12:22:35Z</dcterms:modified>
  <cp:revision>28</cp:revision>
  <dc:subject/>
  <dc:title>СВЕТЛЫЙ ОБРАЗ</dc:title>
</cp:coreProperties>
</file>