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42E-E832-4DE5-8353-2DBC4726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7C7-2FCA-48AB-82D6-7EE585C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C8D-760B-46E5-A3D2-05794E5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F9F-9D9A-4A13-82AE-6A48AFD7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76B0-1E71-4C63-A3D2-DACE73AD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7187-6346-40DD-ABC4-42F1F37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243-3D97-4497-BE23-AF382D1C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2AB-6277-4EE2-8680-561A2133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368-F7AF-45EC-8048-24F6511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DEC0-0B7A-4200-BAD6-D314541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8A0C-4627-4EF6-8FFB-9858D08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F62-4799-4742-B197-8F9FBFD0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7C8-1D33-4F3C-A635-597E6F4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32F-E29D-495B-8592-3480150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0ECC-3219-45B5-ACBA-143D04E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6A1-6293-426B-9A4B-B0AF8B17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753C-75FF-4F1E-AAC7-1A0FBAFB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61D-0E57-4BFE-81E0-012371DE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DC4-B250-4555-BBE3-E539697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C41-E8EE-4552-AA68-F2832098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DE7-A317-4E75-AB70-F233FDA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3AE-A10D-4B6D-ADD9-AA0C234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BF5-C454-46F9-A1E4-E7536089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C91-C00D-4D73-B5F5-DDDECCA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02E-6F07-4BCE-B1A2-BB8A16751D08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0D4-44B6-4F44-9174-37B44BB84BF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резентация к уроку русского язык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Составила Сенина Любовь Михайловна,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учитель начальных классов             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МБОУ«Гимназия №3» г. Рубцовска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Текст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Подбери пару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рупные капл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ушистые снежин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аленькая собачон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барабанили по крыше дом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громко лаяла на прохожих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рхали в холодном воздух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Проверь себя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рупные капли барабанили по крыше дом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ушистые снежинки порхали в холодном воздухе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аленькая собачонка громко лаяла на прохожи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тдохн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кажите мне скорей настоящий цирк зверей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танцует нам фокстрот неуклюжий бегемот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гарцуют на площадке три нарядные лошадки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увыркается мартышка, на машине едет мишк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ловно шустрый белый мячик, по манежу скачет зайчи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А в конце, как все артисты, поклонились в пояс низк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кончи рассказ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уравей нашёл зерно. Но оно было очень тяжёлое. Муравей не мог его сдвинуть. Тогда он позвал на помощь товарищей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аленькая Оля побежала за котёнком, ушла далеко от дома и заблудилась. Она испугалась и заплакала. Мимо шли ребята из школы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пражнение 185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Рефлексия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Что узнали нового для себя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Что показалось особенно трудным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акова общая эмоциональная удовлетворённость от урока?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(от 1 до 5 баллов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7:34:17Z</dcterms:created>
  <dc:creator>User</dc:creator>
  <dc:description/>
  <dc:language>en-US</dc:language>
  <cp:lastModifiedBy>biblio</cp:lastModifiedBy>
  <dcterms:modified xsi:type="dcterms:W3CDTF">2012-01-31T08:06:35Z</dcterms:modified>
  <cp:revision>4</cp:revision>
  <dc:subject/>
  <dc:title>Текс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