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206-36E7-4C01-B301-0D5CCFA9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625-237D-4884-A4D1-BD8B7C69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9E5-17E8-4B90-A5C2-AF3D850C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A28-5415-48E3-8A54-1251088B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63C9-C000-4034-A2A8-F9DBB8D5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BC9F-2FB3-4854-B136-E288AAA6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2CA8-34FF-440A-8879-6AD76B8F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E5D5-4C04-4DA2-AC81-54F4D52E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0879-30E1-472C-B891-CE689D06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D11F-34CF-44E1-B53D-506A2181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D2E0-F590-4C5B-93D6-0FE530BD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90F-DEBF-4A1E-9A74-6C6E8873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09C7-9FD1-4EF6-B960-DE80A649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3C61-8249-4692-96BE-DB406C62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D09C-0EB6-43E7-8F5A-A578CB79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5068-6967-4C69-AA77-F4CAA659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A2EC-172B-4138-908B-E2739B81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F0A-2061-4FC5-820E-B1C42BF3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109-9509-463E-A485-6AEC426D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7ED-82A6-4ED5-AF0A-552BF525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790-E708-4A85-B6F9-5225EE76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A11-26B7-468A-94A6-BBA6364F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553-4F48-4067-86C5-B0833500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734-69E8-4878-923C-909E0EC0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BEC6-2B77-41F8-B4BC-3B7C8C831D7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1B58-EDED-4E7B-8DCE-74911FD2000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99"/>
                </a:solidFill>
                <a:latin typeface="Arial"/>
              </a:rPr>
              <a:t>Угадай страну</a:t>
            </a:r>
            <a:br>
              <a:rPr sz="7200"/>
            </a:b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Швейцар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3235320" cy="35985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Ватик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3235320" cy="3600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comb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Венгр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3217680" cy="35985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ольш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3235320" cy="35985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Великобрит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3235320" cy="3600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Болгар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59280" y="765000"/>
            <a:ext cx="3252600" cy="3600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Франц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987640" y="620640"/>
            <a:ext cx="3249720" cy="3597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Герм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987640" y="620640"/>
            <a:ext cx="3203640" cy="3598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Грец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916360" y="549360"/>
            <a:ext cx="3217680" cy="3598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Нидерлан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3249720" cy="3597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Исланд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3235320" cy="3600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comb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Норве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3249720" cy="3597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21:39:34Z</dcterms:created>
  <dc:creator>Кузенков</dc:creator>
  <dc:description/>
  <dc:language>en-US</dc:language>
  <cp:lastModifiedBy>Саша и Света</cp:lastModifiedBy>
  <dcterms:modified xsi:type="dcterms:W3CDTF">2007-01-15T19:51:31Z</dcterms:modified>
  <cp:revision>9</cp:revision>
  <dc:subject/>
  <dc:title>Великобритания</dc:title>
</cp:coreProperties>
</file>