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DE19-E1D1-438C-96F4-2B51571A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587A-F80C-4107-951F-204AED95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32F3-9775-4A90-9127-D420015AA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E63-E1C3-478A-9E93-4127E856A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EA97-63AD-40A8-8FBD-4748A0FC1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7443-D6E0-4513-93E2-013F1D8BC5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7350-540A-442E-83F4-DE155BFC6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1E3B-770A-43AD-8A57-F78A19660B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B438-9DCA-4683-819F-A520FD2034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2564-EED1-4AF8-BDEF-6D6166C21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F299-BA62-4628-B2C6-987896D06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5EC7-C64D-40D0-B276-38079427F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3F88-5E77-48D8-828C-75A81B358F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B7BB-DCF3-486E-AB55-5C6A5424E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A32F-154C-4A8D-9A89-F774ACAA23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83AB-EC80-4E28-B0FC-BB7B35927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4EDC-1FE9-40EC-AF34-E77A26CFB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48EE-9CAF-48D9-B6E7-623BF9BC5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F278-625F-4AFE-8060-BF89A0A37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3D9E-B874-4F80-A5B9-40610A83E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C42D-B42C-4DCB-A200-98C990567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308D-BA2D-43D6-9A7F-15BEA7441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E336-D1CA-4DFD-800C-5B8143EFD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9F53-A819-4462-9629-E767FBA02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AutoShape 2"/>
            <p:cNvSpPr/>
            <p:nvPr/>
          </p:nvSpPr>
          <p:spPr>
            <a:xfrm>
              <a:off x="4716360" y="5345280"/>
              <a:ext cx="4426200" cy="1511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7304760" y="6371280"/>
              <a:ext cx="18360" cy="280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7295040" y="6342480"/>
              <a:ext cx="936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221680" y="5678280"/>
              <a:ext cx="482400" cy="11746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7806240" y="5640120"/>
              <a:ext cx="498240" cy="12160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460280" y="5868360"/>
              <a:ext cx="435960" cy="98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7177680" y="5887440"/>
              <a:ext cx="337680" cy="9687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6813000" y="6247440"/>
              <a:ext cx="264600" cy="6087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6508080" y="6380640"/>
              <a:ext cx="263160" cy="4755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206400" y="6409080"/>
              <a:ext cx="375840" cy="447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5831640" y="6485040"/>
              <a:ext cx="311040" cy="3711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5517720" y="6456960"/>
              <a:ext cx="301320" cy="3992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5032080" y="6647040"/>
              <a:ext cx="364680" cy="2091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4831920" y="6694560"/>
              <a:ext cx="141120" cy="1616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701200" y="5345280"/>
              <a:ext cx="441000" cy="1511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Text Box 18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9A4BD0-D154-4AD1-A544-70556D472775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AutoShape 2"/>
            <p:cNvSpPr/>
            <p:nvPr/>
          </p:nvSpPr>
          <p:spPr>
            <a:xfrm>
              <a:off x="4716360" y="5345280"/>
              <a:ext cx="4426200" cy="1511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7304760" y="6371280"/>
              <a:ext cx="18360" cy="280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AutoShape 4"/>
            <p:cNvSpPr/>
            <p:nvPr/>
          </p:nvSpPr>
          <p:spPr>
            <a:xfrm>
              <a:off x="7295040" y="6342480"/>
              <a:ext cx="936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AutoShape 5"/>
            <p:cNvSpPr/>
            <p:nvPr/>
          </p:nvSpPr>
          <p:spPr>
            <a:xfrm>
              <a:off x="8221680" y="5678280"/>
              <a:ext cx="482400" cy="11746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7806240" y="5640120"/>
              <a:ext cx="498240" cy="12160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>
              <a:off x="7460280" y="5868360"/>
              <a:ext cx="435960" cy="98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8"/>
            <p:cNvSpPr/>
            <p:nvPr/>
          </p:nvSpPr>
          <p:spPr>
            <a:xfrm>
              <a:off x="7177680" y="5887440"/>
              <a:ext cx="337680" cy="9687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>
              <a:off x="6813000" y="6247440"/>
              <a:ext cx="264600" cy="6087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0"/>
            <p:cNvSpPr/>
            <p:nvPr/>
          </p:nvSpPr>
          <p:spPr>
            <a:xfrm>
              <a:off x="6508080" y="6380640"/>
              <a:ext cx="263160" cy="4755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1"/>
            <p:cNvSpPr/>
            <p:nvPr/>
          </p:nvSpPr>
          <p:spPr>
            <a:xfrm>
              <a:off x="6206400" y="6409080"/>
              <a:ext cx="375840" cy="447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>
              <a:off x="5831640" y="6485040"/>
              <a:ext cx="311040" cy="3711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>
              <a:off x="5517720" y="6456960"/>
              <a:ext cx="301320" cy="3992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4"/>
            <p:cNvSpPr/>
            <p:nvPr/>
          </p:nvSpPr>
          <p:spPr>
            <a:xfrm>
              <a:off x="5032080" y="6647040"/>
              <a:ext cx="364680" cy="2091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5"/>
            <p:cNvSpPr/>
            <p:nvPr/>
          </p:nvSpPr>
          <p:spPr>
            <a:xfrm>
              <a:off x="4831920" y="6694560"/>
              <a:ext cx="141120" cy="1616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6"/>
            <p:cNvSpPr/>
            <p:nvPr/>
          </p:nvSpPr>
          <p:spPr>
            <a:xfrm>
              <a:off x="8701200" y="5345280"/>
              <a:ext cx="441000" cy="1511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85933A-F679-4509-BA18-3FCF57D26F28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24000" y="522936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ffcc"/>
                </a:solidFill>
                <a:latin typeface="Arial"/>
              </a:rPr>
              <a:t>МОУ СОШ №7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371600" y="62064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Учитель английского язы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Кисель Нелли Суреновна</a:t>
            </a: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249440" cy="345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5078520" y="595008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ffcc"/>
                </a:solidFill>
                <a:latin typeface="Times New Roman"/>
              </a:rPr>
              <a:t>г. Черногол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0" y="-142920"/>
            <a:ext cx="9142200" cy="6999120"/>
            <a:chOff x="0" y="-142920"/>
            <a:chExt cx="9142200" cy="6999120"/>
          </a:xfrm>
        </p:grpSpPr>
        <p:sp>
          <p:nvSpPr>
            <p:cNvPr id="144" name="Rectangle 3"/>
            <p:cNvSpPr/>
            <p:nvPr/>
          </p:nvSpPr>
          <p:spPr>
            <a:xfrm>
              <a:off x="0" y="-142920"/>
              <a:ext cx="4570560" cy="46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Verdana"/>
                </a:rPr>
                <a:t>first aid k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4570560" y="-142920"/>
              <a:ext cx="4570560" cy="46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Verdana"/>
                </a:rPr>
                <a:t>аптечка первой помощ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0" y="323640"/>
              <a:ext cx="4570560" cy="46620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artificial ventil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4570560" y="323640"/>
              <a:ext cx="4570560" cy="46620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искусственное  дыха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0" y="789840"/>
              <a:ext cx="4570560" cy="46656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hand 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570560" y="789840"/>
              <a:ext cx="4570560" cy="46656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носил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0" y="1256760"/>
              <a:ext cx="4570560" cy="46620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dress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4570560" y="1256760"/>
              <a:ext cx="4570560" cy="46620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повязк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0" y="172296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band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570560" y="172296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бин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0" y="218952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wounded m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4570560" y="218952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ранены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0" y="265608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pla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4570560" y="265608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гип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0" y="312264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inj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4570560" y="312264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уко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0" y="358920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anesthes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4570560" y="358920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обезболивающе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0" y="405576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analgesic 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4570560" y="405576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обезболивающее действ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0" y="452232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blood transfu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4570560" y="452232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переливание кров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0" y="498888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take the blood press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4570560" y="498888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измерить давл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0" y="545544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feel the pu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4570560" y="545544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проверить пуль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0" y="592200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take a cardiog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4570560" y="5922000"/>
              <a:ext cx="4570560" cy="466560"/>
            </a:xfrm>
            <a:prstGeom prst="rect">
              <a:avLst/>
            </a:prstGeom>
            <a:solidFill>
              <a:srgbClr val="cdd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снять кардиограмм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31"/>
            <p:cNvSpPr/>
            <p:nvPr/>
          </p:nvSpPr>
          <p:spPr>
            <a:xfrm>
              <a:off x="0" y="638856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life jack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32"/>
            <p:cNvSpPr/>
            <p:nvPr/>
          </p:nvSpPr>
          <p:spPr>
            <a:xfrm>
              <a:off x="4570560" y="6388560"/>
              <a:ext cx="4570560" cy="466200"/>
            </a:xfrm>
            <a:prstGeom prst="rect">
              <a:avLst/>
            </a:prstGeom>
            <a:solidFill>
              <a:srgbClr val="e8e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9999"/>
                  </a:solidFill>
                  <a:latin typeface="Verdana"/>
                </a:rPr>
                <a:t>спасательный жиле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4570560" y="-142920"/>
              <a:ext cx="1080" cy="69980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>
              <a:off x="0" y="323640"/>
              <a:ext cx="9141120" cy="1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>
              <a:off x="0" y="78984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>
              <a:off x="0" y="125676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37"/>
            <p:cNvSpPr/>
            <p:nvPr/>
          </p:nvSpPr>
          <p:spPr>
            <a:xfrm>
              <a:off x="0" y="172296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38"/>
            <p:cNvSpPr/>
            <p:nvPr/>
          </p:nvSpPr>
          <p:spPr>
            <a:xfrm>
              <a:off x="0" y="2189520"/>
              <a:ext cx="91411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>
              <a:off x="0" y="265608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>
              <a:off x="0" y="3122640"/>
              <a:ext cx="91411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41"/>
            <p:cNvSpPr/>
            <p:nvPr/>
          </p:nvSpPr>
          <p:spPr>
            <a:xfrm>
              <a:off x="0" y="358920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42"/>
            <p:cNvSpPr/>
            <p:nvPr/>
          </p:nvSpPr>
          <p:spPr>
            <a:xfrm>
              <a:off x="0" y="4055760"/>
              <a:ext cx="91411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43"/>
            <p:cNvSpPr/>
            <p:nvPr/>
          </p:nvSpPr>
          <p:spPr>
            <a:xfrm>
              <a:off x="0" y="452232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4"/>
            <p:cNvSpPr/>
            <p:nvPr/>
          </p:nvSpPr>
          <p:spPr>
            <a:xfrm>
              <a:off x="0" y="4988880"/>
              <a:ext cx="91411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45"/>
            <p:cNvSpPr/>
            <p:nvPr/>
          </p:nvSpPr>
          <p:spPr>
            <a:xfrm>
              <a:off x="0" y="545544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46"/>
            <p:cNvSpPr/>
            <p:nvPr/>
          </p:nvSpPr>
          <p:spPr>
            <a:xfrm>
              <a:off x="0" y="592200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47"/>
            <p:cNvSpPr/>
            <p:nvPr/>
          </p:nvSpPr>
          <p:spPr>
            <a:xfrm>
              <a:off x="0" y="638856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48"/>
            <p:cNvSpPr/>
            <p:nvPr/>
          </p:nvSpPr>
          <p:spPr>
            <a:xfrm>
              <a:off x="0" y="-142920"/>
              <a:ext cx="1080" cy="69980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49"/>
            <p:cNvSpPr/>
            <p:nvPr/>
          </p:nvSpPr>
          <p:spPr>
            <a:xfrm>
              <a:off x="9141120" y="-142920"/>
              <a:ext cx="1080" cy="69980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0" y="-142920"/>
              <a:ext cx="91411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>
              <a:off x="0" y="6855120"/>
              <a:ext cx="91411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-214200" y="0"/>
            <a:ext cx="9644040" cy="7072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316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429160" y="64296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3989520" cy="218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33134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786200" y="3357720"/>
            <a:ext cx="3889440" cy="31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814560" cy="302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rcRect l="8881" t="5797" r="8818" b="7244"/>
          <a:stretch/>
        </p:blipFill>
        <p:spPr>
          <a:xfrm>
            <a:off x="857160" y="285840"/>
            <a:ext cx="20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rcRect l="0" t="9985" r="0" b="0"/>
          <a:stretch/>
        </p:blipFill>
        <p:spPr>
          <a:xfrm>
            <a:off x="5000760" y="21420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rcRect l="0" t="0" r="0" b="5499"/>
          <a:stretch/>
        </p:blipFill>
        <p:spPr>
          <a:xfrm>
            <a:off x="4932360" y="278136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rcRect l="0" t="0" r="0" b="2417"/>
          <a:stretch/>
        </p:blipFill>
        <p:spPr>
          <a:xfrm>
            <a:off x="3203640" y="2349360"/>
            <a:ext cx="3097080" cy="295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rcRect l="0" t="0" r="7600" b="0"/>
          <a:stretch/>
        </p:blipFill>
        <p:spPr>
          <a:xfrm>
            <a:off x="7093080" y="189000"/>
            <a:ext cx="18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2232000" cy="181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6588000" y="342900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84360" y="27082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6"/>
          <a:srcRect l="0" t="0" r="-32" b="6332"/>
          <a:stretch/>
        </p:blipFill>
        <p:spPr>
          <a:xfrm>
            <a:off x="179280" y="189000"/>
            <a:ext cx="2557440" cy="213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2987640" y="404640"/>
            <a:ext cx="3816360" cy="1312920"/>
          </a:xfrm>
          <a:prstGeom prst="rect">
            <a:avLst/>
          </a:prstGeom>
          <a:ln w="0">
            <a:noFill/>
          </a:ln>
        </p:spPr>
      </p:pic>
      <p:sp>
        <p:nvSpPr>
          <p:cNvPr id="137" name="WordArt 8"/>
          <p:cNvSpPr txBox="1"/>
          <p:nvPr/>
        </p:nvSpPr>
        <p:spPr>
          <a:xfrm>
            <a:off x="3635280" y="5661000"/>
            <a:ext cx="200988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G M 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500040" y="-250920"/>
            <a:ext cx="828684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cc99"/>
                </a:solidFill>
                <a:latin typeface="Arial"/>
              </a:rPr>
              <a:t>Survival skills during: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Explosion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Fire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Earthquake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Car accident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Air crash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Ship-wreck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Flood</a:t>
            </a:r>
            <a:br>
              <a:rPr sz="3600"/>
            </a:br>
            <a:r>
              <a:rPr b="0" lang="en-GB" sz="3600" spc="-1" strike="noStrike">
                <a:solidFill>
                  <a:srgbClr val="eaeaea"/>
                </a:solidFill>
                <a:latin typeface="Arial"/>
              </a:rPr>
              <a:t>Tornado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0" y="214200"/>
            <a:ext cx="9144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cc99"/>
                </a:solidFill>
                <a:latin typeface="Arial"/>
              </a:rPr>
              <a:t>The enemies of a survival: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ain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ld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irst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unger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Breakdown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pathy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oneliness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feeling of powerlessnes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179280" y="33336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cc99"/>
                </a:solidFill>
                <a:latin typeface="Arial"/>
                <a:ea typeface="Verdana"/>
              </a:rPr>
              <a:t>Personal qualities necessary for successful overcoming of a critical situation</a:t>
            </a:r>
            <a:r>
              <a:rPr b="1" i="1" lang="en-GB" sz="2400" spc="-1" strike="noStrike">
                <a:solidFill>
                  <a:srgbClr val="00cc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56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  <a:ea typeface="Lucida Sans Unicode"/>
              </a:rPr>
              <a:t>Ability to concentrate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ility to improvi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ility to live in lonel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ility to adapt for a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ility to remain optimist, at the same time preparing for the wo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ility to understand own fears to tame and overcom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S</dc:creator>
  <dc:description/>
  <dc:language>en-US</dc:language>
  <cp:lastModifiedBy>Nelli</cp:lastModifiedBy>
  <dcterms:modified xsi:type="dcterms:W3CDTF">2010-04-16T10:52:22Z</dcterms:modified>
  <cp:revision>25</cp:revision>
  <dc:subject/>
  <dc:title>Слайд 1</dc:title>
</cp:coreProperties>
</file>