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36F-892D-43CC-A894-513899D5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CF6-C472-4731-B18C-8748CC8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779-AF77-4D00-97DF-C940FD7C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05C-3D8A-4AA9-A4F8-ADAD2CFE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4267-DBC2-4D8F-8E1D-3A5E234B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7EA-2FFE-4BE3-A6EC-7B41ACBF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CB18-D0CE-4D73-A60B-B072A3F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7605-7EF0-4128-8399-B45E012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E6D0-2F3F-4CB3-89E1-FC3E36F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B128-ACDC-4713-9744-7D968879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94B-4F28-4753-9246-E6A77EA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F8B-6D44-41E1-90E7-674E63F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D22-C926-46C3-83FD-4C8ED02E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546-F19D-441D-8248-46C36F0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407-5B76-47F5-84A6-BFBD399C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0D06-CB56-46BB-A29C-1341C59D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8982-1514-4BDC-A822-88D1884B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581-5A52-490C-B3EE-A81DF4A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924-E5B8-417A-B30B-4D09716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280-D87E-4026-8F85-ACD0B5C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74A-64EE-4B52-8C6B-2682D8C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887-F1E5-41BC-B774-0059FE5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74D-518A-49D6-83CE-4780DF5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2AF-E974-45D2-BD9F-C70FAE6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575-23B5-4ABD-8A2B-402101577D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40F-517B-4361-9814-80F415ED7D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99"/>
                </a:solidFill>
                <a:latin typeface="Tahoma"/>
              </a:rPr>
              <a:t>Was haben wir gemacht?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Anna hat schön gelach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8483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Die Kinder haben Szenen gespielt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374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Lilo hat  in der Schule geturn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Susi und Jörg haben </a:t>
            </a:r>
            <a:br>
              <a:rPr sz="3600"/>
            </a:b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einen Brief geschrieben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86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Marta hat ein Bild gemal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Sieben Mädchen und ein Junge haben getanzt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Ada und Peter haben </a:t>
            </a:r>
            <a:br>
              <a:rPr sz="3600"/>
            </a:b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Blumen gesammelt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8944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Willi hat im Zimmer geturn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Uli und Albi haben geschlafen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1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381636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99"/>
                </a:solidFill>
                <a:latin typeface="Tahoma"/>
              </a:rPr>
              <a:t>Sabine hat mit Teddy geschaukelt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57560" y="260280"/>
            <a:ext cx="4813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Klaus, Dieter, Hans </a:t>
            </a:r>
            <a:br>
              <a:rPr sz="4000"/>
            </a:b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haben gebade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99"/>
                </a:solidFill>
                <a:latin typeface="Tahoma"/>
              </a:rPr>
              <a:t>Monika hat mit Rex gespielt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314960" y="476280"/>
            <a:ext cx="4630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Karin hat mit Waldo Deutsch gesprochen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14920" y="333360"/>
            <a:ext cx="422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99"/>
                </a:solidFill>
                <a:latin typeface="Tahoma"/>
              </a:rPr>
              <a:t>Sascha hat „Jablotschko“ getanzt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Sven und vier Igel haben Pilze gesammel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00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Grete und Helga haben </a:t>
            </a:r>
            <a:br>
              <a:rPr sz="4000"/>
            </a:b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mit der Oma telefoniert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770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99"/>
                </a:solidFill>
                <a:latin typeface="Tahoma"/>
              </a:rPr>
              <a:t>Peter hat ein Buch gelesen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9:24:17Z</dcterms:created>
  <dc:creator>***</dc:creator>
  <dc:description/>
  <dc:language>en-US</dc:language>
  <cp:lastModifiedBy>***</cp:lastModifiedBy>
  <dcterms:modified xsi:type="dcterms:W3CDTF">2010-09-25T19:48:14Z</dcterms:modified>
  <cp:revision>2</cp:revision>
  <dc:subject/>
  <dc:title>Was haben wir gemacht?</dc:title>
</cp:coreProperties>
</file>