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FB56-8F78-4CD1-BD6B-F200012D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B0ED-1E2F-490D-AEA3-F79C8077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16AC-5E8E-4A2E-A803-991ABC46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C1FE-C364-4B26-B4B2-C5E29B26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081EF-43B3-4BAD-8F67-016434C6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3C40-4381-4646-B598-65B0E778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449D1-595C-4775-986C-ED0B124D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DE58-CC0F-42D9-94A8-028C48B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0A2C-6052-4A4C-BCFA-76335958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D8410-AF5C-4FC7-B691-5CAB6AFE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F04A-6221-4F86-A349-5BEF448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D0B0-14D7-48F8-B9A9-8B444571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9CCAD-22FD-44C9-B050-79F74CA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D4401-C935-47F1-AD60-D312DD9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F277B-21F2-41E5-8905-A96C462A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D26C7-060B-4890-923A-629FC815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51090-B77A-47B3-800A-8FDABC65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17F0-9A62-43BB-AE3C-746661CE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9CFB-3C49-4D91-9A9D-68B6B834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CB6A-55C7-4D1D-854A-B8F12F8B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784A-B1CE-45DB-AB61-03DC2241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4225-73AF-4317-A747-919AF945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5769-3C90-4C5F-A877-F27C7C7B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ADE6-E14D-4908-8020-B9FD3FF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FF45-F6C9-46DB-B0CF-94343BF3AF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F7ED-8A23-4743-9712-D812CF36AF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>
                <a:solidFill>
                  <a:srgbClr val="ffcc66"/>
                </a:solidFill>
                <a:latin typeface="Garamond"/>
              </a:rPr>
              <a:t>Was kostet das?</a:t>
            </a:r>
            <a:endParaRPr b="0" lang="en-US" sz="88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n Tomatensaft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2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11200" y="1790640"/>
            <a:ext cx="7234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 kleine Torte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7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5530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 Kilo Apfelsinen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4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Ich möchte eine Pizza. Was kostet das?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Es kostet 8 Euro.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72738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n Apfelsaft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3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9546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 schöne Sahnetorte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9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0626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 Kilo Gurken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4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518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 Mineralwasser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2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7690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 Kilo Bonbons kaufen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5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6960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n Kuchen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3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121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Ich möchte ein Kilo Bananen. Was kostet das?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 Es kostet 8 Euro.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6247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 Coca Cola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4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1280" y="1628640"/>
            <a:ext cx="2846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 Kilo Tomaten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6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 Kilo Gebäck 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7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4803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 Bananentorte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8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4090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Ich möchte eine Pizza. Was kostet das?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Es kostet 4 Euro.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96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121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Ich möchte ein Kilo Gebäck. Was kostet das?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Es kostet 4 Euro.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Garamond"/>
              </a:rPr>
              <a:t>-</a:t>
            </a: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Ich möchte eine große Torte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5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9850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Ich möchte eine Cola. Was kostet das?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Es kostet 2 Euro.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400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zwei Kilo Kartoffeln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6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2658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Ich möchte einen Kuchen. Was kostet das?</a:t>
            </a: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Garamond"/>
              </a:rPr>
              <a:t>-Es kostet 6 Euro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399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Ich möchte zwei Limo. Was kostet das?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Garamond"/>
              </a:rPr>
              <a:t>-Es kostet zwei Euro.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15:58Z</dcterms:created>
  <dc:creator>***</dc:creator>
  <dc:description/>
  <dc:language>en-US</dc:language>
  <cp:lastModifiedBy>***</cp:lastModifiedBy>
  <dcterms:modified xsi:type="dcterms:W3CDTF">2010-11-27T19:50:54Z</dcterms:modified>
  <cp:revision>2</cp:revision>
  <dc:subject/>
  <dc:title>-Ich möchte ein Kilo Bananen. Was kostet das? - Es kostet 8 Euro.</dc:title>
</cp:coreProperties>
</file>