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0424-2CFE-48B1-9843-6A2D3DEA0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2B3E-AF11-4B17-A56C-21BFEF10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CFCB-5D72-4616-A218-14A755DFE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F17E-C848-48BD-AA87-181AD06D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CBD7-1A2C-41F9-921D-3162FFE6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E796-E055-42E4-8DF4-F11EE134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7E6D-1F8E-4182-83A0-E937A5EA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FD05-0B73-403B-ADF8-46CEEFEB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CEF1-3470-407A-B34D-81BB1A50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2018-0A88-4E69-82DD-90B13D8A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0144-D576-4008-8474-A30021EB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7C2C-2AF8-41A2-98C2-7FF0DAA2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9F1A-9293-42B4-92BF-99F454BAE3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187280" y="476280"/>
            <a:ext cx="669636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8160">
                  <a:solidFill>
                    <a:srgbClr val="80008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ЗАДАЧИ - ЗАГАДКИ</a:t>
            </a:r>
            <a:endParaRPr b="1" lang="en-US" sz="6000" spc="1" strike="noStrike">
              <a:ln w="38160">
                <a:solidFill>
                  <a:srgbClr val="80008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708120" y="4437000"/>
            <a:ext cx="765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итель физики МОБУ «СОШ № 4»: Дидерле Г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.п.Пойк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фтеюганский 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МАО - Юг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т4"/>
          <p:cNvPicPr/>
          <p:nvPr/>
        </p:nvPicPr>
        <p:blipFill>
          <a:blip r:embed="rId2"/>
          <a:stretch/>
        </p:blipFill>
        <p:spPr>
          <a:xfrm>
            <a:off x="395280" y="1628640"/>
            <a:ext cx="5675400" cy="37785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900000" y="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Bookman Old Style"/>
              </a:rPr>
              <a:t>Кто далеко жи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Bookman Old Style"/>
              </a:rPr>
              <a:t>Тот пешком не п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Bookman Old Style"/>
              </a:rPr>
              <a:t>Наш приятель тут как ту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Bookman Old Style"/>
              </a:rPr>
              <a:t>Всех домчит он в пять ми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Bookman Old Style"/>
              </a:rPr>
              <a:t>                      </a:t>
            </a:r>
            <a:r>
              <a:rPr b="1" i="1" lang="ru-RU" sz="3200" spc="-1" strike="noStrike">
                <a:solidFill>
                  <a:srgbClr val="008000"/>
                </a:solidFill>
                <a:latin typeface="Bookman Old Style"/>
              </a:rPr>
              <a:t>Эй, садись не зев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Bookman Old Style"/>
              </a:rPr>
              <a:t>                           </a:t>
            </a:r>
            <a:r>
              <a:rPr b="1" i="1" lang="ru-RU" sz="3200" spc="-1" strike="noStrike">
                <a:solidFill>
                  <a:srgbClr val="008000"/>
                </a:solidFill>
                <a:latin typeface="Bookman Old Style"/>
              </a:rPr>
              <a:t>Отправляетс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395280" y="4005360"/>
            <a:ext cx="874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                                           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Трамвай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                                           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рошё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                                                      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ервые 200 м со скоростью 5 м/с, а следующие 600 м со скоростью 10 м/с. Определить его среднюю скорость на всём пу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а1"/>
          <p:cNvPicPr/>
          <p:nvPr/>
        </p:nvPicPr>
        <p:blipFill>
          <a:blip r:embed="rId1"/>
          <a:stretch/>
        </p:blipFill>
        <p:spPr>
          <a:xfrm>
            <a:off x="324000" y="692280"/>
            <a:ext cx="5240160" cy="29541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611280" y="333360"/>
            <a:ext cx="8300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ookman Old Style"/>
              </a:rPr>
              <a:t>                     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Чтобы он тебя </a:t>
            </a:r>
            <a:r>
              <a:rPr b="1" i="1" lang="en-US" sz="2800" spc="-1" strike="noStrike">
                <a:solidFill>
                  <a:srgbClr val="ff0000"/>
                </a:solidFill>
                <a:latin typeface="Bookman Old Style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ookman Old Style"/>
              </a:rPr>
              <a:t>                                     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повёз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ookman Old Style"/>
              </a:rPr>
              <a:t>                        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Ему не нуж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ookman Old Style"/>
              </a:rPr>
              <a:t>                                       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овё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ookman Old Style"/>
              </a:rPr>
              <a:t>                          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Накорми 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Bookman Old Style"/>
              </a:rPr>
              <a:t>                              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бензи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ookman Old Style"/>
              </a:rPr>
              <a:t>                     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На копыта д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Bookman Old Style"/>
              </a:rPr>
              <a:t>                                 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резин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ookman Old Style"/>
              </a:rPr>
              <a:t>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И тогда поднявши пыл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ookman Old Style"/>
              </a:rPr>
              <a:t>         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Побежит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519120" y="4724280"/>
            <a:ext cx="8624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томобиль проехал первую половину пути с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оростью 10 м/с, а втору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овину со скоростью 15 м/с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ить среднюю скорость на всём пу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c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2987640" y="260280"/>
            <a:ext cx="561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Bookman Old Style"/>
              </a:rPr>
              <a:t>Он гудит и чертит мел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Bookman Old Style"/>
              </a:rPr>
              <a:t>Он рисует белым – белы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Bookman Old Style"/>
              </a:rPr>
              <a:t>Смело в небе проплыва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Bookman Old Style"/>
              </a:rPr>
              <a:t>Человек им управля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Bookman Old Style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Bookman Old Style"/>
              </a:rPr>
              <a:t>Обгоняет птиц пол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Bookman Old Style"/>
              </a:rPr>
              <a:t>Что так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122200" y="5013360"/>
            <a:ext cx="673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ой путь пролетает самол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вижущийся в течение 10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 скоростью 720 км/ч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11280" y="907920"/>
            <a:ext cx="5070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вел3"/>
          <p:cNvPicPr/>
          <p:nvPr/>
        </p:nvPicPr>
        <p:blipFill>
          <a:blip r:embed="rId1"/>
          <a:stretch/>
        </p:blipFill>
        <p:spPr>
          <a:xfrm>
            <a:off x="3924360" y="1700280"/>
            <a:ext cx="4964040" cy="2986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/>
          <p:cNvSpPr/>
          <p:nvPr/>
        </p:nvSpPr>
        <p:spPr>
          <a:xfrm>
            <a:off x="953280" y="260280"/>
            <a:ext cx="5024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Bookman Old Style"/>
              </a:rPr>
              <a:t>На рояль он не похож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Bookman Old Style"/>
              </a:rPr>
              <a:t>Но педаль имеет тож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Bookman Old Style"/>
              </a:rPr>
              <a:t>Кто не трус и не трусих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Bookman Old Style"/>
              </a:rPr>
              <a:t>Покатается он лих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Bookman Old Style"/>
              </a:rPr>
              <a:t>У него мотора н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Bookman Old Style"/>
              </a:rPr>
              <a:t>Его зовут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324000" y="4724280"/>
            <a:ext cx="86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льчик на велосипеде, двигаясь прямолинейно, проехал 100,3 м, затем сделал поворот, описав четверть окружности радиусом 10 м. Определить пу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519120" y="281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468360" y="333360"/>
            <a:ext cx="842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Крыльев нет, но эта птиц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Пролетит и прилун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Чудо – птица, алый хвос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Полетела в стаю звёз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Хороша, как чудо с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Что ж летит, ответ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3454560" y="3645000"/>
            <a:ext cx="568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кета движ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 скоростью 7 км/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 какое время о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летит путь в 280000 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т2"/>
          <p:cNvPicPr/>
          <p:nvPr/>
        </p:nvPicPr>
        <p:blipFill>
          <a:blip r:embed="rId1"/>
          <a:stretch/>
        </p:blipFill>
        <p:spPr>
          <a:xfrm>
            <a:off x="4618080" y="765000"/>
            <a:ext cx="4525920" cy="45262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682560" y="549360"/>
            <a:ext cx="5426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9900"/>
                </a:solidFill>
                <a:latin typeface="Bookman Old Style"/>
              </a:rPr>
              <a:t>Едет конь стальной, рыч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9900"/>
                </a:solidFill>
                <a:latin typeface="Bookman Old Style"/>
              </a:rPr>
              <a:t>Сзади плуг он волоч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9900"/>
                </a:solidFill>
                <a:latin typeface="Bookman Old Style"/>
              </a:rPr>
              <a:t>Который роет и коп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9900"/>
                </a:solidFill>
                <a:latin typeface="Bookman Old Style"/>
              </a:rPr>
              <a:t>И землю разрыхля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9900"/>
                </a:solidFill>
                <a:latin typeface="Bookman Old Style"/>
              </a:rPr>
              <a:t>Всё рычит, рычит мо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9900"/>
                </a:solidFill>
                <a:latin typeface="Bookman Old Style"/>
              </a:rPr>
              <a:t>Ну конечно, эт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694440" y="4365720"/>
            <a:ext cx="779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пахивая поле, гусеничный трак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ижется равномерно и прямолинейно с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оростью 2 м/с. С какой скорост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носительно земли движутся точ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ходящиеся на верхней части гусениц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м6"/>
          <p:cNvPicPr/>
          <p:nvPr/>
        </p:nvPicPr>
        <p:blipFill>
          <a:blip r:embed="rId1"/>
          <a:stretch/>
        </p:blipFill>
        <p:spPr>
          <a:xfrm>
            <a:off x="3492360" y="476280"/>
            <a:ext cx="5651640" cy="37288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585720" y="836640"/>
            <a:ext cx="5002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Bookman Old Style"/>
              </a:rPr>
              <a:t>Несётся и стреля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Bookman Old Style"/>
              </a:rPr>
              <a:t>Ворчит скороговор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к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Bookman Old Style"/>
              </a:rPr>
              <a:t>Трамваю не угнат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ься</a:t>
            </a:r>
            <a:r>
              <a:rPr b="1" i="1" lang="ru-RU" sz="2800" spc="-1" strike="noStrike">
                <a:solidFill>
                  <a:srgbClr val="3333cc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Bookman Old Style"/>
              </a:rPr>
              <a:t>За этой тараторкой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Bookman Old Style"/>
              </a:rPr>
              <a:t>В четыре такта е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го цик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Bookman Old Style"/>
              </a:rPr>
              <a:t>Это быстрый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319680" y="4365720"/>
            <a:ext cx="8571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Arial"/>
              </a:rPr>
              <a:t>Сколько времени мотоциклис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Arial"/>
              </a:rPr>
              <a:t>движущийся со скоростью 60 км/ч, буд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Arial"/>
              </a:rPr>
              <a:t>обгонять автоколонну длиной 400 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Arial"/>
              </a:rPr>
              <a:t>движущуюся со скоростью 40 км/ч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0c0c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т1"/>
          <p:cNvPicPr/>
          <p:nvPr/>
        </p:nvPicPr>
        <p:blipFill>
          <a:blip r:embed="rId1"/>
          <a:stretch/>
        </p:blipFill>
        <p:spPr>
          <a:xfrm>
            <a:off x="2050920" y="22320"/>
            <a:ext cx="7093080" cy="68356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686880" y="260280"/>
            <a:ext cx="4275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Bookman Old Style"/>
              </a:rPr>
              <a:t>Ползёт черепах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Bookman Old Style"/>
              </a:rPr>
              <a:t>Стальная рубах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Bookman Old Style"/>
              </a:rPr>
              <a:t>Враг в овра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Bookman Old Style"/>
              </a:rPr>
              <a:t>И она туда, где вра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Bookman Old Style"/>
              </a:rPr>
              <a:t>Испугались очень я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Bookman Old Style"/>
              </a:rPr>
              <a:t>Ах! И чудо наши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55400" y="4260960"/>
            <a:ext cx="8518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нковая кол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иной 300 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вномерно движ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мосту со скоростью 18 км/ч. За какое 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онна пройдёт мост, если его длина 400 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5184720" cy="34542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3996360" y="260280"/>
            <a:ext cx="489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Bookman Old Style"/>
              </a:rPr>
              <a:t>Ест он уголь, пьёт и вод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Bookman Old Style"/>
              </a:rPr>
              <a:t>А напьётся, даст он х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Bookman Old Style"/>
              </a:rPr>
              <a:t>Что ни говори, силё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Bookman Old Style"/>
              </a:rPr>
              <a:t>Хоть дымит порою о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Bookman Old Style"/>
              </a:rPr>
              <a:t>Везёт обоз на сто колё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Bookman Old Style"/>
              </a:rPr>
              <a:t>Это сильный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68360" y="3645000"/>
            <a:ext cx="8675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а паровоза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елезнодорож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ом, дли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360 м кажд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ижутся по прямым параллельным путям навстреч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уг другу с одинаковой скоростью 36 км/ч. Ка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мя пройдёт с момента встреч паровозов до то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разминутся их последние вагон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76"/>
            </a:gs>
            <a:gs pos="50000">
              <a:srgbClr val="99ccff"/>
            </a:gs>
            <a:gs pos="100000">
              <a:srgbClr val="47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4998960" y="1989000"/>
            <a:ext cx="4145040" cy="388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179280" y="620640"/>
            <a:ext cx="7293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Bookman Old Style"/>
              </a:rPr>
              <a:t>Он гудит, скажу я, важ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Bookman Old Style"/>
              </a:rPr>
              <a:t>По воде плывёт отваж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Bookman Old Style"/>
              </a:rPr>
              <a:t>И красив, скажу я 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Bookman Old Style"/>
              </a:rPr>
              <a:t>Коль бежит он по вол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Bookman Old Style"/>
              </a:rPr>
              <a:t>Не сбавляя быстрый 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Bookman Old Style"/>
              </a:rPr>
              <a:t>Что такое?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392760" y="4508640"/>
            <a:ext cx="7898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ова скорость те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ды в Иртыше на участ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де скорость парохода равна 24 км/ч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 против течения 14 км/ч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07:30:33Z</dcterms:created>
  <dc:creator>Zver</dc:creator>
  <dc:description/>
  <dc:language>en-US</dc:language>
  <cp:lastModifiedBy>serega</cp:lastModifiedBy>
  <dcterms:modified xsi:type="dcterms:W3CDTF">2012-02-21T23:27:23Z</dcterms:modified>
  <cp:revision>8</cp:revision>
  <dc:subject/>
  <dc:title>Слайд 1</dc:title>
</cp:coreProperties>
</file>