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image20.jpeg" ContentType="image/jpeg"/>
  <Override PartName="/ppt/media/image19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5.jpeg" ContentType="image/jpeg"/>
  <Override PartName="/ppt/media/image26.jpeg" ContentType="image/jpeg"/>
  <Override PartName="/ppt/media/image25.jpeg" ContentType="image/jpeg"/>
  <Override PartName="/ppt/media/image32.png" ContentType="image/png"/>
  <Override PartName="/ppt/media/image1.jpeg" ContentType="image/jpeg"/>
  <Override PartName="/ppt/media/image22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ECD6F-89D4-4742-8803-52B44D35F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CB4CA-C6A5-4239-98E5-FCEFE4087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45A13-2283-4617-9042-07D55C9A5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3D626-8EF0-4F6A-B95A-83C3DAF1E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A39AC-8F76-418B-8A27-384744E9F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B1D29-682F-4BA3-8A7A-4459EC835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7DA5B-A2F4-446B-A701-73432E935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7221E-2689-457F-A095-CB75EDDE6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3A506-3FCB-44B6-8C9D-8C5695F19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78181-1877-41DB-9400-F23D08E74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56C2F-AE6C-4F86-9CAF-0E85B7159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DCFB0-073D-42B9-933D-47CDCAE65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2433D-684C-4567-8339-57F802FD9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FC640-F57C-4E74-8120-B25FB6273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BFFDA-AEA5-4076-AEE1-E416CBDE7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DB95C-1019-4664-9B91-ECC8B242B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57982-DB1D-4889-BEB7-DAE95240E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11089-787D-4CE9-98D2-85651EC71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F7575-52DA-4A8E-942C-C5577875F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171B0-4440-407C-9539-FD065EC42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6F579-E2BE-4351-8660-D5C6D4361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BF52C-192E-4B0D-9638-3CC1FBFFC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99901-E3BC-4F22-AE26-B1D0C41D9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C6B01-6EC4-4274-891A-7D173F5D8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82688-FBCC-4471-985A-BDB91B218DB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C6436-BD4A-486E-963C-9E3F8498336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971640" y="836640"/>
            <a:ext cx="7416720" cy="285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ЖИВОТНЫЕ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1332000" y="3933720"/>
            <a:ext cx="6553080" cy="230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АВСТРАЛИИ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Любимейшее животное австралийцев.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1511280" y="1676520"/>
            <a:ext cx="6121440" cy="44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900000" y="189000"/>
            <a:ext cx="720108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395280" y="260280"/>
            <a:ext cx="8353440" cy="619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7e7ff"/>
                </a:solidFill>
                <a:latin typeface="Arial"/>
              </a:rPr>
              <a:t>Яйцекладущие – выводят детёнышей из яиц, а кормят молоком.</a:t>
            </a: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971640" y="1600200"/>
            <a:ext cx="66164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522360" y="228600"/>
            <a:ext cx="8097840" cy="587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Е Х И Д Н А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1187280" y="1671480"/>
            <a:ext cx="6242400" cy="492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ДИКАЯ СОБАКА ДИНГО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1042920" y="1197000"/>
            <a:ext cx="7129440" cy="54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Богат и разнообразен мир птиц.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2424240" y="1268280"/>
            <a:ext cx="4595760" cy="53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611280" y="333360"/>
            <a:ext cx="7848360" cy="61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СТРАУС ЭМУ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2428920" y="1413000"/>
            <a:ext cx="487980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Сумчатые животные.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11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Животный мир Австралии своеобразен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Здесь обитает более 100 видов сумчатых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Богат и разнообразен мир птиц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4788000" y="1268280"/>
            <a:ext cx="3806640" cy="53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1042920" y="333360"/>
            <a:ext cx="6769080" cy="61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КАЗУАР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1606680" y="1792440"/>
            <a:ext cx="5930640" cy="41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1835280" y="0"/>
            <a:ext cx="4968720" cy="66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ЛИРОХВОСТ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2411280" y="1341360"/>
            <a:ext cx="395316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684360" y="549360"/>
            <a:ext cx="7559640" cy="57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2484360" y="0"/>
            <a:ext cx="3888000" cy="66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РАЙСКИЕ ПТИЦЫ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2340000" y="1628640"/>
            <a:ext cx="396072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2124000" y="189000"/>
            <a:ext cx="460872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2340000" y="0"/>
            <a:ext cx="4081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ГЕРБ АВСТРАЛИИ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1763640" y="1413000"/>
            <a:ext cx="511344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КЕНГУРУ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826920" y="1268280"/>
            <a:ext cx="7345440" cy="53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МОНЕТЫ АВСТРАЛИИ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2352600" y="1797120"/>
            <a:ext cx="4438800" cy="41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468360" y="333360"/>
            <a:ext cx="8207280" cy="59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301680" y="1676160"/>
            <a:ext cx="8540640" cy="44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1042920" y="189000"/>
            <a:ext cx="712944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522360" y="228600"/>
            <a:ext cx="8097840" cy="587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СУМЧАТЫЙ МУРАВЬЕД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11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Только в Австралии сохранились такие животные, которые донашивают детёнышей в сумке на живот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одятся сумчатые барсуки, кроты, мыши, белк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4932360" y="1484280"/>
            <a:ext cx="352728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СУМЧАТЫЙ ДЬЯВОЛ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1403280" y="1413000"/>
            <a:ext cx="604836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755640" y="189000"/>
            <a:ext cx="756144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СУМЧАТЫЙ МЕДВЕДЬ - КОАЛА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1908000" y="1341360"/>
            <a:ext cx="489600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8T11:26:38Z</dcterms:created>
  <dc:creator>Home</dc:creator>
  <dc:description/>
  <dc:language>en-US</dc:language>
  <cp:lastModifiedBy>Home</cp:lastModifiedBy>
  <dcterms:modified xsi:type="dcterms:W3CDTF">2010-12-08T11:48:13Z</dcterms:modified>
  <cp:revision>2</cp:revision>
  <dc:subject/>
  <dc:title>Слайд 1</dc:title>
</cp:coreProperties>
</file>