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gif" ContentType="image/gif"/>
  <Override PartName="/ppt/media/image6.png" ContentType="image/png"/>
  <Override PartName="/ppt/media/image3.wmf" ContentType="image/x-wmf"/>
  <Override PartName="/ppt/media/image4.wmf" ContentType="image/x-wmf"/>
  <Override PartName="/ppt/media/image5.png" ContentType="image/png"/>
  <Override PartName="/ppt/media/image7.wmf" ContentType="image/x-wmf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AF95A-B9C5-4992-BC17-2BD5B8B87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19254-B2D5-4564-BABB-EC99A8DB6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340ED-02A6-46F7-AA2F-E6D197A38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4C7E7-D044-48E8-9E1F-379F609D5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AF4E4-29E1-4266-AE56-3B475F76F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E7F86-FE11-4B9B-A6A6-AB6F39FD7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B4329-F1E1-410D-A889-B85AEC743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8A6A1-CD6C-48EE-B208-96F3E2F6C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2F237-EF25-473F-9159-01EBE8258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FBB95-F881-4C95-8B52-BD32745AE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AD394-373E-457F-8852-F5F907FA4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49F06-6BA5-4DCE-8AD7-5D5A5934C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50000">
              <a:srgbClr val="fff200"/>
            </a:gs>
            <a:gs pos="100000">
              <a:srgbClr val="4d0808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597DB-7D68-4E26-A231-0C110F2947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50000">
              <a:srgbClr val="fff200"/>
            </a:gs>
            <a:gs pos="100000">
              <a:srgbClr val="4d0808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Диффуз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Творческая работ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о биолог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648320" y="2028960"/>
            <a:ext cx="3809880" cy="4019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755640" y="4221000"/>
            <a:ext cx="417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асильевой Ксени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дзиевской Елизавет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50000">
              <a:srgbClr val="fff200"/>
            </a:gs>
            <a:gs pos="100000">
              <a:srgbClr val="4d0808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Определени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Диффузия – проникновение молекул одного вещества в межмолекулярные промежутки другого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Копия%20199a" descr=""/>
          <p:cNvPicPr/>
          <p:nvPr/>
        </p:nvPicPr>
        <p:blipFill>
          <a:blip r:embed="rId1"/>
          <a:stretch/>
        </p:blipFill>
        <p:spPr>
          <a:xfrm>
            <a:off x="5867280" y="2438280"/>
            <a:ext cx="1905120" cy="19051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50000">
              <a:srgbClr val="fff200"/>
            </a:gs>
            <a:gs pos="100000">
              <a:srgbClr val="4d0808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Причин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ричина этого явления – непрерывное хаотическое явление молекул веществ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BD00028_" descr=""/>
          <p:cNvPicPr/>
          <p:nvPr/>
        </p:nvPicPr>
        <p:blipFill>
          <a:blip r:embed="rId1"/>
          <a:stretch/>
        </p:blipFill>
        <p:spPr>
          <a:xfrm>
            <a:off x="5105520" y="1981080"/>
            <a:ext cx="2971800" cy="29116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50000">
              <a:srgbClr val="fff200"/>
            </a:gs>
            <a:gs pos="100000">
              <a:srgbClr val="4d0808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корость хаотического движения прямо пропорциональна температуре вещества. Поэтому чем выше температур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тем скорость диффузии больш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SY01265_" descr=""/>
          <p:cNvPicPr/>
          <p:nvPr/>
        </p:nvPicPr>
        <p:blipFill>
          <a:blip r:embed="rId1"/>
          <a:stretch/>
        </p:blipFill>
        <p:spPr>
          <a:xfrm>
            <a:off x="5943600" y="2133720"/>
            <a:ext cx="1655640" cy="35049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50000">
              <a:srgbClr val="fff200"/>
            </a:gs>
            <a:gs pos="100000">
              <a:srgbClr val="4d0808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Приме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Сахар или соль быстрее растворяются в горячей вод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temperature" descr=""/>
          <p:cNvPicPr/>
          <p:nvPr/>
        </p:nvPicPr>
        <p:blipFill>
          <a:blip r:embed="rId1"/>
          <a:stretch/>
        </p:blipFill>
        <p:spPr>
          <a:xfrm>
            <a:off x="5638680" y="2362320"/>
            <a:ext cx="2210040" cy="20494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50000">
              <a:srgbClr val="fff200"/>
            </a:gs>
            <a:gs pos="100000">
              <a:srgbClr val="4d0808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Давление смес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Если газы образуют смес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то общее давление этой смеси равно сумме давлени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которые оказывает каждый газ по отдельност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vlazhnost" descr=""/>
          <p:cNvPicPr/>
          <p:nvPr/>
        </p:nvPicPr>
        <p:blipFill>
          <a:blip r:embed="rId1"/>
          <a:stretch/>
        </p:blipFill>
        <p:spPr>
          <a:xfrm>
            <a:off x="5638680" y="2590920"/>
            <a:ext cx="2133720" cy="18493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50000">
              <a:srgbClr val="fff200"/>
            </a:gs>
            <a:gs pos="100000">
              <a:srgbClr val="4d0808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Парциальное давлени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Давление каждого газа называется парциальным давлением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NA01607_" descr=""/>
          <p:cNvPicPr/>
          <p:nvPr/>
        </p:nvPicPr>
        <p:blipFill>
          <a:blip r:embed="rId1"/>
          <a:stretch/>
        </p:blipFill>
        <p:spPr>
          <a:xfrm>
            <a:off x="5334120" y="2286000"/>
            <a:ext cx="2895480" cy="2671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50000">
              <a:srgbClr val="fff200"/>
            </a:gs>
            <a:gs pos="100000">
              <a:srgbClr val="4d0808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Формул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</a:t>
            </a:r>
            <a:r>
              <a:rPr b="0" lang="ru-RU" sz="2800" spc="-1" strike="noStrike" baseline="-20000">
                <a:solidFill>
                  <a:srgbClr val="000000"/>
                </a:solidFill>
                <a:latin typeface="Times New Roman"/>
              </a:rPr>
              <a:t>воздух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 baseline="-2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P</a:t>
            </a:r>
            <a:r>
              <a:rPr b="0" lang="en-US" sz="2800" spc="-1" strike="noStrike" baseline="-2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P</a:t>
            </a:r>
            <a:r>
              <a:rPr b="0" lang="en-US" sz="2800" spc="-1" strike="noStrike" baseline="-20000">
                <a:solidFill>
                  <a:srgbClr val="000000"/>
                </a:solidFill>
                <a:latin typeface="Times New Roman"/>
              </a:rPr>
              <a:t>C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P</a:t>
            </a:r>
            <a:r>
              <a:rPr b="0" lang="ru-RU" sz="2800" spc="-1" strike="noStrike" baseline="-20000">
                <a:solidFill>
                  <a:srgbClr val="000000"/>
                </a:solidFill>
                <a:latin typeface="Times New Roman"/>
              </a:rPr>
              <a:t>др.газ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202200" y="3733920"/>
            <a:ext cx="163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того газ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293640" y="414972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Тгаз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892760" y="3921120"/>
            <a:ext cx="75960" cy="738360"/>
          </a:xfrm>
          <a:custGeom>
            <a:avLst/>
            <a:gdLst>
              <a:gd name="textAreaLeft" fmla="*/ 0 w 75960"/>
              <a:gd name="textAreaRight" fmla="*/ 27360 w 75960"/>
              <a:gd name="textAreaTop" fmla="*/ 19080 h 738360"/>
              <a:gd name="textAreaBottom" fmla="*/ 719280 h 73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185080" y="3962520"/>
            <a:ext cx="343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рямо пропорциональн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277440" y="457200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499640" y="4572000"/>
            <a:ext cx="368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братно пропорциональн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Молярной масс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911320" y="3844800"/>
            <a:ext cx="304920" cy="1886040"/>
          </a:xfrm>
          <a:custGeom>
            <a:avLst/>
            <a:gdLst>
              <a:gd name="textAreaLeft" fmla="*/ 194760 w 304920"/>
              <a:gd name="textAreaRight" fmla="*/ 305280 w 304920"/>
              <a:gd name="textAreaTop" fmla="*/ 48960 h 1886040"/>
              <a:gd name="textAreaBottom" fmla="*/ 1837080 h 1886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77000" y="4191120"/>
            <a:ext cx="494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Monotype Corsiva"/>
              </a:rPr>
              <a:t>f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4419720"/>
            <a:ext cx="236232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Times New Roman"/>
              </a:rPr>
              <a:t>каждого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Times New Roman"/>
              </a:rPr>
              <a:t>газ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50000">
              <a:srgbClr val="fff200"/>
            </a:gs>
            <a:gs pos="100000">
              <a:srgbClr val="4d0808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Перемещение молеку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ри диффузии газов молекулы перемещаются из области с большим давлением в область с меньшим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i" descr=""/>
          <p:cNvPicPr/>
          <p:nvPr/>
        </p:nvPicPr>
        <p:blipFill>
          <a:blip r:embed="rId1"/>
          <a:stretch/>
        </p:blipFill>
        <p:spPr>
          <a:xfrm>
            <a:off x="5105520" y="2209680"/>
            <a:ext cx="3200400" cy="29718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6T12:40:57Z</dcterms:created>
  <dc:creator>GAA</dc:creator>
  <dc:description/>
  <dc:language>en-US</dc:language>
  <cp:lastModifiedBy>User</cp:lastModifiedBy>
  <dcterms:modified xsi:type="dcterms:W3CDTF">2006-01-26T00:32:02Z</dcterms:modified>
  <cp:revision>7</cp:revision>
  <dc:subject/>
  <dc:title>Презентация</dc:title>
</cp:coreProperties>
</file>