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426-F937-49A5-AA07-B1B46EDF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F7BE-5C48-4DEF-A6FA-995FB2E8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E38-796A-44AB-83D9-AD5DC19B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2EA9-4789-45AC-9804-5E3DE95B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0E2-F257-4938-BDBD-5CB5909D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4DE9-DB4B-4D90-8E6C-61C844E4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BE99-1E39-4617-A5CE-E9C3841D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98FA-21D5-4CAC-A6C7-92BDDC33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770-D53C-4487-8DDB-A8A9CC43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9BA-9368-47C1-8010-4F09972E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6F81-AFF8-4764-893C-C6806CA4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966-4E21-482D-BF02-AEF69E2D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4979-5515-46FE-AD38-8D95E10AF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hyperlink" Target="&#1056;&#1072;&#1073;&#1086;&#1095;&#1080;&#1081; &#1083;&#1080;&#1089;&#1090; &#1091;&#1095;&#1077;&#1085;&#1080;&#1082;&#1072;.doc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&#1056;&#1072;&#1073;&#1086;&#1095;&#1080;&#1081; &#1083;&#1080;&#1089;&#1090; &#1091;&#1095;&#1077;&#1085;&#1080;&#1082;&#1072;.doc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&#1056;&#1072;&#1073;&#1086;&#1095;&#1080;&#1081; &#1083;&#1080;&#1089;&#1090; &#1091;&#1095;&#1077;&#1085;&#1080;&#1082;&#1072;.doc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&#1056;&#1072;&#1073;&#1086;&#1095;&#1080;&#1081; &#1083;&#1080;&#1089;&#1090; &#1091;&#1095;&#1077;&#1085;&#1080;&#1082;&#1072;.doc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&#1056;&#1072;&#1073;&#1086;&#1095;&#1080;&#1081; &#1083;&#1080;&#1089;&#1090; &#1091;&#1095;&#1077;&#1085;&#1080;&#1082;&#1072;.doc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&#1056;&#1072;&#1073;&#1086;&#1095;&#1080;&#1081; &#1083;&#1080;&#1089;&#1090; &#1091;&#1095;&#1077;&#1085;&#1080;&#1082;&#1072;.doc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&#1090;&#1077;&#1089;&#1090;.xls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Monotype Corsiva"/>
              </a:rPr>
              <a:t>ЭКСПЕДИЦИЯ ЕРМАКА</a:t>
            </a:r>
            <a:br>
              <a:rPr sz="4400"/>
            </a:br>
            <a:r>
              <a:rPr b="1" lang="en-US" sz="4400" spc="-1" strike="noStrike">
                <a:solidFill>
                  <a:srgbClr val="cc9900"/>
                </a:solidFill>
                <a:latin typeface="Monotype Corsiva"/>
              </a:rPr>
              <a:t> И ПРИСОЕДИНЕНИЕ СИБИР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00040" y="3276720"/>
            <a:ext cx="56386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Monotype Corsiva"/>
              </a:rPr>
              <a:t>... Мы голову Кучуму отсеч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Monotype Corsiva"/>
              </a:rPr>
              <a:t>- Сказал Ермак. - Сибирь на меч подъемл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Monotype Corsiva"/>
              </a:rPr>
              <a:t>Он вынул меч. И боевым меч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Monotype Corsiva"/>
              </a:rPr>
              <a:t>Ударил в землю и разрыхлил землю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Monotype Corsiva"/>
              </a:rPr>
              <a:t>Леонид Марты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2876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99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рочитать стр. 170 – 174. Учебник История донского края 5-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Выполнить творческое зад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стр. 17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3. Поразмыслить над слов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М.В. Ломонос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«Российское могущество прирастать будет Сибирью...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втор работы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.И. Дурова, учитель истори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имназии №3 г. Акс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карта россии"/>
          <p:cNvPicPr/>
          <p:nvPr/>
        </p:nvPicPr>
        <p:blipFill>
          <a:blip r:embed="rId2"/>
          <a:stretch/>
        </p:blipFill>
        <p:spPr>
          <a:xfrm>
            <a:off x="457200" y="304920"/>
            <a:ext cx="8153280" cy="548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5943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абочий лист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9900"/>
                </a:solidFill>
                <a:latin typeface="Arial"/>
              </a:rPr>
              <a:t>Задание</a:t>
            </a:r>
            <a:r>
              <a:rPr b="1" i="1" lang="en-US" sz="1800" spc="-1" strike="noStrike">
                <a:solidFill>
                  <a:srgbClr val="cc9900"/>
                </a:solidFill>
                <a:latin typeface="Arial"/>
              </a:rPr>
              <a:t> I</a:t>
            </a:r>
            <a:r>
              <a:rPr b="1" i="1" lang="ru-RU" sz="1800" spc="-1" strike="noStrike">
                <a:solidFill>
                  <a:srgbClr val="cc99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9900"/>
                </a:solidFill>
                <a:latin typeface="Monotype Corsiva"/>
              </a:rPr>
              <a:t>ЕРМАК, кто ты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абочий лист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6633"/>
                </a:solidFill>
                <a:latin typeface="Arial"/>
              </a:rPr>
              <a:t>Задание</a:t>
            </a:r>
            <a:r>
              <a:rPr b="0" i="1" lang="en-US" sz="2800" spc="-1" strike="noStrike">
                <a:solidFill>
                  <a:srgbClr val="996633"/>
                </a:solidFill>
                <a:latin typeface="Arial"/>
              </a:rPr>
              <a:t> II</a:t>
            </a:r>
            <a:r>
              <a:rPr b="0" i="1" lang="ru-RU" sz="2800" spc="-1" strike="noStrike">
                <a:solidFill>
                  <a:srgbClr val="996633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1.Прочтите выдержку из биографии Ерм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2. Ответьте на следующие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А) Откуда родом был Ерм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Б) Каково мнение историков о имени покорителя Сибир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В) Чем занимался атаман Ермак и его казацкая шайка до 1579г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9900"/>
                </a:solidFill>
                <a:latin typeface="Monotype Corsiva"/>
              </a:rPr>
              <a:t>ЕРМАК, кто ты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А. Н. Радищев в своем очерке “Слово о Ермаке” пис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Ермак, избранный единожды верховным начальником своею собратею, умел над ними удержать свою власть во всех противных и неприязненных ему случаях: ибо если нужно всегда утвержденное и наследованное мнение, чтобы владычествовать над множеством, то нужно величие духа или же изящность почитаемого какого-либо качества, чтобы уметь повелевать своею собратею. Ермак имел первое и многие из тех свойств, которые нужны воинскому вождю, а паче вождю непорабощенных воинов” 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абочий лист уче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9900"/>
                </a:solidFill>
                <a:latin typeface="Arial"/>
              </a:rPr>
              <a:t>Задание </a:t>
            </a: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9900"/>
                </a:solidFill>
                <a:latin typeface="Monotype Corsiva"/>
              </a:rPr>
              <a:t>Экспедиция ЕРМА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а крутом на красном бережоч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обрались люди, вольные каза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тановились они во единый кру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репко думу думали еди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Говорил Ермак Тимофееви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е пора ли убраться нам отсюд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а Волге жить - ворами слы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а Яик идти - переход вели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Казань идти - грозен царь сто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Грозен царь-государь Иван Васильев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е лучше ли нам во Сибирь ид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а Кучума, царя татарского?.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(Песня записана в селе Вознесенском Новосибирской обл. в 1955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346716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91320" y="3352680"/>
            <a:ext cx="2819160" cy="1863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5562720"/>
            <a:ext cx="32763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абочий лист уче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9900"/>
                </a:solidFill>
                <a:latin typeface="Arial"/>
              </a:rPr>
              <a:t>Задание </a:t>
            </a: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IV</a:t>
            </a:r>
            <a:r>
              <a:rPr b="0" i="1" lang="ru-RU" sz="20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2286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9900"/>
                </a:solidFill>
                <a:latin typeface="Monotype Corsiva"/>
              </a:rPr>
              <a:t>Экспедиция ЕРМА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1219320"/>
            <a:ext cx="4343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2971800"/>
            <a:ext cx="19814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унгур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летоп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2971800"/>
            <a:ext cx="19810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Строган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летоп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2971800"/>
            <a:ext cx="19810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Есип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летоп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4648320"/>
            <a:ext cx="2286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4648320"/>
            <a:ext cx="22860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Купц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Строган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648320"/>
            <a:ext cx="22860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828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523880" y="1828800"/>
            <a:ext cx="13716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828800"/>
            <a:ext cx="14479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3733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3733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3733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8720" y="1295280"/>
            <a:ext cx="29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ИБИРСКИЕ ЛЕТО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0760" y="46483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Инициатор п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8880" y="46483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нициатор п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26640" y="46483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Инициатор п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3560" y="502920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Ерма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каз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600444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абочий лист уче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9900"/>
                </a:solidFill>
                <a:latin typeface="Arial"/>
              </a:rPr>
              <a:t>Задание </a:t>
            </a: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V</a:t>
            </a:r>
            <a:r>
              <a:rPr b="0" i="1" lang="ru-RU" sz="20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9900"/>
                </a:solidFill>
                <a:latin typeface="Monotype Corsiva"/>
              </a:rPr>
              <a:t>Покорение СИБИРИ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7848360" cy="5327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55760" y="6208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781680" y="457200"/>
            <a:ext cx="2362320" cy="1676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80880" y="838080"/>
            <a:ext cx="1335240" cy="190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2590920" y="4264200"/>
            <a:ext cx="2286000" cy="1933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5257800" y="3962520"/>
            <a:ext cx="1905120" cy="1358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6172200" y="5334120"/>
            <a:ext cx="2819520" cy="1342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61563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c9900"/>
                </a:solidFill>
                <a:uFillTx/>
                <a:latin typeface="Arial"/>
              </a:rPr>
              <a:t>Рабочий лист уче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9900"/>
                </a:solidFill>
                <a:latin typeface="Arial"/>
              </a:rPr>
              <a:t>Задание</a:t>
            </a:r>
            <a:r>
              <a:rPr b="1" i="1" lang="en-US" sz="2000" spc="-1" strike="noStrike">
                <a:solidFill>
                  <a:srgbClr val="cc9900"/>
                </a:solidFill>
                <a:latin typeface="Arial"/>
              </a:rPr>
              <a:t>VI</a:t>
            </a:r>
            <a:r>
              <a:rPr b="1" i="1" lang="ru-RU" sz="20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9900"/>
                </a:solidFill>
                <a:latin typeface="Monotype Corsiva"/>
              </a:rPr>
              <a:t>Покорение СИБИР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09320" y="5715000"/>
            <a:ext cx="4496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абочий лист уче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9900"/>
                </a:solidFill>
                <a:latin typeface="Arial"/>
              </a:rPr>
              <a:t>Задание</a:t>
            </a: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VII</a:t>
            </a:r>
            <a:r>
              <a:rPr b="0" i="1" lang="ru-RU" sz="20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097760" y="3886200"/>
            <a:ext cx="18064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340760" y="838080"/>
            <a:ext cx="1803240" cy="190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80880" y="2438280"/>
            <a:ext cx="1524240" cy="2129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228600" y="4648320"/>
            <a:ext cx="1670040" cy="2209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0" y="457200"/>
            <a:ext cx="1662120" cy="1828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133720" y="1295280"/>
            <a:ext cx="4800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onotype Corsiva"/>
              </a:rPr>
              <a:t>“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После свержения татарского ига и до Петра Великого не было в судьбе России ничего более огромного и важного, более счастливого и исторического, чем присоединение Сибири, на просторы которой старую Русь можно было уложить несколько раз”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В. Г. Распу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естов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узыка214</cp:lastModifiedBy>
  <dcterms:modified xsi:type="dcterms:W3CDTF">2008-04-09T17:13:5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