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21.jpeg" ContentType="image/jpeg"/>
  <Override PartName="/ppt/media/image2.wmf" ContentType="image/x-wmf"/>
  <Override PartName="/ppt/media/image13.jpeg" ContentType="image/jpeg"/>
  <Override PartName="/ppt/media/image8.wmf" ContentType="image/x-wmf"/>
  <Override PartName="/ppt/media/image6.png" ContentType="image/png"/>
  <Override PartName="/ppt/media/image7.png" ContentType="image/png"/>
  <Override PartName="/ppt/media/image34.jpeg" ContentType="image/jpeg"/>
  <Override PartName="/ppt/media/image5.png" ContentType="image/png"/>
  <Override PartName="/ppt/media/image11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12.jpeg" ContentType="image/jpeg"/>
  <Override PartName="/ppt/media/image4.png" ContentType="image/png"/>
  <Override PartName="/ppt/media/image29.jpeg" ContentType="image/jpeg"/>
  <Override PartName="/ppt/media/image3.wmf" ContentType="image/x-wmf"/>
  <Override PartName="/ppt/media/image23.jpeg" ContentType="image/jpeg"/>
  <Override PartName="/ppt/media/image1.wmf" ContentType="image/x-wmf"/>
  <Override PartName="/ppt/media/image10.jpeg" ContentType="image/jpeg"/>
  <Override PartName="/ppt/media/image14.png" ContentType="image/png"/>
  <Override PartName="/ppt/media/image16.jpeg" ContentType="image/jpeg"/>
  <Override PartName="/ppt/media/image18.wmf" ContentType="image/x-wmf"/>
  <Override PartName="/ppt/media/image26.jpeg" ContentType="image/jpeg"/>
  <Override PartName="/ppt/media/image32.jpeg" ContentType="image/jpeg"/>
  <Override PartName="/ppt/media/image17.png" ContentType="image/pn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2A0-848B-4F28-9A2B-9F4CBBB4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EC3-B4AE-4179-A8D1-FFB6C8AA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C70A-38DA-41C5-96A7-392DE967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19AF-A6F8-4483-B5A2-B5C7E8C9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901D-2FA1-4849-8EDE-8F8139EE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0A58-BBCE-4FC6-8E79-E0B0809F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8CF2-DF2E-4213-8017-B92925DE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7A90-E4FB-4134-878B-C0282CBD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AC1F-E4DA-43C1-A8CE-36E2C8BF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8EF8-92A0-4D69-A249-40CE1ABD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AC61-2E17-4017-BC13-B39F7C09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F60-1214-4648-9620-33CDB0C7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9E0D-7EE9-407B-BE70-8ED9B955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FE79-9684-4924-AB8A-A3811EAF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054B-929A-4F09-943A-A16A3F0D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95BB-0540-4D04-96CC-3B803EFD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7B21-BCBC-4CD1-AB9D-2A3B9631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2D2-B7E4-4308-94FF-708C62F2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A10-8C33-428F-A5BD-85B7A34E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DE7-B1FE-4F93-B4C1-38615CBC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3242-D5F8-415A-937D-1EB23C88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4DF-CF51-4B39-9ADE-D0325357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552-CCB1-4C3D-B491-210305DB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937-3FFA-4A3B-8490-1965DC65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155080" y="0"/>
            <a:ext cx="988920" cy="1790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791320"/>
            <a:ext cx="1063800" cy="10666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8304120" y="5943600"/>
            <a:ext cx="839880" cy="91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1019880" indent="-453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47240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92492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376360" indent="-3380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376360" indent="-33804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376360" indent="-33804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8A63-5127-4482-85CA-8C653C8B23F2}" type="slidenum">
              <a:rPr b="0" lang="en-US" sz="1000" spc="-1" strike="noStrike">
                <a:solidFill>
                  <a:srgbClr val="00336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990720" cy="179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55080" y="0"/>
            <a:ext cx="988920" cy="1790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791320"/>
            <a:ext cx="106380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304120" y="5943600"/>
            <a:ext cx="83988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48D5-E507-42F7-B17F-EF669ACF29BC}" type="slidenum">
              <a:rPr b="0" lang="en-US" sz="1000" spc="-1" strike="noStrike">
                <a:solidFill>
                  <a:srgbClr val="00336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90720" cy="1795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914400" indent="230040" algn="ctr">
              <a:spcBef>
                <a:spcPts val="601"/>
              </a:spcBef>
              <a:buClr>
                <a:srgbClr val="003366"/>
              </a:buClr>
              <a:buFont typeface="Wingdings" charset="2"/>
              <a:buChar char="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371600" indent="23004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4" marL="1828800" indent="23004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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5" marL="1828800" indent="230040">
              <a:spcBef>
                <a:spcPts val="499"/>
              </a:spcBef>
              <a:buClr>
                <a:srgbClr val="ffffff"/>
              </a:buClr>
              <a:buFont typeface="Wing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6" marL="1828800" indent="230040">
              <a:spcBef>
                <a:spcPts val="499"/>
              </a:spcBef>
              <a:buClr>
                <a:srgbClr val="ffffff"/>
              </a:buClr>
              <a:buFont typeface="Wing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9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Arial Unicode MS"/>
              </a:rPr>
              <a:t>С днем знаний!</a:t>
            </a:r>
            <a:endParaRPr b="0" lang="en-US" sz="7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6920" y="24919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gency FB"/>
              </a:rPr>
              <a:t>Удачи и успехов в учебном году!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11280" y="3573360"/>
            <a:ext cx="396108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00000" y="62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ahoma"/>
              </a:rPr>
              <a:t>«Я понял, что ученики впитывают больше из жизни самих учителей, чем из книг, которые им читают, или из их лекций…»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ahoma"/>
              </a:rPr>
              <a:t>                                   </a:t>
            </a:r>
            <a:r>
              <a:rPr b="1" i="1" lang="ru-RU" sz="3200" spc="-1" strike="noStrike">
                <a:solidFill>
                  <a:srgbClr val="003366"/>
                </a:solidFill>
                <a:latin typeface="Tahoma"/>
              </a:rPr>
              <a:t>Махатма Ганди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484360" y="333360"/>
            <a:ext cx="4032000" cy="6237000"/>
            <a:chOff x="2484360" y="333360"/>
            <a:chExt cx="4032000" cy="6237000"/>
          </a:xfrm>
        </p:grpSpPr>
        <p:sp>
          <p:nvSpPr>
            <p:cNvPr id="113" name=""/>
            <p:cNvSpPr/>
            <p:nvPr/>
          </p:nvSpPr>
          <p:spPr>
            <a:xfrm>
              <a:off x="3404520" y="333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14" name=""/>
            <p:cNvGraphicFramePr/>
            <p:nvPr/>
          </p:nvGraphicFramePr>
          <p:xfrm>
            <a:off x="2484360" y="3837960"/>
            <a:ext cx="4032000" cy="2732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84360" y="3837960"/>
                      <a:ext cx="4032000" cy="273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8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88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Как на куче мусора, выброшенного на большую дорогу, может вырасти лотос, сладкопахнущий и радующий ум, так ученик поистине просветлённого учителя выделяется </a:t>
            </a:r>
            <a:r>
              <a:rPr b="1" i="1" lang="ru-RU" sz="3200" spc="-1" strike="noStrike">
                <a:solidFill>
                  <a:srgbClr val="003366"/>
                </a:solidFill>
                <a:latin typeface="Tahoma"/>
              </a:rPr>
              <a:t>мудростью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среди слепых посредственностей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Будда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Гаутама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Шакьямуни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43280" y="2855880"/>
            <a:ext cx="60847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8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Кто в учениках не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бывал, тот учителем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не будет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                    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Боэций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72280" y="343080"/>
            <a:ext cx="377172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8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8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Легко в учении - тяжело в походе, тяжело в учении - легко в походе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Суворов Александр Васильевич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67000" y="2341440"/>
            <a:ext cx="67770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ahoma"/>
              </a:rPr>
              <a:t>На вопрос, как ученикам преуспеть, Аристотель ответил: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 "Догонять тех, кто впереди, и не ждать тех, кто сзади"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835280" y="2090880"/>
            <a:ext cx="550836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-360"/>
            <a:ext cx="78501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Если есть у тебя разум, учись чему-нибудь, ибо разум без умения - тело без платья или человек без лица, ведь сказали: образование - лицо разума.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Унсур Аль-маали  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635280" y="2152800"/>
            <a:ext cx="550872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8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Учись, ибо в превратностях жизни только знания останутся всегда с тобой.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                    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Абу Муин Насир Хосров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92360" y="2104920"/>
            <a:ext cx="6335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8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Нормальное образование поможет Вам выжить. Самообразование приведет Вас к успеху.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                                   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жим Рон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72356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66"/>
                </a:solidFill>
                <a:latin typeface="Tahoma"/>
              </a:rPr>
              <a:t>Наши учителя!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808360" y="907920"/>
            <a:ext cx="6335640" cy="451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78360" cy="5013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752400"/>
            <a:ext cx="4316400" cy="6105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954600" y="1341360"/>
            <a:ext cx="51894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66"/>
                </a:solidFill>
                <a:latin typeface="Tahoma"/>
              </a:rPr>
              <a:t>Наши учителя!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3880" cy="5661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84360" y="457200"/>
            <a:ext cx="8459640" cy="5565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42920" y="507960"/>
            <a:ext cx="810108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ahoma"/>
              </a:rPr>
              <a:t>«Учитель в сердце каждого!»</a:t>
            </a:r>
            <a:endParaRPr b="0" lang="en-US" sz="4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705816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66"/>
                </a:solidFill>
                <a:latin typeface="Script MT Bold"/>
              </a:rPr>
              <a:t>Наш первый учитель!</a:t>
            </a:r>
            <a:endParaRPr b="0" lang="en-US" sz="4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38560" y="981000"/>
            <a:ext cx="438300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66"/>
                </a:solidFill>
                <a:latin typeface="Script MT Bold"/>
              </a:rPr>
              <a:t>Наш первый классный руководитель!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1733400"/>
            <a:ext cx="7812000" cy="5124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1785960"/>
            <a:ext cx="9144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1280" y="-360"/>
            <a:ext cx="77724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Не смейте забывать учителей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Пусть будет жизнь ваша достойна их усилий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Учителями славится Россия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Ученики приносят славу ей!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58920" y="2593800"/>
            <a:ext cx="648180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8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8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8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8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5640" y="4508280"/>
            <a:ext cx="777240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003366"/>
                </a:solidFill>
                <a:latin typeface="Tahoma"/>
              </a:rPr>
              <a:t>Школьные учителя обладают властью, о которой премьер-министры могут только мечтать.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Tahoma"/>
              </a:rPr>
              <a:t>                                      </a:t>
            </a:r>
            <a:r>
              <a:rPr b="0" i="1" lang="ru-RU" sz="3200" spc="-1" strike="noStrike">
                <a:solidFill>
                  <a:srgbClr val="003366"/>
                </a:solidFill>
                <a:latin typeface="Tahoma"/>
              </a:rPr>
              <a:t>У. Черчилль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68360" y="117360"/>
            <a:ext cx="42469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71640" y="47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Tahoma"/>
              </a:rPr>
              <a:t>Каким должен быть современный учитель?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Tahoma"/>
              </a:rPr>
              <a:t>Насколько он должен быть эрудирован?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464000" y="2852640"/>
            <a:ext cx="468000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4920" y="1915920"/>
            <a:ext cx="82090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ahoma"/>
              </a:rPr>
              <a:t>И вообще нужны ли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3366"/>
                </a:solidFill>
                <a:latin typeface="Tahoma"/>
              </a:rPr>
              <a:t>учителя в ближайшей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ahoma"/>
              </a:rPr>
              <a:t>перспективе?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ahoma"/>
              </a:rPr>
              <a:t>Интернет, мультимедийные средства электронные доски, уроки на расстоянии, единый госэкзамен и т.п. – не вытеснят ли они профессию учителя?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437080" y="0"/>
            <a:ext cx="37069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71294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Вытеснение учителя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негативно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отразится на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воспитании и образовании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ребенка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Если мы хотим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ОБРАЗОВАТЬ ЧЕЛОВЕКА,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то это может сделать только человек при непосредственном общении с ребенком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745240" y="0"/>
            <a:ext cx="33987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1628640"/>
            <a:ext cx="7451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Учитель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не механический транслятор информации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ля детей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Учитель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развивает интеллектуальную сферу ученика, заставляет его мыслить и находить решения трудных жизненных проблем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651640" y="0"/>
            <a:ext cx="34923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42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Учитель должен знать предмет, который преподает, интересоваться научными новшествами своего предмета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29480" indent="-42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Учитель должен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2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знать основы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2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профессиональной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2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еятельности, т.е.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2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педагогику,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2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психологию,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2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у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429480" indent="-42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Учитель должен быть эрудированным и современным человеком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211640" y="1557360"/>
            <a:ext cx="493236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ahoma"/>
              </a:rPr>
              <a:t>А какими человеческими качествами должен обладать учитель?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0847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ahoma"/>
              </a:rPr>
              <a:t>Как и во все времена, учитель должен быть образцом НРАВСТЕННОСТИ, но не ханжества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ahoma"/>
              </a:rPr>
              <a:t>Это современный человек, ориентированный в своей жизни на нравственные нормы общества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889600" y="1557360"/>
            <a:ext cx="32544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18:22:35Z</dcterms:created>
  <dc:creator>Зайцев Сергей Александрович</dc:creator>
  <dc:description/>
  <dc:language>en-US</dc:language>
  <cp:lastModifiedBy>Admin</cp:lastModifiedBy>
  <dcterms:modified xsi:type="dcterms:W3CDTF">2012-02-23T15:02:20Z</dcterms:modified>
  <cp:revision>8</cp:revision>
  <dc:subject/>
  <dc:title>General Education</dc:title>
</cp:coreProperties>
</file>