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DB1-48A3-4875-8318-28D0995B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B04-2CE6-4E0D-86D5-3E978AC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C72-B919-4364-97A7-0C145716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BD6-93A0-475C-9AB8-01A5E63F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33F-8208-4B3B-85AF-9E7816E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E34-EEBF-4139-BB05-FAEA30A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C71-3065-4D64-BC10-0FF5F29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D32-0AB3-4BA7-9DB0-C107BF02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64F-0602-4087-9F44-E3F3DAA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E9F-DB1C-4791-BE2B-EAA3263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E5E-E30B-442F-B91D-BF09082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D5B-5909-48EE-BC8F-F2D0915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73B-EE96-462D-8C89-7EDCFD80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44792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ксия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 первых же симптомах болезни остановитесь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      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Оставайтесь на той же высоте, пока возникшие симптомы не исчезнут. Только когда они полностью пройдут, считайте, что вы акклиматизировались и можете продолжать восх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 всех случаях тяжелой горной болезни, когда у человека, несмотря на прекращение набора высоты, не происходит улучшения самочувствия или ему становится все хуже и хуже, это правило нарушается! Необходим немедленный спуск!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Comic Sans MS"/>
              </a:rPr>
              <a:t>Гипокси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 ὑπό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од, внизу и лат. </a:t>
            </a: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oxygenium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ислородное голодание - пониженное содержание кислорода в организме или отдельных органах и ткан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Классификация гипок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ксическая гипо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мическая гипо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торная гипо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аневая гипоксия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Гипоксическая гипо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в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ниженного парциального давления кислорода в воздух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затруднении проникновения кислорода в кровь через дыхательные пу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ледствие расстройства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ъеме на высоту свыше 3000 м развивается горная болез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Гемическая гипо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емического типа (недостаточное количество эритроцит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инактивации гемоглобина (бедность эритроцитов кислоро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Циркуляторная гипо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ойная при нарушении кровооб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Тканевая гипокси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ушение внутриклеточных окислительно-восстановительны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Горная боле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всего горная болезнь проявляется в легкой форме, однако в отдельных случаях возможны тяжелые и жизнеугрожающие осло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Существует три формы горной болез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ая горная болез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горный отек (головного) мозг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горный отек лег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95560" cy="136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2666880"/>
            <a:ext cx="198144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изкое парциальное давление кислор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105520"/>
            <a:ext cx="7848360" cy="153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ипокс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дышка, кровотечение из носа и горла, головокружение, головная боль, рвота, 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обходимо применять кислородные ап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52560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56160" y="646200"/>
            <a:ext cx="176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52280"/>
            <a:ext cx="48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Г о р н а я  б о л е з н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2920" y="9828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914400"/>
            <a:ext cx="4648320" cy="214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ыхание Чейн-Стокса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едкое, прерывистое дыхание, возможна потеря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обходимо применять лимонную, аскорбиновую кислоту, подкисляющую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3352680"/>
            <a:ext cx="47066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меньшается концентрация  СО2 в крови, кровь подщел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9640" y="4343400"/>
            <a:ext cx="5414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зникает потребность дышать ча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90512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472392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324480" y="297180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24480" y="39625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685440"/>
            <a:ext cx="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355120" y="724680"/>
            <a:ext cx="1805040" cy="432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1-25T04:07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