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6FD-BBAF-4A67-993D-E25915E5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965-3DBA-4F91-BDA7-E7533C2C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8A9-AE59-469F-A3EC-A0363B2E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AD4-1D92-4C95-AE64-3F3E0A89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9A79-3D62-428C-BDF6-5CCA53B1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5549-41B8-4708-92A7-36307AFD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5711-EF76-4B2F-BCC9-9BE5CA98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D372-B5D0-4456-A0AC-4A0C08F8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0F25-B2C8-4A4E-9A17-E99DDF95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6A5B-B3C0-4577-A937-FA4530F0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7393-7375-4A51-8502-A612A838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718-CA89-4CE2-A51C-11989022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DA3E-AAA5-4FC7-8B0F-08994A0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2441-0E3B-4AD0-A0E5-E9FC487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31A8-3C32-4778-BD62-B89A7975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CE97-8AB2-427D-812D-E96773A3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A5C6-BEC0-4D73-BB29-CF5E8183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FFB-E6C5-48C6-9C15-27814CC1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E0D-FEAC-4968-978B-03F46837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E1A-371E-4188-B176-E3D90C14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736-EE86-41A5-AE99-BF89BA2A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53E-09CB-4FF8-9E63-D13CC17F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D76-809F-4334-81C1-5B5A75CD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664-C556-4853-8713-EFE268A4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1675-5228-4BB4-8EC5-F3780B0159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027F-D9CB-41C7-8BB2-0DC6D8E39A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Характер.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Кто за него в ответе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едагог-психолог: Н.В.Вахруш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Характер (греч.) – чеканка, печать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Это индивидуальное сочетание устойчивых психологических особенностей человека, которое определяет типичный для данной личности способ поведения в различных жизненных условиях и обстоятельствах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Темперамент            Характе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8360" y="1916280"/>
          <a:ext cx="8229600" cy="4238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дивидуальные особенности личност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яет поведение в жизненных ситуациях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ётся от природ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питывается в течение жизн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льзя изменит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жно изменит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может быть плохим или хороши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жет быть хорошим или «дурным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Люди различных темпераментов смогли добиться успеха 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АНГВИНИКИ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ёт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Наполеон Бонапарт, М.Ю.Лермонтов и др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ОЛЕРИКИ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А.В.Суворов, А.С.Пушкин, С.А.Есенин и др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ЛЕГМАТИКИ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.И.Кутузов, И.А.Крылов и др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ЕЛАНХОЛИКИ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.В.Гоголь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ставляющие характер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тношение к деятельно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трудолюбие, инициативность, активность, исполнительность, лень и т.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тношение к другим людям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(вежливость, грубость, общительность, замкнутость, чуткость и т.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тношение к самому себе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(скромность, чванство, тщеславие, самокритичность, гордость, и т.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тношение к вещам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(аккуратность, щедрость, бережливость, скупость и др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250920" y="476280"/>
            <a:ext cx="8496000" cy="5614920"/>
            <a:chOff x="250920" y="476280"/>
            <a:chExt cx="8496000" cy="5614920"/>
          </a:xfrm>
        </p:grpSpPr>
        <p:cxnSp>
          <p:nvCxnSpPr>
            <p:cNvPr id="119" name="_s36877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424120" y="1796040"/>
              <a:ext cx="1123200" cy="2974320"/>
            </a:xfrm>
            <a:prstGeom prst="bentConnector3">
              <a:avLst>
                <a:gd name="adj1" fmla="val 1391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36876"/>
            <p:cNvCxnSpPr>
              <a:stCxn id="123" idx="0"/>
              <a:endCxn id="121" idx="2"/>
            </p:cNvCxnSpPr>
            <p:nvPr/>
          </p:nvCxnSpPr>
          <p:spPr>
            <a:xfrm flipV="1">
              <a:off x="4498560" y="2721960"/>
              <a:ext cx="3960" cy="112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36875"/>
            <p:cNvCxnSpPr>
              <a:stCxn id="125" idx="0"/>
              <a:endCxn id="121" idx="2"/>
            </p:cNvCxnSpPr>
            <p:nvPr/>
          </p:nvCxnSpPr>
          <p:spPr>
            <a:xfrm flipH="1" flipV="1" rot="5400000">
              <a:off x="2450520" y="1796400"/>
              <a:ext cx="1123200" cy="2974320"/>
            </a:xfrm>
            <a:prstGeom prst="bentConnector3">
              <a:avLst>
                <a:gd name="adj1" fmla="val 1391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1" name="_s36871"/>
            <p:cNvSpPr/>
            <p:nvPr/>
          </p:nvSpPr>
          <p:spPr>
            <a:xfrm>
              <a:off x="3224520" y="476280"/>
              <a:ext cx="2548800" cy="22460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aeaea"/>
                  </a:solidFill>
                  <a:latin typeface="Tahoma"/>
                </a:rPr>
                <a:t>Позиции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aeaea"/>
                  </a:solidFill>
                  <a:latin typeface="Tahoma"/>
                </a:rPr>
                <a:t>ребёнка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aeaea"/>
                  </a:solidFill>
                  <a:latin typeface="Tahoma"/>
                </a:rPr>
                <a:t>в семье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36872"/>
            <p:cNvSpPr/>
            <p:nvPr/>
          </p:nvSpPr>
          <p:spPr>
            <a:xfrm>
              <a:off x="250920" y="3845160"/>
              <a:ext cx="2548800" cy="22460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ahoma"/>
                </a:rPr>
                <a:t>Я нужен, любим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ahoma"/>
                </a:rPr>
                <a:t>и я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Tahoma"/>
                </a:rPr>
                <a:t>люблю тоже.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36873"/>
            <p:cNvSpPr/>
            <p:nvPr/>
          </p:nvSpPr>
          <p:spPr>
            <a:xfrm>
              <a:off x="3224520" y="3845160"/>
              <a:ext cx="2548800" cy="22460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Я нужен, любим,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а вы живёт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ради меня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36874"/>
            <p:cNvSpPr/>
            <p:nvPr/>
          </p:nvSpPr>
          <p:spPr>
            <a:xfrm>
              <a:off x="6198120" y="3845160"/>
              <a:ext cx="2548800" cy="22460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Я не нужен,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не любим,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но от всей душ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стараюс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приблизитьс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к вам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04:01:07Z</dcterms:created>
  <dc:creator>Ученик</dc:creator>
  <dc:description/>
  <dc:language>en-US</dc:language>
  <cp:lastModifiedBy>Ученик</cp:lastModifiedBy>
  <dcterms:modified xsi:type="dcterms:W3CDTF">2007-03-01T08:14:39Z</dcterms:modified>
  <cp:revision>5</cp:revision>
  <dc:subject/>
  <dc:title>Характер. Кто за него в ответе?</dc:title>
</cp:coreProperties>
</file>