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2.jpeg" ContentType="image/jpeg"/>
  <Override PartName="/ppt/media/image10.jpeg" ContentType="image/jpeg"/>
  <Override PartName="/ppt/media/image35.png" ContentType="image/png"/>
  <Override PartName="/ppt/media/image5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1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jpeg" ContentType="image/jpeg"/>
  <Override PartName="/ppt/media/image12.jpeg" ContentType="image/jpeg"/>
  <Override PartName="/ppt/media/image13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FCA-D4D0-4CB9-8470-CA3DF503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7A2-DC62-4D09-8333-3FCEE2C8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113-7890-47B3-BA7E-909514E2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347-12BB-47A8-A702-66DE8A69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1AF-05AC-44FE-B1C8-B49F2512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F43-236F-4CDE-A90D-7247DBE6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030-BBC6-4C51-A498-E465E042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658-24CD-432A-A51E-ECF74AA5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4DB-2501-484C-AF7A-174CCD28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372-5200-4C89-B187-92FC3568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3A3-DEEB-45EF-BF2E-C4609781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820-5463-4156-B42C-5FDCAEE1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F2CD-FAB4-4CF9-9089-5D0C3036B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579640" y="2708280"/>
            <a:ext cx="28782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ейд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79280" y="4581360"/>
            <a:ext cx="856944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Художественная культура Античного мира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448080" y="2414520"/>
            <a:ext cx="2247840" cy="2028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1143000" y="647640"/>
            <a:ext cx="6858000" cy="556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3772800" y="640080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слы Агамемнона у Ахиллеса Энг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41440" y="18900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imes New Roman"/>
              </a:rPr>
              <a:t>И л и а д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43"/>
          <p:cNvSpPr/>
          <p:nvPr/>
        </p:nvSpPr>
        <p:spPr>
          <a:xfrm>
            <a:off x="5796000" y="1989000"/>
            <a:ext cx="3240000" cy="792360"/>
          </a:xfrm>
          <a:prstGeom prst="roundRect">
            <a:avLst>
              <a:gd name="adj" fmla="val 16667"/>
            </a:avLst>
          </a:prstGeom>
          <a:solidFill>
            <a:srgbClr val="f07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2"/>
          <p:cNvSpPr/>
          <p:nvPr/>
        </p:nvSpPr>
        <p:spPr>
          <a:xfrm>
            <a:off x="4140360" y="2852640"/>
            <a:ext cx="792000" cy="432000"/>
          </a:xfrm>
          <a:prstGeom prst="roundRect">
            <a:avLst>
              <a:gd name="adj" fmla="val 16667"/>
            </a:avLst>
          </a:prstGeom>
          <a:solidFill>
            <a:srgbClr val="ccbb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1"/>
          <p:cNvSpPr/>
          <p:nvPr/>
        </p:nvSpPr>
        <p:spPr>
          <a:xfrm>
            <a:off x="2556000" y="4653000"/>
            <a:ext cx="3960720" cy="1297080"/>
          </a:xfrm>
          <a:prstGeom prst="roundRect">
            <a:avLst>
              <a:gd name="adj" fmla="val 16667"/>
            </a:avLst>
          </a:prstGeom>
          <a:solidFill>
            <a:srgbClr val="cc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9"/>
          <p:cNvSpPr/>
          <p:nvPr/>
        </p:nvSpPr>
        <p:spPr>
          <a:xfrm>
            <a:off x="3059280" y="3860640"/>
            <a:ext cx="2881080" cy="505080"/>
          </a:xfrm>
          <a:prstGeom prst="roundRect">
            <a:avLst>
              <a:gd name="adj" fmla="val 16667"/>
            </a:avLst>
          </a:prstGeom>
          <a:solidFill>
            <a:srgbClr val="cc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0"/>
          <p:cNvSpPr/>
          <p:nvPr/>
        </p:nvSpPr>
        <p:spPr>
          <a:xfrm>
            <a:off x="2411280" y="4292640"/>
            <a:ext cx="4176720" cy="431640"/>
          </a:xfrm>
          <a:prstGeom prst="roundRect">
            <a:avLst>
              <a:gd name="adj" fmla="val 16667"/>
            </a:avLst>
          </a:prstGeom>
          <a:solidFill>
            <a:srgbClr val="cc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2843280" y="3213000"/>
            <a:ext cx="3384360" cy="720720"/>
          </a:xfrm>
          <a:prstGeom prst="roundRect">
            <a:avLst>
              <a:gd name="adj" fmla="val 16667"/>
            </a:avLst>
          </a:prstGeom>
          <a:solidFill>
            <a:srgbClr val="cc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3"/>
          <p:cNvSpPr/>
          <p:nvPr/>
        </p:nvSpPr>
        <p:spPr>
          <a:xfrm>
            <a:off x="324000" y="1773360"/>
            <a:ext cx="2447640" cy="2447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521080" y="26028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imes New Roman"/>
              </a:rPr>
              <a:t>4. Арха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ff"/>
                </a:solidFill>
                <a:latin typeface="Times New Roman"/>
              </a:rPr>
              <a:t>(7 в. до н. э. – 6 в. до н. э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6806880" y="1597680"/>
            <a:ext cx="1458000" cy="459720"/>
          </a:xfrm>
          <a:prstGeom prst="rect">
            <a:avLst/>
          </a:prstGeom>
          <a:solidFill>
            <a:srgbClr val="f07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з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1116000" y="1557360"/>
            <a:ext cx="9349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492360" y="2276640"/>
            <a:ext cx="2159280" cy="825480"/>
          </a:xfrm>
          <a:prstGeom prst="rect">
            <a:avLst/>
          </a:prstGeom>
          <a:solidFill>
            <a:srgbClr val="cc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ите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15240" y="220500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ловек – носи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родной кра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981080" y="37303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1045080" y="3141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ульп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396360" y="374184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уро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8"/>
          <p:cNvSpPr/>
          <p:nvPr/>
        </p:nvSpPr>
        <p:spPr>
          <a:xfrm>
            <a:off x="161928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 flipH="1">
            <a:off x="971640" y="350028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>
            <a:off x="1908000" y="3500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4142160" y="2851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орд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2771640" y="3142440"/>
            <a:ext cx="36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а архаических архитектур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руж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тип соотношения  колон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2342880" y="422064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дор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3855960" y="422064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ион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5296320" y="422064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коринф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3206160" y="47822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перип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5079240" y="47822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дип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2631240" y="5084280"/>
            <a:ext cx="16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imes New Roman"/>
              </a:rPr>
              <a:t>один ряд колон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862160" y="508428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imes New Roman"/>
              </a:rPr>
              <a:t>два ряда колон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1"/>
          <p:cNvSpPr/>
          <p:nvPr/>
        </p:nvSpPr>
        <p:spPr>
          <a:xfrm>
            <a:off x="5716080" y="2133360"/>
            <a:ext cx="3426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нофигурно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офигур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4"/>
          <p:cNvSpPr/>
          <p:nvPr/>
        </p:nvSpPr>
        <p:spPr>
          <a:xfrm>
            <a:off x="457200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5"/>
          <p:cNvSpPr/>
          <p:nvPr/>
        </p:nvSpPr>
        <p:spPr>
          <a:xfrm>
            <a:off x="450072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6"/>
          <p:cNvSpPr/>
          <p:nvPr/>
        </p:nvSpPr>
        <p:spPr>
          <a:xfrm>
            <a:off x="5003640" y="4005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7"/>
          <p:cNvSpPr/>
          <p:nvPr/>
        </p:nvSpPr>
        <p:spPr>
          <a:xfrm flipH="1">
            <a:off x="3492360" y="4005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8"/>
          <p:cNvSpPr/>
          <p:nvPr/>
        </p:nvSpPr>
        <p:spPr>
          <a:xfrm flipH="1">
            <a:off x="3924000" y="400536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9"/>
          <p:cNvSpPr/>
          <p:nvPr/>
        </p:nvSpPr>
        <p:spPr>
          <a:xfrm>
            <a:off x="4643280" y="4005360"/>
            <a:ext cx="505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0"/>
          <p:cNvSpPr/>
          <p:nvPr/>
        </p:nvSpPr>
        <p:spPr>
          <a:xfrm flipH="1">
            <a:off x="6948360" y="198900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1"/>
          <p:cNvSpPr/>
          <p:nvPr/>
        </p:nvSpPr>
        <p:spPr>
          <a:xfrm>
            <a:off x="7740720" y="198900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2"/>
          <p:cNvSpPr/>
          <p:nvPr/>
        </p:nvSpPr>
        <p:spPr>
          <a:xfrm flipH="1">
            <a:off x="2700000" y="1125360"/>
            <a:ext cx="934920" cy="432000"/>
          </a:xfrm>
          <a:prstGeom prst="line">
            <a:avLst/>
          </a:prstGeom>
          <a:ln w="9360">
            <a:solidFill>
              <a:srgbClr val="b181a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3"/>
          <p:cNvSpPr/>
          <p:nvPr/>
        </p:nvSpPr>
        <p:spPr>
          <a:xfrm>
            <a:off x="5148360" y="1125360"/>
            <a:ext cx="936360" cy="503280"/>
          </a:xfrm>
          <a:prstGeom prst="line">
            <a:avLst/>
          </a:prstGeom>
          <a:ln w="9360">
            <a:solidFill>
              <a:srgbClr val="f07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4"/>
          <p:cNvSpPr/>
          <p:nvPr/>
        </p:nvSpPr>
        <p:spPr>
          <a:xfrm>
            <a:off x="4427640" y="1197000"/>
            <a:ext cx="0" cy="936720"/>
          </a:xfrm>
          <a:prstGeom prst="line">
            <a:avLst/>
          </a:prstGeom>
          <a:ln w="9360">
            <a:solidFill>
              <a:srgbClr val="a084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5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rcRect l="0" t="0" r="10048" b="0"/>
          <a:stretch/>
        </p:blipFill>
        <p:spPr>
          <a:xfrm>
            <a:off x="179280" y="260280"/>
            <a:ext cx="1409760" cy="3382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rcRect l="0" t="0" r="3914" b="0"/>
          <a:stretch/>
        </p:blipFill>
        <p:spPr>
          <a:xfrm>
            <a:off x="7524720" y="189000"/>
            <a:ext cx="1368360" cy="3384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2628720" y="209520"/>
            <a:ext cx="38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Times New Roman"/>
              </a:rPr>
              <a:t>Куросы и коры арха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rcRect l="0" t="2673" r="2076" b="2795"/>
          <a:stretch/>
        </p:blipFill>
        <p:spPr>
          <a:xfrm>
            <a:off x="5292720" y="3068640"/>
            <a:ext cx="1800360" cy="252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курос"/>
          <p:cNvPicPr/>
          <p:nvPr/>
        </p:nvPicPr>
        <p:blipFill>
          <a:blip r:embed="rId4"/>
          <a:stretch/>
        </p:blipFill>
        <p:spPr>
          <a:xfrm>
            <a:off x="1908000" y="3068640"/>
            <a:ext cx="1855800" cy="2492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1619280" y="907920"/>
            <a:ext cx="597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гур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рос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юношей) -  воплощение мужского идеала красоты, молодости и здоров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гур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евушек) – воплощение изысканност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онч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Что общего в этих скульптурах?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В чем заключалось их однообраз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250920" y="573408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Сформулируйте и запишите особенности  скульптур этого периода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1692360" y="5084640"/>
            <a:ext cx="2016000" cy="289080"/>
          </a:xfrm>
          <a:prstGeom prst="rect">
            <a:avLst/>
          </a:prstGeom>
          <a:solidFill>
            <a:srgbClr val="dab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р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442764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181800" y="23976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cc"/>
                </a:solidFill>
                <a:uFillTx/>
                <a:latin typeface="Times New Roman"/>
              </a:rPr>
              <a:t>Тип соотношения  коло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-252360" y="2205000"/>
            <a:ext cx="479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Определите тип колон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в соответствии с архаическ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орд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692360" y="5516640"/>
            <a:ext cx="2016000" cy="288720"/>
          </a:xfrm>
          <a:prstGeom prst="rect">
            <a:avLst/>
          </a:prstGeom>
          <a:solidFill>
            <a:srgbClr val="dab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о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692360" y="5950080"/>
            <a:ext cx="2016000" cy="287280"/>
          </a:xfrm>
          <a:prstGeom prst="rect">
            <a:avLst/>
          </a:prstGeom>
          <a:solidFill>
            <a:srgbClr val="dab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инф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3708360" y="5229360"/>
            <a:ext cx="1150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08360" y="5661000"/>
            <a:ext cx="30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708360" y="6093000"/>
            <a:ext cx="460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b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f8b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Древнегреческая вазоп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декоративная роспись сосудов, выполненная керамическим способом, т.е. специальными красками с последующим обжи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1"/>
          <a:srcRect l="0" t="0" r="1652" b="0"/>
          <a:stretch/>
        </p:blipFill>
        <p:spPr>
          <a:xfrm>
            <a:off x="1857240" y="0"/>
            <a:ext cx="485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5" descr=""/>
          <p:cNvPicPr/>
          <p:nvPr/>
        </p:nvPicPr>
        <p:blipFill>
          <a:blip r:embed="rId1"/>
          <a:stretch/>
        </p:blipFill>
        <p:spPr>
          <a:xfrm>
            <a:off x="4286160" y="0"/>
            <a:ext cx="485784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43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8" descr=""/>
          <p:cNvPicPr/>
          <p:nvPr/>
        </p:nvPicPr>
        <p:blipFill>
          <a:blip r:embed="rId1"/>
          <a:stretch/>
        </p:blipFill>
        <p:spPr>
          <a:xfrm>
            <a:off x="1643040" y="31680"/>
            <a:ext cx="614376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642960" y="0"/>
            <a:ext cx="814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1285920" y="0"/>
            <a:ext cx="676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332000" y="0"/>
            <a:ext cx="6985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993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1. Мифология – переломный момент от первобытного состояния к древнегреческой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91240" cy="3048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5000760" y="2142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негреческий театр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е театр, а - с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0" y="3786120"/>
            <a:ext cx="4791240" cy="24670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286200" y="6286680"/>
            <a:ext cx="43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атр в Пергаме, Греция, 2 век до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572400" y="307188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атр в Эпидавре(Греция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0-330 г.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4352760" y="2565360"/>
            <a:ext cx="4791240" cy="3038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0"/>
          <p:cNvSpPr/>
          <p:nvPr/>
        </p:nvSpPr>
        <p:spPr>
          <a:xfrm>
            <a:off x="5786280" y="57340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атр Марцелла, Древний Рим, 1век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4929120" y="1285920"/>
            <a:ext cx="392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негреческий театр символически представлял собой Театр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1643040" cy="2463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357120" y="2857680"/>
            <a:ext cx="3486240" cy="3809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5214960" y="785880"/>
            <a:ext cx="361944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4"/>
          <a:stretch/>
        </p:blipFill>
        <p:spPr>
          <a:xfrm>
            <a:off x="3286080" y="214200"/>
            <a:ext cx="1550880" cy="4459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5"/>
          <a:stretch/>
        </p:blipFill>
        <p:spPr>
          <a:xfrm>
            <a:off x="7164360" y="386064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6"/>
          <a:stretch/>
        </p:blipFill>
        <p:spPr>
          <a:xfrm>
            <a:off x="4788000" y="2492280"/>
            <a:ext cx="19047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3"/>
          <p:cNvSpPr/>
          <p:nvPr/>
        </p:nvSpPr>
        <p:spPr>
          <a:xfrm>
            <a:off x="500040" y="1428840"/>
            <a:ext cx="8234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1.  Повторите по курсу истории и расскажи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когда возникла древнегреческая цивилиз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2.  Как развивалась общественная жизнь в городах Древней Гре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3.  Что такое рабовладельческая демокра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img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255960" y="609300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2. Эгейская (крито-микенская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2771640" y="2349360"/>
            <a:ext cx="1440000" cy="503280"/>
          </a:xfrm>
          <a:prstGeom prst="flowChartTerminator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5760" y="189000"/>
            <a:ext cx="70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Кносский дворец : легендарный лабиринт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4125960" y="0"/>
            <a:ext cx="50180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518760" y="2786040"/>
            <a:ext cx="32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лабиринта Минотав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img049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6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5"/>
          <p:cNvSpPr/>
          <p:nvPr/>
        </p:nvSpPr>
        <p:spPr>
          <a:xfrm>
            <a:off x="1496880" y="6308640"/>
            <a:ext cx="66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он  царя Миноса (подленник),  фрески реставрирован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1071720" y="357120"/>
            <a:ext cx="7286400" cy="703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рец – это комплекс построек, сгруппированных вокруг большого внутреннего двора на острове Кр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9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2643120" y="785880"/>
            <a:ext cx="392760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1789560" y="285840"/>
            <a:ext cx="62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imes New Roman"/>
              </a:rPr>
              <a:t>3. Эпоха Гомера  (11 в. до н. э. – 8 в. до н. э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3429000" y="5000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диссей в пещере Полиф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7287480" y="61437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Times New Roman"/>
              </a:rPr>
              <a:t>Одисс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1043640" y="61657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Times New Roman"/>
              </a:rPr>
              <a:t>Одисс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5:16:59Z</dcterms:created>
  <dc:creator>User</dc:creator>
  <dc:description/>
  <dc:language>en-US</dc:language>
  <cp:lastModifiedBy>GEG</cp:lastModifiedBy>
  <dcterms:modified xsi:type="dcterms:W3CDTF">2012-02-22T10:38:14Z</dcterms:modified>
  <cp:revision>27</cp:revision>
  <dc:subject/>
  <dc:title>Посейдон</dc:title>
</cp:coreProperties>
</file>