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E4C-B354-4AAB-86A9-7C98A97F4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64F-CF85-47DB-A0D4-167F2D95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BCC-4594-4D7F-82A9-B20ED690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D47-F40E-4E98-BEB6-2362BA4D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30D-80E5-4413-B089-45837839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B32-8AAA-4BA8-BAE2-79C0DE6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10B-61A8-43C9-AD2C-20C569C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9A1-882F-4B33-8EF6-43B32C2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601-5B5D-472B-A3FC-14CB908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4AF-094C-4DAF-A1D6-8D32570B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707-FDDC-46D6-89B3-EB3AC5A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959-5B55-4991-8D11-44265BA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879-A93C-46EE-9799-8B226FA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F5BD-9DA5-4334-80F9-510A7D80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3505320" cy="2667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неклассное мероприятие для учеников 1 классов. Игра  «Мы за здоровый образ жиз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54100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сицына Елена Валерьевна,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7873920" cy="2774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5 этап: «Вкусное мен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ртофель        овёс                        лоп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соль              поганки                  кра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ена               лисички                 щ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зина                  репа                   васи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пуста               каштан                  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уванчики        огурцы                звер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6620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5480" y="1219320"/>
            <a:ext cx="39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икр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057400"/>
            <a:ext cx="3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щ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057400"/>
            <a:ext cx="39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3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2057400"/>
            <a:ext cx="39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уль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2057400"/>
            <a:ext cx="39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лом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39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эм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2514600"/>
            <a:ext cx="39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ри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2514600"/>
            <a:ext cx="39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2438280"/>
            <a:ext cx="39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28600"/>
            <a:ext cx="3124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45720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3962520"/>
            <a:ext cx="214308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19520" y="3809880"/>
            <a:ext cx="2590560" cy="22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38680" y="1676520"/>
            <a:ext cx="335304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формировать у детей установки на здоровый образ жизни. Способствовать формированию ответственного и бережного отношения к своему здоровью. Прививать практические навыки Здорового образа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 этап: Разминка «Кто быстре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Этого врача его пациенты называют покороче-ухо-горло-н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Этим клеем пчёлы чинят соты, а врачи лечат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читалось, что возбудитель этой болезни передаётся по воздуху на большое расстояние, поэтому болезнь так и назвали. Что за болезн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Этого пациента пытались вернуть к жизни Сова, фельдшерица Жаба и знахарь Богомол. Назовите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ервую в мире операцию под наркозом на поле боя провёл этот блестящий врач-хирург. Кто 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Этот врачебный приём англичане образно называют «поцелуем жиз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Для греков это слово обозначало просто «склад», а для нас - медицинск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Результат воздействия мороза на 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Кто может заразить человека бешенств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Что должно находиться в домашней аптеч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 этап. «Самый сладк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есах не взвесишь, на базаре не продашь, но нет на свете милее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9644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авила здорового 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язательно ложиться спать и вставать в одно и то же время. Дети должны спать не менее 9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сном умыться, почистить зубы, вымыть н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смотреть страшные 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есть на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ть нужно в полной темн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ть нужно в хорошо проветренном поме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ть надо на ровной пос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ть лучше на спине или на правом б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рименять снотвор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 этап: «Спорт, спорт, спорт!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Тело без движения-подобно стоячей воде, которая портится, плесневеет и гниё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6514920" cy="328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В здоровом теле-здоровый ду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Курить - здоровью вред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Здоровье всего доро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Береги платье снову, а здоровье смол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Здоров будешь – всё добуде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361960" cy="2709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 этап: « Лекарство под неб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9400" y="1219320"/>
            <a:ext cx="240336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733920" y="121932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438280" y="1219320"/>
            <a:ext cx="2210040" cy="270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572000" y="3886200"/>
            <a:ext cx="2638440" cy="2819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6781680" y="3886200"/>
            <a:ext cx="202104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95920" y="3962520"/>
            <a:ext cx="3448080" cy="2895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машка - от боли в гор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орожник - от внешних 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опух - от уши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лина - от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готок или календула – от анг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ок липы – от прост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рника  для з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емляника – от прост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02T15:14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