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3F9-A3A1-4EA6-87F8-1017B4C9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3D3-3DDE-4D95-A64B-62B7E431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D0C-0107-49F6-BDD1-2628B788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0F3-FD47-43C0-80AE-A3093D16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BCF-67D0-4033-B3A8-6C5633E1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648-F0FD-4BFC-85D9-48B25195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14B-99D8-4E8B-AEA4-3F6EAF43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608-F767-4B70-B94E-A6F9CF6C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0FB-A82A-41E6-ABC9-487F230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015-BB22-46C7-999E-CA676FEA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7FB-0A3D-47F5-B756-E2B136A9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DF0-8172-4B78-884C-84366BE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C57A-20D9-4AA0-B9BF-B61C62602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iot.f5.ru/files/images/compiled/ec7/ec77761d988a0829ffb879aa9fd532a6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batguano.com/VLBflor1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jmcbray.files.wordpress.com/2010/02/rublev-trinity-icon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xage.ru/upload/marks/1110/sculp/discusa3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flat.ru/kalmyk/greece/ugol.jpg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baby.ru/storage/b/a/4/0/23250.1237378868.jpeg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toomsk.ru/_fr/1/9761440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artindustry.ru/netcat_files/390/238/h_f6d36b75db1a9dd89d1a93e9b4287e76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odintsovo.info/img/blog/Toma/reklama_kino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s19.radikal.ru/i192/1011/e9/7eca8a6d8a50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g0.liveinternet.ru/images/attach/c/2/64/173/64173216_fraz12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remlin-military-tattoo.ru/upload/iblock/379/09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g-fotki.yandex.ru/get/16/kkrovski.0/0_ff28_22e055f5_XL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poedem.ru/images/catalogs/france/Pic/Cities/parizh/Notre%20Dame%20de%20Paris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ntent6.flixster.com/rtmovie/22/66/22664_gal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s003.radikal.ru/i204/1003/6a/d23cbfa61edf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s.foto.radikal.ru/0708/17/8466dd3ab6c9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686.yfrog.com/img686/8608/4527803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s003.radikal.ru/i202/1001/2d/48bd021c11a0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5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476244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22 из 8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152280"/>
            <a:ext cx="300024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а 1 из 8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152280"/>
            <a:ext cx="309564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артинка 2 из 678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819520"/>
            <a:ext cx="233352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Картинка 5 из 678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09680" y="3124080"/>
            <a:ext cx="4829400" cy="347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23 из 840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2819520"/>
            <a:ext cx="281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600" y="38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2543400" cy="3810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1 из 73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380880"/>
            <a:ext cx="2485800" cy="381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3 из 4391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838680"/>
            <a:ext cx="4543560" cy="301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2 из 648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4120" y="304920"/>
            <a:ext cx="3581280" cy="268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а 41 из 96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0" y="3313080"/>
            <a:ext cx="43149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ЛЖНО ЛИ ИСКУССТВО ДЕЛАТЬ ЧЕЛОВЕКА ЛУЧШ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артинка 37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76520"/>
            <a:ext cx="255276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артинка 25 из 146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7280" y="1905120"/>
            <a:ext cx="48481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ой фильм оказал на вас влияние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5 из 30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523880"/>
            <a:ext cx="2257200" cy="381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53 из 303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2362320"/>
            <a:ext cx="280044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1 из 84000"/>
          <p:cNvPicPr/>
          <p:nvPr/>
        </p:nvPicPr>
        <p:blipFill>
          <a:blip r:embed="rId5"/>
          <a:stretch/>
        </p:blipFill>
        <p:spPr>
          <a:xfrm>
            <a:off x="609480" y="1905120"/>
            <a:ext cx="2686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тарсис - "очищение", освобождение тела от какой-нибудь вредной материи, а "души" от "скверны" и болезненных аффек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11 из 428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76520"/>
            <a:ext cx="59436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красное не остановит Зл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981080"/>
            <a:ext cx="5077080" cy="3171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981080"/>
            <a:ext cx="2724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деальное произведение, чтобы для него выбрал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зание зла, торжество до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м в изображении земной действительности с ее пороками, ужасами и несправедлив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ображение уродства, насилия, жесто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ота, соразмерность, гармония лиц, пейзажей, архитектуры и т.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ые философские вопросы мироздания, вселенной,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игиозные, вечные вопро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лекательный сю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астливый фи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тому и служат искусства, чтобы дать возможность познания добра и зла. Альбрехт Дюрер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Картинка 7 из 13380"/>
          <p:cNvPicPr/>
          <p:nvPr/>
        </p:nvPicPr>
        <p:blipFill>
          <a:blip r:embed="rId1"/>
          <a:stretch/>
        </p:blipFill>
        <p:spPr>
          <a:xfrm>
            <a:off x="990720" y="2514600"/>
            <a:ext cx="288612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артинка 2 из 299"/>
          <p:cNvPicPr/>
          <p:nvPr/>
        </p:nvPicPr>
        <p:blipFill>
          <a:blip r:embed="rId2"/>
          <a:stretch/>
        </p:blipFill>
        <p:spPr>
          <a:xfrm>
            <a:off x="4572000" y="2438280"/>
            <a:ext cx="2962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11:44Z</dcterms:created>
  <dc:creator>Таня</dc:creator>
  <dc:description/>
  <dc:language>en-US</dc:language>
  <cp:lastModifiedBy>Customer</cp:lastModifiedBy>
  <dcterms:modified xsi:type="dcterms:W3CDTF">2011-03-15T18:45:4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