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8.wmf" ContentType="image/x-wmf"/>
  <Override PartName="/ppt/media/image9.jpeg" ContentType="image/jpeg"/>
  <Override PartName="/ppt/media/image11.gif" ContentType="image/gif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FF2-81AE-488E-974C-9F155C52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4DB-28A4-486C-9E36-878075F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570-1CEB-4CB9-8C6D-A1159D8D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563-FBCA-4B67-8C48-432D67F1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241-BC32-46D3-A5F7-7D4B2FCF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1B2-7B8A-47F6-9DB8-7D4A399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BCE-7CEB-4D1A-A582-3FEF8A7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FDA9-20F8-4AB8-9A4E-6BD5718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C223-FC24-4BBC-B603-5A6EF4B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5D0D-EDC0-428D-A038-34EBCCC7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58FB-8C06-4B6D-AA85-8202D87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373-25AF-4A11-A6CE-94F6570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E08-64F3-41BF-9AC4-4856B9D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DB8-6A92-43D0-85DA-AE06B73D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7EF-E7E1-4E54-B7FC-B171F41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FF4-C53B-4666-9FBD-8BC88300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AE6F-82B5-4467-BAFD-97179A9F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8A9-CCF1-4B0B-9BCA-CE7ACC7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AA5-86D1-482D-B8FC-A8790EB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C60-EE9D-4129-B50C-23FD216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423-3F5E-4DFA-B15A-E01ACF0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016-A205-4A99-8401-20A6792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B4F-FE07-4BB4-B61B-F6B7096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D54-0C29-494F-9B56-BE89995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C77-8C96-4F2D-A99D-A0420A02AC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7104-9E19-4323-8FF1-C993B0DF9C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" Target="slide2.xml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змерение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нова техники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(практическое занятие)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атонина И.В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АОУ СОШ №104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. Челябинск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068640"/>
            <a:ext cx="2523960" cy="3238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Computer"/>
          <p:cNvPicPr/>
          <p:nvPr/>
        </p:nvPicPr>
        <p:blipFill>
          <a:blip r:embed="rId3"/>
          <a:stretch/>
        </p:blipFill>
        <p:spPr>
          <a:xfrm>
            <a:off x="6588000" y="0"/>
            <a:ext cx="2159280" cy="16444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исок литерату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омов С.В. Физика: Учебник для 7 класса общеобразовательных учреждений. - М.: Просвещение, 2002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ышкин А.В. Физика. 7 класс. - М.: Дрофа, 200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янский С.Е. Поурочные разработки по физике. М.: Просвещение, 200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ы - молодец!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частливого пути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Движение"/>
          <p:cNvPicPr/>
          <p:nvPr/>
        </p:nvPicPr>
        <p:blipFill>
          <a:blip r:embed="rId1"/>
          <a:stretch/>
        </p:blipFill>
        <p:spPr>
          <a:xfrm>
            <a:off x="971640" y="3284640"/>
            <a:ext cx="7704000" cy="22334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сказка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Для того, чтобы найти площадь прямоугольника, нужно его длину умножить на ширин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сказка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забудь уравновесить весы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асса физического тела равна сумме масс всех гирек, лежащих на противоположной чашке  вес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предели массу физического тела в грамма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омни,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1г = 1000 мг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2565360"/>
          <a:ext cx="26766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65360"/>
                    <a:ext cx="26766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500720" y="2421000"/>
            <a:ext cx="423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етоды получения зна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Измерение длины, вычисление площад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Измерение време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Измерение массы те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Измерение темпера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Задачи на смекал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Computer"/>
          <p:cNvPicPr/>
          <p:nvPr/>
        </p:nvPicPr>
        <p:blipFill>
          <a:blip r:embed="rId8"/>
          <a:stretch/>
        </p:blipFill>
        <p:spPr>
          <a:xfrm>
            <a:off x="6588000" y="189000"/>
            <a:ext cx="2159280" cy="164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тоды получения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кспериментальн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опы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изме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оретиче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гипотез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иде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моделир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3025800" cy="2135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3024000" cy="2111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Computer"/>
          <p:cNvPicPr/>
          <p:nvPr/>
        </p:nvPicPr>
        <p:blipFill>
          <a:blip r:embed="rId3"/>
          <a:stretch/>
        </p:blipFill>
        <p:spPr>
          <a:xfrm>
            <a:off x="7093080" y="0"/>
            <a:ext cx="1800000" cy="132876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мерение дли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16000" y="2420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рупповая работ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1-й группе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йти площадь           стол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2-й группе: найти площадь оконного стекл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3-й группе: найти площадь пола в класс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4-й группе: найти площадь двер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69880" y="2781360"/>
            <a:ext cx="281484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мерение време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полнить хронометраж работы сердца (подсчитать число ударов сердца в минуту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8920" y="2997360"/>
            <a:ext cx="235584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мерение массы т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448000" cy="1816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ить экспериментально массу предложенных те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76360" y="4365720"/>
          <a:ext cx="2590920" cy="1822320"/>
        </p:xfrm>
        <a:graphic>
          <a:graphicData uri="http://schemas.openxmlformats.org/drawingml/2006/table">
            <a:tbl>
              <a:tblPr/>
              <a:tblGrid>
                <a:gridCol w="812880"/>
                <a:gridCol w="842760"/>
                <a:gridCol w="935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сса предм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уч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блок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ф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465200" cy="19004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мерение температу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олнить зад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Определить температуру те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Определить температуру воздуха в классной комнат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Определить температуру холодной и горячей в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2953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на смекал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761000" y="2204640"/>
            <a:ext cx="3843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жно ли по фотографии определить размеры башн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2087640" cy="33130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Пизанская башня"/>
          <p:cNvPicPr/>
          <p:nvPr/>
        </p:nvPicPr>
        <p:blipFill>
          <a:blip r:embed="rId3"/>
          <a:stretch/>
        </p:blipFill>
        <p:spPr>
          <a:xfrm>
            <a:off x="2347920" y="2565360"/>
            <a:ext cx="2514600" cy="39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на смекал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 Имеется 8 совершенно одинаковых по размеру и виду шаров. Однако в одном из них сделана небольшая полость. Как, пользуясь только весами, определить, какой шар с полостью? Весы можно использовать не более двух р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456000" cy="33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3:14:03Z</dcterms:created>
  <dc:creator>User</dc:creator>
  <dc:description/>
  <dc:language>en-US</dc:language>
  <cp:lastModifiedBy>Ольга Петрова</cp:lastModifiedBy>
  <dcterms:modified xsi:type="dcterms:W3CDTF">2012-02-19T02:44:42Z</dcterms:modified>
  <cp:revision>18</cp:revision>
  <dc:subject/>
  <dc:title>Измерение-основа техники</dc:title>
</cp:coreProperties>
</file>