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03D-BCE4-4917-AD18-1FE92B5A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532-3796-43E5-8C45-F266C870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13D-2907-4CDE-9703-7DBDB27B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4F6-7B66-4837-AE90-36A03E6D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FCB-17D8-46CF-B172-477E1AA0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912-3567-4622-9C41-AF648EF9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4A5-CBFB-4AD2-BEF0-0A09B7CD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B7B-5787-4B8B-9E7A-DED5BEB9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5C5-A1DB-401C-83A3-7DE58F46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030-FE0A-4B51-BC18-03CB7E8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4C2-9EBD-4279-A887-BF39ABB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4C8-6DBA-409D-857C-5A5D382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DDE4-C676-47DD-93DE-4D8CDC394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мос- что это так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44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2T20:03:12Z</dcterms:modified>
  <cp:revision>14</cp:revision>
  <dc:subject/>
  <dc:title>Презентация PowerPoint</dc:title>
</cp:coreProperties>
</file>