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type.wav" ContentType="audio/x-wav"/>
  <Override PartName="/ppt/media/image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6.png" ContentType="image/png"/>
  <Override PartName="/ppt/media/image4.wmf" ContentType="image/x-wmf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80C-7355-43B9-8343-40B3A2CA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F10-0216-4EB3-839A-23F9B7A2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C78-058A-4E79-A001-EB1E7F51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B64-B682-433D-908E-E59A985B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2D9-BEFB-4E8A-86C2-5F904FB1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DA0-6D07-419D-A863-07A763E4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BF2-5EB4-4013-B311-CDEF81C3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997-E794-4F87-8EFD-E7A792D3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627-8BDE-41BD-8B5A-07E2CF6E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E63-7041-40D6-9B3F-A540DB2B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9A0-891A-4514-BB05-88502B6D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E83-6107-4551-ADA7-76A2BC91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8357-36BE-416D-9DFD-970B349C2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2.gif"/><Relationship Id="rId12" Type="http://schemas.openxmlformats.org/officeDocument/2006/relationships/slide" Target="slide19.xml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858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"Никакой организм не может существовать без кремния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.И. Вернад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1219320"/>
            <a:ext cx="57913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ремн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 rot="21319200">
            <a:off x="5029200" y="4114800"/>
            <a:ext cx="3060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ilici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819520"/>
            <a:ext cx="2666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елая г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972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95480" y="5181480"/>
            <a:ext cx="28195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левой шп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2133720"/>
            <a:ext cx="3403800" cy="3011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915160" y="3352680"/>
            <a:ext cx="3228840" cy="2762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5880" y="5989680"/>
            <a:ext cx="26672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лю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ительная часть природного кремния представлена оксидом крем-ни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Свободного оксида кремния в земной коре около 12%, в виде горных пород – 43%. Оксид кремния, окрашен-ный различными примесями, образует драгоценные и полудрагоценные камни, например, аквамарин, изумруд, топаз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276720"/>
            <a:ext cx="312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зум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2955960" cy="3200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200400" y="1219320"/>
            <a:ext cx="261936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43200" y="502920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оп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867280" y="2895480"/>
            <a:ext cx="3276720" cy="3124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19920" y="57913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квам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История откр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истом виде кремний был выделен в 1811 году французскими учеными Жозефом Луи Гей-Люссаком и Луи Жаком Тенаром. Название у него латинского происхождения («silex» - кремень). В 1834 году русский химик Герман Иванович Гесс ввел другое наименование - крем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7696080" y="594360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имическая формул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тносительная молекулярная масса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74680"/>
            <a:ext cx="8001000" cy="868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Tahoma"/>
              </a:rPr>
              <a:t>Кремний - простое вещест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Tahoma"/>
              <a:ea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62520" y="2133720"/>
            <a:ext cx="156204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i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743200" y="5105520"/>
            <a:ext cx="3962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28,086 г/мол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20414"/>
                </a:solidFill>
                <a:latin typeface="Times New Roman"/>
              </a:rPr>
              <a:t>Аллотропные модиф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990720"/>
          <a:ext cx="6782040" cy="5073480"/>
        </p:xfrm>
        <a:graphic>
          <a:graphicData uri="http://schemas.openxmlformats.org/drawingml/2006/table">
            <a:tbl>
              <a:tblPr/>
              <a:tblGrid>
                <a:gridCol w="3391200"/>
                <a:gridCol w="339084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фный крем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сталл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мн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ставляет собой бурый порошок с температурой плавления 1420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ёрдое вещество тёмно-серого цвета со слабым метал-лическим блеском, обладает тепло- и электропроводностью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34286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ремний кристалл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3886200" cy="243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4114800" cy="3292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95680" y="556272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ремний аморф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0414"/>
              </a:buClr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ип химической связ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ковалентная неполяр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ип структуры кристаллической решёт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атом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труктура кристаллической решё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7467480" y="58672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1350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057400" y="1447920"/>
            <a:ext cx="453384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i="1" lang="ru-RU" sz="8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br>
              <a:rPr sz="4000"/>
            </a:br>
            <a:r>
              <a:rPr b="1" i="1" lang="ru-RU" sz="8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i="1" lang="ru-RU" sz="8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88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неМ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Химические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477120" y="266688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380988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0932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3657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5400000">
            <a:off x="-2341080" y="2851920"/>
            <a:ext cx="626436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КРЕМНИЙ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9080" y="692280"/>
            <a:ext cx="7775640" cy="77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295280"/>
            <a:ext cx="3529080" cy="21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- это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химический элемент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962520"/>
            <a:ext cx="3456000" cy="21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- это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ростое вещество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547640" y="3967200"/>
            <a:ext cx="2306880" cy="169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5638680" y="1371600"/>
            <a:ext cx="3313080" cy="2062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1143000" y="6400800"/>
            <a:ext cx="7775640" cy="7776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7696080" y="60958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20775" y="10800"/>
                </a:moveTo>
                <a:lnTo>
                  <a:pt x="10269" y="17806"/>
                </a:lnTo>
                <a:lnTo>
                  <a:pt x="10269" y="3794"/>
                </a:lnTo>
                <a:close/>
              </a:path>
              <a:path fill="darken" w="34552" h="21600">
                <a:moveTo>
                  <a:pt x="22620" y="3794"/>
                </a:moveTo>
                <a:lnTo>
                  <a:pt x="22620" y="17806"/>
                </a:lnTo>
                <a:lnTo>
                  <a:pt x="24282" y="17806"/>
                </a:lnTo>
                <a:lnTo>
                  <a:pt x="24282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9999"/>
                </a:solidFill>
                <a:uFillTx/>
                <a:latin typeface="Tahoma"/>
              </a:rPr>
              <a:t>Проявляет</a:t>
            </a:r>
            <a:r>
              <a:rPr b="0" i="1" lang="ru-RU" sz="32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9999"/>
                </a:solidFill>
                <a:uFillTx/>
                <a:latin typeface="Tahoma"/>
              </a:rPr>
              <a:t>восстановительные</a:t>
            </a:r>
            <a:r>
              <a:rPr b="0" i="1" lang="ru-RU" sz="32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9999"/>
                </a:solidFill>
                <a:uFillTx/>
                <a:latin typeface="Tahoma"/>
              </a:rPr>
              <a:t>св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агирует с простыми веществами – неметал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 галоген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 +2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Si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 + 2Cl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SiCl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 + 2B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SiB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 кислородом (пр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 + 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3200" spc="-1" strike="noStrike">
                <a:solidFill>
                  <a:srgbClr val="009999"/>
                </a:solidFill>
                <a:latin typeface="Tahoma"/>
              </a:rPr>
              <a:t>взаимодействует со сложными веществами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ислот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+12HF+4HN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3Si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4NO  +8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щелоч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+2NaOH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 = N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2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9999"/>
                </a:solidFill>
                <a:uFillTx/>
                <a:latin typeface="Tahoma"/>
              </a:rPr>
              <a:t>Проявляет</a:t>
            </a:r>
            <a:r>
              <a:rPr b="0" i="1" lang="ru-RU" sz="2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0" i="1" lang="ru-RU" sz="2800" spc="-1" strike="noStrike" u="sng">
                <a:solidFill>
                  <a:srgbClr val="009999"/>
                </a:solidFill>
                <a:uFillTx/>
                <a:latin typeface="Tahoma"/>
              </a:rPr>
              <a:t>окислительные</a:t>
            </a:r>
            <a:r>
              <a:rPr b="0" i="1" lang="ru-RU" sz="2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0" i="1" lang="ru-RU" sz="2800" spc="-1" strike="noStrike" u="sng">
                <a:solidFill>
                  <a:srgbClr val="009999"/>
                </a:solidFill>
                <a:uFillTx/>
                <a:latin typeface="Tahoma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 металл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+2Mg = M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7816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467480" y="3580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76520" y="457200"/>
            <a:ext cx="1357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S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724280" y="3886200"/>
            <a:ext cx="3086280" cy="2281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838080" y="3581280"/>
            <a:ext cx="3048120" cy="245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5410080" y="304920"/>
            <a:ext cx="3124440" cy="2342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14400" y="601992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лектро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281952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изводство жаропрочных ста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6019920"/>
            <a:ext cx="304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лнечные батар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981080"/>
            <a:ext cx="22860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819520" y="152388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362320" y="19810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олучени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Tahoma"/>
              </a:rPr>
              <a:t>-</a:t>
            </a:r>
            <a:r>
              <a:rPr b="0" i="1" lang="ru-RU" sz="3200" spc="-1" strike="noStrike">
                <a:solidFill>
                  <a:srgbClr val="009999"/>
                </a:solidFill>
                <a:latin typeface="Times New Roman"/>
              </a:rPr>
              <a:t>в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лектрических печах при высокой температуре происходит восстановление кремния из его оксида коксом (углём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2C = Si+2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-</a:t>
            </a:r>
            <a:r>
              <a:rPr b="0" i="1" lang="ru-RU" sz="3200" spc="-1" strike="noStrike">
                <a:solidFill>
                  <a:srgbClr val="009999"/>
                </a:solidFill>
                <a:latin typeface="Times New Roman"/>
              </a:rPr>
              <a:t>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восстановителей используют магний или алюми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2Mg = Si+2M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4Al = 3Si+2Al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 rot="420600">
            <a:off x="838080" y="1752120"/>
            <a:ext cx="57340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ксид кремния (IV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имическая форму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9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лекулярная масс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6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Физические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вёрдое тугоплавкое вещество. Не растворимое в воде, из всех кислот только плавиковая кислота постепенно разлагает ег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им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еагирует с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20414"/>
                </a:solidFill>
                <a:latin typeface="Tahoma"/>
              </a:rPr>
              <a:t>-</a:t>
            </a:r>
            <a:r>
              <a:rPr b="0" i="1" lang="ru-RU" sz="3200" spc="-1" strike="noStrike">
                <a:solidFill>
                  <a:srgbClr val="e20414"/>
                </a:solidFill>
                <a:latin typeface="Times New Roman"/>
              </a:rPr>
              <a:t>основными окси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N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 = N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0414"/>
                </a:solidFill>
                <a:latin typeface="Times New Roman"/>
              </a:rPr>
              <a:t>-</a:t>
            </a:r>
            <a:r>
              <a:rPr b="0" i="1" lang="ru-RU" sz="3200" spc="-1" strike="noStrike">
                <a:solidFill>
                  <a:srgbClr val="e20414"/>
                </a:solidFill>
                <a:latin typeface="Times New Roman"/>
              </a:rPr>
              <a:t>щелоч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NaOH = N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20414"/>
                </a:solidFill>
                <a:latin typeface="Times New Roman"/>
              </a:rPr>
              <a:t>-солям «летучих»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CaC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Ca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+ C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20414"/>
                </a:solidFill>
                <a:latin typeface="Times New Roman"/>
              </a:rPr>
              <a:t>-</a:t>
            </a:r>
            <a:r>
              <a:rPr b="0" i="1" lang="ru-RU" sz="3200" spc="-1" strike="noStrike">
                <a:solidFill>
                  <a:srgbClr val="e20414"/>
                </a:solidFill>
                <a:latin typeface="Times New Roman"/>
              </a:rPr>
              <a:t>плавиковой кис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4HF= Si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2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1629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риме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2557440" cy="2287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2568600" cy="2347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2895480" cy="2476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943600" y="685800"/>
            <a:ext cx="2857680" cy="2649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2667240" cy="2514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2743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оизводство ст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5105520"/>
            <a:ext cx="3047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ерамические изде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352680"/>
            <a:ext cx="304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дсорб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32448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золя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6172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п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 rot="642600">
            <a:off x="1143000" y="609480"/>
            <a:ext cx="6705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ремниевая кисло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3313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рядковый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им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оме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нос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томная м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3218040" cy="3286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19810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028840" y="1981080"/>
            <a:ext cx="24382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71800" y="5334120"/>
            <a:ext cx="2438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имическая форму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9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9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лекулярная мас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=7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Химически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ень слабая кислота, при нагревании разлага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 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л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лучают в виде студенистого осадка, действуя какой-либо другой кислотой на её сол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2HCl = 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2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ериодической системе Д.И.Менделее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мний находится в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группе, главной подгруппы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ери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ироде элемент представлен тремя стабильными изотопами: 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8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Si; 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9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3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S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протонов, электронов, нейтронов-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4р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14ē, 14n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228600"/>
            <a:ext cx="5825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ектронная конфигурац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3s</a:t>
            </a:r>
            <a:r>
              <a:rPr b="1" i="1" lang="en-US" sz="4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3p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ектронно-графическая форму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3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ейство: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р-эле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44197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36576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36576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6576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3276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9092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5053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0" idx="2"/>
            <a:endCxn id="63" idx="2"/>
          </p:cNvCxnSpPr>
          <p:nvPr/>
        </p:nvCxnSpPr>
        <p:spPr>
          <a:xfrm flipH="1" flipV="1" rot="5400000">
            <a:off x="3504960" y="3657240"/>
            <a:ext cx="762480" cy="2286720"/>
          </a:xfrm>
          <a:prstGeom prst="bentConnector3">
            <a:avLst>
              <a:gd name="adj1" fmla="val -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ема распределения электронов в ато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i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8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пени окисления: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4;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Si        Si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 элемен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еметал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16765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9296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20414"/>
                </a:solidFill>
                <a:latin typeface="Times New Roman"/>
              </a:rPr>
              <a:t>Важнейшие соединени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сший оксид –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оксид кремния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сший гидроксид 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емниев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исл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тучее соединение 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iH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илан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20414"/>
                </a:solidFill>
                <a:latin typeface="Times New Roman"/>
              </a:rPr>
              <a:t>Нахождение в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рем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ин из распространенных в земле элементов (более 25% массы). Главная часть земной коры состоит из силикатных пород, представляющих собой соединения кремния с кислородом и рядом других элементов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единения, в состав которых входит оксид алюминия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юмо-силикатам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аковы: белая глина, полевой шпат, слю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30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ня</cp:lastModifiedBy>
  <dcterms:modified xsi:type="dcterms:W3CDTF">2007-11-19T16:22:20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